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9142560" cy="0"/>
          </a:xfrm>
          <a:prstGeom prst="line">
            <a:avLst/>
          </a:prstGeom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802480" y="152280"/>
            <a:ext cx="3111480" cy="8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29528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ranet Challenges</a:t>
            </a:r>
            <a:br>
              <a:rPr sz="4400"/>
            </a:br>
            <a:br>
              <a:rPr sz="18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ill Chesw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380988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l Labs, 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s@bell-lab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tp://www.cheswick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tial solutio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tch your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m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now and watch your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ps, alarms, and honeyp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 up minor in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errors are administrative, not 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0.75 discrepancy can lead to a s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efully watch and control the routing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Watch your intranet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 and watch the internal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ist on reverse DNS entries for all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stigate those without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ch for internal routes announced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 up on mergers and divest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ult with ISPs: they have the sam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ttacks can spread easily within a trust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50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Weakest Link compromises many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cc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ulnerabilities are common in network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cc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break-in com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host’s net (via sni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usting 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cc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-vital” targets may be v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angerous “Unix”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cure” 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login/rsh/r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X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(web serv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angerous “PC”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le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inter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T security i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cro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il app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C vulnerabilities are less well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Partial solutions: safer services and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L w. strong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sh: secure 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erminal access and file cop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get, c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l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tage, un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rectory mirr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You can only protect the hosts that you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You can’t control many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reside at the departmen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 owners probably know the value of thei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them responsible for the security of thei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diting and tiger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ining and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e time to make it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-to-market race can kill securit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752560" y="112680"/>
            <a:ext cx="349092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Firewal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Corporate Edicts Create a “Monocultu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ocultures are subject to common failure modes: wheat rust, root stock, elm trees, Wor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ail these days contains Word documents and macros, spreadsheets, and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decisions are made on purpose, but the guys in Redmond don’t always have the right tool for the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y BIG web offering with 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External services are exposed to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be attacked repeatedly and anonym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have to be very determined or lucky to catch the bad gu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romised external services a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RY EMBARRAS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r external customers need good outsid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Denial-of-service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your face - not subtle like traditional hacking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ndom packets are very hard to 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n go on for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ackers exploit poor local software o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ply flood the site’s network with incoming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These attacks are </a:t>
            </a: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always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 possible on a publ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A reasonably secure read-only web page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is </a:t>
            </a: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server (it runs nothing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, contained web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root, for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link to the ser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sh probably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e provisioning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2860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n’t let your guard down just because it is on a “safe”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NS and routing attacks can still divert customers else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2286000"/>
            <a:ext cx="7772400" cy="13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want to give your customers access</a:t>
            </a: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to database that is currently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base access by the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h of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al change in data access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ware of cheap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es the database come outside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the outsiders come into th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 you authenticate som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 client secure enough to use th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force domestic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up controls for abuse: use lo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Hardware tokens are one solution to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65400" cy="3622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95400" y="5257800"/>
            <a:ext cx="386712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cur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ime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/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oftware or printout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an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sually proprietary serv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Good network security people are har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Parti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in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’t forget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y them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Firewalls: Not a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doors usually diminish the effectiveness of a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rewall is often the only secure piece of an Internet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ercial firewalls are probably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6520" y="19810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go arou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ople go through the bad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protection from ins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give community a false sense of 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c000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There is more to Internet security than installing a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“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Social Engineering” works an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03360" y="1987560"/>
            <a:ext cx="518148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ci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s friendly people and chutzp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have to train people to be suspi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mployees Can Introduce Dangerou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6b61"/>
                </a:solidFill>
                <a:latin typeface="Arial"/>
                <a:ea typeface="Arial"/>
              </a:rPr>
              <a:t>Social Engineering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6920" y="3510000"/>
            <a:ext cx="5421240" cy="7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801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4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other problem with strang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ruses, et.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rewalls are not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viruses arrive on disk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loyee education hel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rus checkers are a great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y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http://www.cheswick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@bell-lab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irewalls and Internet Security: Repelling the Wily H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heswick and Bell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SBN 0-201-63357-4, Addison Wesley, 1994. Also in German, Japanese, and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Yes, I’d love to sign your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stions/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nything large enough to be called</a:t>
            </a:r>
            <a:br>
              <a:rPr sz="3200"/>
            </a:b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an “intranet” is probably out of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don’t know to whom you are conn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ms are cheap and easy to hook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’s “fax”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me commuting networks may link to spouse’s company, or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 routing work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ote managers can make extranet connections that aren’t author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connections can be very hard to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lnSpc>
                <a:spcPct val="100000"/>
              </a:lnSpc>
              <a:spcBef>
                <a:spcPts val="479"/>
              </a:spcBef>
              <a:buClr>
                <a:srgbClr val="d60122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the security threat is still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9900"/>
                </a:solidFill>
                <a:latin typeface="Arial"/>
                <a:ea typeface="Arial"/>
              </a:rPr>
              <a:t>You don’t know how many host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control is at the network level, not the host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 server entries are op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body keeps the reverse name service information up-to-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pping takes work, and doesn’t catch hosts that are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network links are ephem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ucent/AT&amp;T at the split (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8240" y="3325680"/>
            <a:ext cx="4430880" cy="10904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424240" y="4424400"/>
            <a:ext cx="768240" cy="789120"/>
            <a:chOff x="2424240" y="4424400"/>
            <a:chExt cx="768240" cy="789120"/>
          </a:xfrm>
        </p:grpSpPr>
        <p:grpSp>
          <p:nvGrpSpPr>
            <p:cNvPr id="57" name=""/>
            <p:cNvGrpSpPr/>
            <p:nvPr/>
          </p:nvGrpSpPr>
          <p:grpSpPr>
            <a:xfrm>
              <a:off x="2424240" y="4660920"/>
              <a:ext cx="768240" cy="318960"/>
              <a:chOff x="2424240" y="4660920"/>
              <a:chExt cx="768240" cy="318960"/>
            </a:xfrm>
          </p:grpSpPr>
          <p:sp>
            <p:nvSpPr>
              <p:cNvPr id="58" name=""/>
              <p:cNvSpPr/>
              <p:nvPr/>
            </p:nvSpPr>
            <p:spPr>
              <a:xfrm>
                <a:off x="2508120" y="4660920"/>
                <a:ext cx="56700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9084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280836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2424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80836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2564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860640" y="4400640"/>
            <a:ext cx="770040" cy="831600"/>
            <a:chOff x="3860640" y="4400640"/>
            <a:chExt cx="770040" cy="831600"/>
          </a:xfrm>
        </p:grpSpPr>
        <p:grpSp>
          <p:nvGrpSpPr>
            <p:cNvPr id="65" name=""/>
            <p:cNvGrpSpPr/>
            <p:nvPr/>
          </p:nvGrpSpPr>
          <p:grpSpPr>
            <a:xfrm>
              <a:off x="3860640" y="4648320"/>
              <a:ext cx="770040" cy="336600"/>
              <a:chOff x="3860640" y="4648320"/>
              <a:chExt cx="770040" cy="336600"/>
            </a:xfrm>
          </p:grpSpPr>
          <p:sp>
            <p:nvSpPr>
              <p:cNvPr id="66" name=""/>
              <p:cNvSpPr/>
              <p:nvPr/>
            </p:nvSpPr>
            <p:spPr>
              <a:xfrm>
                <a:off x="3944880" y="4648320"/>
                <a:ext cx="5684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2904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246560" y="4648320"/>
                <a:ext cx="317520" cy="29844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60640" y="498492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246560" y="440064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62400" y="5033880"/>
              <a:ext cx="0" cy="1983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416560" y="4424400"/>
            <a:ext cx="768240" cy="789120"/>
            <a:chOff x="5416560" y="4424400"/>
            <a:chExt cx="768240" cy="789120"/>
          </a:xfrm>
        </p:grpSpPr>
        <p:grpSp>
          <p:nvGrpSpPr>
            <p:cNvPr id="73" name=""/>
            <p:cNvGrpSpPr/>
            <p:nvPr/>
          </p:nvGrpSpPr>
          <p:grpSpPr>
            <a:xfrm>
              <a:off x="5416560" y="4660920"/>
              <a:ext cx="768240" cy="318960"/>
              <a:chOff x="5416560" y="4660920"/>
              <a:chExt cx="768240" cy="318960"/>
            </a:xfrm>
          </p:grpSpPr>
          <p:sp>
            <p:nvSpPr>
              <p:cNvPr id="74" name=""/>
              <p:cNvSpPr/>
              <p:nvPr/>
            </p:nvSpPr>
            <p:spPr>
              <a:xfrm>
                <a:off x="5499000" y="46609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481720" y="4660920"/>
                <a:ext cx="31752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5799240" y="4660920"/>
                <a:ext cx="320400" cy="2808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416560" y="497988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5799240" y="4424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16520" y="5025960"/>
              <a:ext cx="0" cy="18756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411360" y="5243400"/>
            <a:ext cx="1771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98920" y="2798640"/>
            <a:ext cx="768600" cy="320760"/>
            <a:chOff x="5398920" y="2798640"/>
            <a:chExt cx="768600" cy="320760"/>
          </a:xfrm>
        </p:grpSpPr>
        <p:sp>
          <p:nvSpPr>
            <p:cNvPr id="84" name=""/>
            <p:cNvSpPr/>
            <p:nvPr/>
          </p:nvSpPr>
          <p:spPr>
            <a:xfrm flipH="1">
              <a:off x="5516640" y="3119400"/>
              <a:ext cx="56808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578484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467320" y="2836800"/>
              <a:ext cx="317520" cy="28260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398920" y="2798640"/>
              <a:ext cx="768600" cy="0"/>
            </a:xfrm>
            <a:prstGeom prst="line">
              <a:avLst/>
            </a:prstGeom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 flipV="1">
            <a:off x="5816520" y="3165480"/>
            <a:ext cx="0" cy="18900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799240" y="2563920"/>
            <a:ext cx="0" cy="18864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62520" y="2544840"/>
            <a:ext cx="768240" cy="790560"/>
            <a:chOff x="3962520" y="2544840"/>
            <a:chExt cx="768240" cy="790560"/>
          </a:xfrm>
        </p:grpSpPr>
        <p:grpSp>
          <p:nvGrpSpPr>
            <p:cNvPr id="91" name=""/>
            <p:cNvGrpSpPr/>
            <p:nvPr/>
          </p:nvGrpSpPr>
          <p:grpSpPr>
            <a:xfrm>
              <a:off x="3962520" y="2781360"/>
              <a:ext cx="768240" cy="318960"/>
              <a:chOff x="3962520" y="2781360"/>
              <a:chExt cx="768240" cy="318960"/>
            </a:xfrm>
          </p:grpSpPr>
          <p:sp>
            <p:nvSpPr>
              <p:cNvPr id="92" name=""/>
              <p:cNvSpPr/>
              <p:nvPr/>
            </p:nvSpPr>
            <p:spPr>
              <a:xfrm flipH="1">
                <a:off x="40784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43448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40273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9625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V="1">
              <a:off x="43797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3624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06600" y="2563920"/>
            <a:ext cx="770040" cy="790560"/>
            <a:chOff x="2406600" y="2563920"/>
            <a:chExt cx="770040" cy="790560"/>
          </a:xfrm>
        </p:grpSpPr>
        <p:grpSp>
          <p:nvGrpSpPr>
            <p:cNvPr id="99" name=""/>
            <p:cNvGrpSpPr/>
            <p:nvPr/>
          </p:nvGrpSpPr>
          <p:grpSpPr>
            <a:xfrm>
              <a:off x="2406600" y="2798640"/>
              <a:ext cx="770040" cy="320760"/>
              <a:chOff x="2406600" y="2798640"/>
              <a:chExt cx="770040" cy="320760"/>
            </a:xfrm>
          </p:grpSpPr>
          <p:sp>
            <p:nvSpPr>
              <p:cNvPr id="100" name=""/>
              <p:cNvSpPr/>
              <p:nvPr/>
            </p:nvSpPr>
            <p:spPr>
              <a:xfrm flipH="1">
                <a:off x="25257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27925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24750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4066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 flipV="1">
              <a:off x="28256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8083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4732200" y="195408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400800" y="3579840"/>
            <a:ext cx="336600" cy="506520"/>
            <a:chOff x="6400800" y="3579840"/>
            <a:chExt cx="336600" cy="506520"/>
          </a:xfrm>
        </p:grpSpPr>
        <p:sp>
          <p:nvSpPr>
            <p:cNvPr id="110" name=""/>
            <p:cNvSpPr/>
            <p:nvPr/>
          </p:nvSpPr>
          <p:spPr>
            <a:xfrm flipH="1">
              <a:off x="6400800" y="357984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400800" y="36640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400800" y="37479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400800" y="383220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400800" y="391788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400800" y="400212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400800" y="4086360"/>
              <a:ext cx="336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9852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357800" y="3368520"/>
            <a:ext cx="1652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3371760"/>
            <a:ext cx="0" cy="971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4400" y="5805360"/>
            <a:ext cx="69278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&gt;6 fw, 300,000 hosts, 200 extra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Lucent now (sort o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38240" y="3325680"/>
            <a:ext cx="4386240" cy="12463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55720" y="2271600"/>
            <a:ext cx="25081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en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590920" y="2544840"/>
            <a:ext cx="768240" cy="790560"/>
            <a:chOff x="2590920" y="2544840"/>
            <a:chExt cx="768240" cy="790560"/>
          </a:xfrm>
        </p:grpSpPr>
        <p:grpSp>
          <p:nvGrpSpPr>
            <p:cNvPr id="126" name=""/>
            <p:cNvGrpSpPr/>
            <p:nvPr/>
          </p:nvGrpSpPr>
          <p:grpSpPr>
            <a:xfrm>
              <a:off x="2590920" y="2781360"/>
              <a:ext cx="768240" cy="318960"/>
              <a:chOff x="2590920" y="2781360"/>
              <a:chExt cx="768240" cy="31896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27068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29732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6557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5909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 flipV="1">
              <a:off x="30081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9908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720800" y="2563920"/>
            <a:ext cx="770040" cy="790560"/>
            <a:chOff x="1720800" y="2563920"/>
            <a:chExt cx="770040" cy="790560"/>
          </a:xfrm>
        </p:grpSpPr>
        <p:grpSp>
          <p:nvGrpSpPr>
            <p:cNvPr id="134" name=""/>
            <p:cNvGrpSpPr/>
            <p:nvPr/>
          </p:nvGrpSpPr>
          <p:grpSpPr>
            <a:xfrm>
              <a:off x="1720800" y="2798640"/>
              <a:ext cx="770040" cy="320760"/>
              <a:chOff x="1720800" y="2798640"/>
              <a:chExt cx="770040" cy="32076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1839960" y="3119400"/>
                <a:ext cx="5666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210672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1789200" y="283680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1720800" y="2798640"/>
                <a:ext cx="7700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flipV="1">
              <a:off x="2139840" y="316548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122560" y="2563920"/>
              <a:ext cx="0" cy="188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3817800" y="187812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39880" y="1847880"/>
            <a:ext cx="24400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368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324480" y="3579840"/>
            <a:ext cx="412920" cy="506520"/>
            <a:chOff x="6324480" y="3579840"/>
            <a:chExt cx="412920" cy="506520"/>
          </a:xfrm>
        </p:grpSpPr>
        <p:sp>
          <p:nvSpPr>
            <p:cNvPr id="145" name=""/>
            <p:cNvSpPr/>
            <p:nvPr/>
          </p:nvSpPr>
          <p:spPr>
            <a:xfrm flipH="1">
              <a:off x="6324480" y="357984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6324480" y="366408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324480" y="374796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324480" y="383220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24480" y="391788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324480" y="400212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6324480" y="4086360"/>
              <a:ext cx="4129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6324480" y="3363840"/>
            <a:ext cx="220968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05120" y="34448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Lucent - 100,000 people, 1000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505320" y="2544840"/>
            <a:ext cx="768240" cy="790560"/>
            <a:chOff x="3505320" y="2544840"/>
            <a:chExt cx="768240" cy="790560"/>
          </a:xfrm>
        </p:grpSpPr>
        <p:grpSp>
          <p:nvGrpSpPr>
            <p:cNvPr id="155" name=""/>
            <p:cNvGrpSpPr/>
            <p:nvPr/>
          </p:nvGrpSpPr>
          <p:grpSpPr>
            <a:xfrm>
              <a:off x="3505320" y="2781360"/>
              <a:ext cx="768240" cy="318960"/>
              <a:chOff x="3505320" y="2781360"/>
              <a:chExt cx="768240" cy="318960"/>
            </a:xfrm>
          </p:grpSpPr>
          <p:sp>
            <p:nvSpPr>
              <p:cNvPr id="156" name=""/>
              <p:cNvSpPr/>
              <p:nvPr/>
            </p:nvSpPr>
            <p:spPr>
              <a:xfrm flipH="1">
                <a:off x="36212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38876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35701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5053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V="1">
              <a:off x="39225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9052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19720" y="2544840"/>
            <a:ext cx="768240" cy="790560"/>
            <a:chOff x="4419720" y="2544840"/>
            <a:chExt cx="768240" cy="790560"/>
          </a:xfrm>
        </p:grpSpPr>
        <p:grpSp>
          <p:nvGrpSpPr>
            <p:cNvPr id="163" name=""/>
            <p:cNvGrpSpPr/>
            <p:nvPr/>
          </p:nvGrpSpPr>
          <p:grpSpPr>
            <a:xfrm>
              <a:off x="4419720" y="2781360"/>
              <a:ext cx="768240" cy="318960"/>
              <a:chOff x="4419720" y="2781360"/>
              <a:chExt cx="768240" cy="31896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45356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48020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44845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44197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flipV="1">
              <a:off x="48369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8196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34120" y="2544840"/>
            <a:ext cx="768240" cy="790560"/>
            <a:chOff x="5334120" y="2544840"/>
            <a:chExt cx="768240" cy="790560"/>
          </a:xfrm>
        </p:grpSpPr>
        <p:grpSp>
          <p:nvGrpSpPr>
            <p:cNvPr id="171" name=""/>
            <p:cNvGrpSpPr/>
            <p:nvPr/>
          </p:nvGrpSpPr>
          <p:grpSpPr>
            <a:xfrm>
              <a:off x="5334120" y="2781360"/>
              <a:ext cx="768240" cy="318960"/>
              <a:chOff x="5334120" y="2781360"/>
              <a:chExt cx="768240" cy="31896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5450040" y="3100320"/>
                <a:ext cx="56988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571644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5398920" y="2817720"/>
                <a:ext cx="317520" cy="282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334120" y="2781360"/>
                <a:ext cx="76824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 flipV="1">
              <a:off x="5751360" y="314640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734080" y="2544840"/>
              <a:ext cx="0" cy="18900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656240" y="1878120"/>
            <a:ext cx="212400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100"/>
              </a:lnSpc>
              <a:tabLst>
                <a:tab algn="l" pos="452520"/>
                <a:tab algn="l" pos="905040"/>
                <a:tab algn="l" pos="135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637000" y="1265400"/>
            <a:ext cx="2509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403880" y="5227560"/>
            <a:ext cx="4476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00 business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35200" y="4998960"/>
            <a:ext cx="30751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ousand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elecomm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90920" y="4572000"/>
            <a:ext cx="304560" cy="457200"/>
          </a:xfrm>
          <a:prstGeom prst="line">
            <a:avLst/>
          </a:prstGeom>
          <a:ln w="7632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4572000"/>
            <a:ext cx="1143000" cy="685800"/>
          </a:xfrm>
          <a:prstGeom prst="line">
            <a:avLst/>
          </a:prstGeom>
          <a:ln w="76320">
            <a:solidFill>
              <a:srgbClr val="ff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15920" y="50760"/>
            <a:ext cx="552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6633"/>
                </a:solidFill>
                <a:latin typeface="Arial"/>
                <a:ea typeface="Arial"/>
              </a:rPr>
              <a:t>Partial solutions: control extrane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uld have writte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uld allow only the specific service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ments should be checked and enforced by firewal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 auditing and recertification of the out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Cheswick</dc:creator>
  <dc:description>It's a jungle in there</dc:description>
  <dc:language>en-US</dc:language>
  <cp:lastModifiedBy>Bill Cheswick</cp:lastModifiedBy>
  <cp:revision>0</cp:revision>
  <dc:subject>Current problems and some partial solutions</dc:subject>
  <dc:title>Intranet Challenges</dc:title>
</cp:coreProperties>
</file>