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8D4-8844-4D8A-AFB5-F6D00309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3760" y="390096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CE1-2CEB-4F49-AC1B-DBCA8D81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065-2141-4270-B287-0A919724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408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404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376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408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404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FB3-DC33-4F69-8262-CE6D65D5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0E9-CCBB-43F4-A3AC-491412AF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C79-8BF5-416C-9D4A-09944151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2F2-A02D-4D2C-B8FC-200E6DE2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2C7-E0ED-413C-A414-11F3EFFD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4200" y="63000"/>
            <a:ext cx="850248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B43-2683-4039-AB8E-B73D7C08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CEB-15ED-41B3-A483-45FAA1F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262-9458-41E8-82C8-63A6C2E3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5CD-C9F9-484C-B2BA-9E37B887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12760" y="806400"/>
            <a:ext cx="5857920" cy="28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488280" y="533520"/>
            <a:ext cx="2369880" cy="644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33520" y="647712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0653-5320-4E65-A548-B13BB50210B8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73FE-1AE0-4406-8D8A-ADEF04FFD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 Attacks: The Gory Detail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ll Cheswic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 Labs, Lucent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s@bell-labs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cs.bell-labs.com/~che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8B6-3CF2-48EA-B700-CDD4CCC1102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52CE5-BE05-49D7-BCED-7E8B586561C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rdwar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iffable if on same 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attacks that fiddle at this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74" name=""/>
            <p:cNvSpPr/>
            <p:nvPr/>
          </p:nvSpPr>
          <p:spPr>
            <a:xfrm>
              <a:off x="46368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Ethernet, AT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C79-C7DA-40EF-B024-680697B7F1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461B6-A62F-486C-9C81-2C6E9E8D33F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E2C-6872-44B3-A783-253784F5AC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A3364-7F18-4DDD-B4E4-A288904C91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 hoc collection of TCP/IP inter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real central autho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entral knowledge of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be flows, but not y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er-packet billing, in most pl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equipment too busy to help law enfor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perimeters are impossible to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824-61D0-40FE-B14D-A0240153BE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1EAF1-151A-4D5C-A7C6-C015D95C91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ucent/AT&amp;T at the split (1996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6400" y="3363840"/>
            <a:ext cx="4354560" cy="101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427120" y="4427640"/>
            <a:ext cx="765360" cy="785880"/>
            <a:chOff x="2427120" y="4427640"/>
            <a:chExt cx="765360" cy="785880"/>
          </a:xfrm>
        </p:grpSpPr>
        <p:grpSp>
          <p:nvGrpSpPr>
            <p:cNvPr id="185" name=""/>
            <p:cNvGrpSpPr/>
            <p:nvPr/>
          </p:nvGrpSpPr>
          <p:grpSpPr>
            <a:xfrm>
              <a:off x="2427120" y="4660920"/>
              <a:ext cx="765360" cy="318960"/>
              <a:chOff x="2427120" y="4660920"/>
              <a:chExt cx="765360" cy="3189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11360" y="4660920"/>
                <a:ext cx="5637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94080" y="4664160"/>
                <a:ext cx="314280" cy="277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811240" y="4664160"/>
                <a:ext cx="314280" cy="277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27120" y="497988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808360" y="44276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25640" y="5029200"/>
              <a:ext cx="0" cy="18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63880" y="4403880"/>
            <a:ext cx="766800" cy="828360"/>
            <a:chOff x="3863880" y="4403880"/>
            <a:chExt cx="766800" cy="828360"/>
          </a:xfrm>
        </p:grpSpPr>
        <p:grpSp>
          <p:nvGrpSpPr>
            <p:cNvPr id="193" name=""/>
            <p:cNvGrpSpPr/>
            <p:nvPr/>
          </p:nvGrpSpPr>
          <p:grpSpPr>
            <a:xfrm>
              <a:off x="3863880" y="4648320"/>
              <a:ext cx="766800" cy="336600"/>
              <a:chOff x="3863880" y="4648320"/>
              <a:chExt cx="766800" cy="336600"/>
            </a:xfrm>
          </p:grpSpPr>
          <p:sp>
            <p:nvSpPr>
              <p:cNvPr id="194" name=""/>
              <p:cNvSpPr/>
              <p:nvPr/>
            </p:nvSpPr>
            <p:spPr>
              <a:xfrm>
                <a:off x="3948120" y="4648320"/>
                <a:ext cx="5652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32280" y="4651200"/>
                <a:ext cx="314280" cy="295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4249440" y="4651200"/>
                <a:ext cx="314280" cy="295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63880" y="4984920"/>
                <a:ext cx="7668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246560" y="4403880"/>
              <a:ext cx="0" cy="195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2400" y="5037120"/>
              <a:ext cx="0" cy="195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9800" y="4427640"/>
            <a:ext cx="765000" cy="785880"/>
            <a:chOff x="5419800" y="4427640"/>
            <a:chExt cx="765000" cy="785880"/>
          </a:xfrm>
        </p:grpSpPr>
        <p:grpSp>
          <p:nvGrpSpPr>
            <p:cNvPr id="201" name=""/>
            <p:cNvGrpSpPr/>
            <p:nvPr/>
          </p:nvGrpSpPr>
          <p:grpSpPr>
            <a:xfrm>
              <a:off x="5419800" y="4660920"/>
              <a:ext cx="765000" cy="318960"/>
              <a:chOff x="5419800" y="4660920"/>
              <a:chExt cx="765000" cy="318960"/>
            </a:xfrm>
          </p:grpSpPr>
          <p:sp>
            <p:nvSpPr>
              <p:cNvPr id="202" name=""/>
              <p:cNvSpPr/>
              <p:nvPr/>
            </p:nvSpPr>
            <p:spPr>
              <a:xfrm>
                <a:off x="5502240" y="4660920"/>
                <a:ext cx="56664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84960" y="4664160"/>
                <a:ext cx="314280" cy="277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802120" y="4664160"/>
                <a:ext cx="317160" cy="277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19800" y="4979880"/>
                <a:ext cx="765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799240" y="44276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16520" y="5029200"/>
              <a:ext cx="0" cy="18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589040" y="5243400"/>
            <a:ext cx="2508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11360" y="5243400"/>
            <a:ext cx="1771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33800" y="5243400"/>
            <a:ext cx="1905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402160" y="2798640"/>
            <a:ext cx="765360" cy="320760"/>
            <a:chOff x="5402160" y="2798640"/>
            <a:chExt cx="765360" cy="320760"/>
          </a:xfrm>
        </p:grpSpPr>
        <p:sp>
          <p:nvSpPr>
            <p:cNvPr id="212" name=""/>
            <p:cNvSpPr/>
            <p:nvPr/>
          </p:nvSpPr>
          <p:spPr>
            <a:xfrm flipH="1">
              <a:off x="5519520" y="3119400"/>
              <a:ext cx="56484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5786280" y="2838600"/>
              <a:ext cx="314640" cy="27936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468760" y="2838600"/>
              <a:ext cx="314640" cy="27936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402160" y="2798640"/>
              <a:ext cx="76536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V="1">
            <a:off x="5816520" y="3166920"/>
            <a:ext cx="0" cy="185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799240" y="2565360"/>
            <a:ext cx="0" cy="185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965400" y="2546280"/>
            <a:ext cx="765360" cy="787320"/>
            <a:chOff x="3965400" y="2546280"/>
            <a:chExt cx="765360" cy="787320"/>
          </a:xfrm>
        </p:grpSpPr>
        <p:grpSp>
          <p:nvGrpSpPr>
            <p:cNvPr id="219" name=""/>
            <p:cNvGrpSpPr/>
            <p:nvPr/>
          </p:nvGrpSpPr>
          <p:grpSpPr>
            <a:xfrm>
              <a:off x="3965400" y="2781360"/>
              <a:ext cx="765360" cy="318960"/>
              <a:chOff x="3965400" y="2781360"/>
              <a:chExt cx="765360" cy="31896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40809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43462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0291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39654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43797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3624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409840" y="2565360"/>
            <a:ext cx="766800" cy="787320"/>
            <a:chOff x="2409840" y="2565360"/>
            <a:chExt cx="766800" cy="787320"/>
          </a:xfrm>
        </p:grpSpPr>
        <p:grpSp>
          <p:nvGrpSpPr>
            <p:cNvPr id="227" name=""/>
            <p:cNvGrpSpPr/>
            <p:nvPr/>
          </p:nvGrpSpPr>
          <p:grpSpPr>
            <a:xfrm>
              <a:off x="2409840" y="2798640"/>
              <a:ext cx="766800" cy="320760"/>
              <a:chOff x="2409840" y="2798640"/>
              <a:chExt cx="766800" cy="32076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528640" y="3119400"/>
                <a:ext cx="5634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279360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247644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09840" y="2798640"/>
                <a:ext cx="7668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2825640" y="316692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808360" y="256536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732200" y="1954080"/>
            <a:ext cx="21243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11480" y="2152800"/>
            <a:ext cx="2440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226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404040" y="3579840"/>
            <a:ext cx="333360" cy="506520"/>
            <a:chOff x="6404040" y="3579840"/>
            <a:chExt cx="333360" cy="506520"/>
          </a:xfrm>
        </p:grpSpPr>
        <p:sp>
          <p:nvSpPr>
            <p:cNvPr id="238" name=""/>
            <p:cNvSpPr/>
            <p:nvPr/>
          </p:nvSpPr>
          <p:spPr>
            <a:xfrm flipH="1">
              <a:off x="6404040" y="357984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404040" y="366408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404040" y="374796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404040" y="383220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404040" y="391788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404040" y="400212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404040" y="408636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324480" y="3363840"/>
            <a:ext cx="22100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99240" y="3368520"/>
            <a:ext cx="165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58520" y="3368520"/>
            <a:ext cx="165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65560" y="3375000"/>
            <a:ext cx="0" cy="96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79720" y="5805360"/>
            <a:ext cx="6922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6 fw, 300,000 hosts, 200 extra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180-AB36-4339-8B97-A53148E5FC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FC471-58AC-4BF6-A8D3-3B7C6EE6C83C}" type="datetime3">
              <a:rPr lang="en-US"/>
              <a:t>July 31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ucent now (sort o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76400" y="3363840"/>
            <a:ext cx="4310280" cy="117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55720" y="2271600"/>
            <a:ext cx="25084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nt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593800" y="2546280"/>
            <a:ext cx="765360" cy="787320"/>
            <a:chOff x="2593800" y="2546280"/>
            <a:chExt cx="765360" cy="787320"/>
          </a:xfrm>
        </p:grpSpPr>
        <p:grpSp>
          <p:nvGrpSpPr>
            <p:cNvPr id="254" name=""/>
            <p:cNvGrpSpPr/>
            <p:nvPr/>
          </p:nvGrpSpPr>
          <p:grpSpPr>
            <a:xfrm>
              <a:off x="2593800" y="2781360"/>
              <a:ext cx="765360" cy="318960"/>
              <a:chOff x="2593800" y="2781360"/>
              <a:chExt cx="765360" cy="31896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27093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29746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6575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25938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V="1">
              <a:off x="30081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9908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724040" y="2565360"/>
            <a:ext cx="766800" cy="787320"/>
            <a:chOff x="1724040" y="2565360"/>
            <a:chExt cx="766800" cy="787320"/>
          </a:xfrm>
        </p:grpSpPr>
        <p:grpSp>
          <p:nvGrpSpPr>
            <p:cNvPr id="262" name=""/>
            <p:cNvGrpSpPr/>
            <p:nvPr/>
          </p:nvGrpSpPr>
          <p:grpSpPr>
            <a:xfrm>
              <a:off x="1724040" y="2798640"/>
              <a:ext cx="766800" cy="320760"/>
              <a:chOff x="1724040" y="2798640"/>
              <a:chExt cx="766800" cy="320760"/>
            </a:xfrm>
          </p:grpSpPr>
          <p:sp>
            <p:nvSpPr>
              <p:cNvPr id="263" name=""/>
              <p:cNvSpPr/>
              <p:nvPr/>
            </p:nvSpPr>
            <p:spPr>
              <a:xfrm flipH="1">
                <a:off x="1842840" y="3119400"/>
                <a:ext cx="5634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210780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79064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724040" y="2798640"/>
                <a:ext cx="7668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2139840" y="316692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122560" y="256536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817800" y="1878120"/>
            <a:ext cx="2124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39880" y="1847880"/>
            <a:ext cx="2440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368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327720" y="3579840"/>
            <a:ext cx="409680" cy="506520"/>
            <a:chOff x="6327720" y="3579840"/>
            <a:chExt cx="409680" cy="506520"/>
          </a:xfrm>
        </p:grpSpPr>
        <p:sp>
          <p:nvSpPr>
            <p:cNvPr id="273" name=""/>
            <p:cNvSpPr/>
            <p:nvPr/>
          </p:nvSpPr>
          <p:spPr>
            <a:xfrm flipH="1">
              <a:off x="6327720" y="357984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327720" y="366408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327720" y="374796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327720" y="383220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327720" y="391788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7720" y="400212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7720" y="408636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324480" y="3363840"/>
            <a:ext cx="22100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3444840"/>
            <a:ext cx="4419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cent - 130,000, 266K addrs, 3000 nets an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08200" y="2546280"/>
            <a:ext cx="765360" cy="787320"/>
            <a:chOff x="3508200" y="2546280"/>
            <a:chExt cx="765360" cy="787320"/>
          </a:xfrm>
        </p:grpSpPr>
        <p:grpSp>
          <p:nvGrpSpPr>
            <p:cNvPr id="283" name=""/>
            <p:cNvGrpSpPr/>
            <p:nvPr/>
          </p:nvGrpSpPr>
          <p:grpSpPr>
            <a:xfrm>
              <a:off x="3508200" y="2781360"/>
              <a:ext cx="765360" cy="318960"/>
              <a:chOff x="3508200" y="2781360"/>
              <a:chExt cx="765360" cy="318960"/>
            </a:xfrm>
          </p:grpSpPr>
          <p:sp>
            <p:nvSpPr>
              <p:cNvPr id="284" name=""/>
              <p:cNvSpPr/>
              <p:nvPr/>
            </p:nvSpPr>
            <p:spPr>
              <a:xfrm flipH="1">
                <a:off x="36237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38890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35719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5082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 flipV="1">
              <a:off x="39225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9052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422600" y="2546280"/>
            <a:ext cx="765360" cy="787320"/>
            <a:chOff x="4422600" y="2546280"/>
            <a:chExt cx="765360" cy="787320"/>
          </a:xfrm>
        </p:grpSpPr>
        <p:grpSp>
          <p:nvGrpSpPr>
            <p:cNvPr id="291" name=""/>
            <p:cNvGrpSpPr/>
            <p:nvPr/>
          </p:nvGrpSpPr>
          <p:grpSpPr>
            <a:xfrm>
              <a:off x="4422600" y="2781360"/>
              <a:ext cx="765360" cy="318960"/>
              <a:chOff x="4422600" y="2781360"/>
              <a:chExt cx="765360" cy="31896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45381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48034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44863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44226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V="1">
              <a:off x="48369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8196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337000" y="2546280"/>
            <a:ext cx="765360" cy="787320"/>
            <a:chOff x="5337000" y="2546280"/>
            <a:chExt cx="765360" cy="787320"/>
          </a:xfrm>
        </p:grpSpPr>
        <p:grpSp>
          <p:nvGrpSpPr>
            <p:cNvPr id="299" name=""/>
            <p:cNvGrpSpPr/>
            <p:nvPr/>
          </p:nvGrpSpPr>
          <p:grpSpPr>
            <a:xfrm>
              <a:off x="5337000" y="2781360"/>
              <a:ext cx="765360" cy="318960"/>
              <a:chOff x="5337000" y="2781360"/>
              <a:chExt cx="765360" cy="318960"/>
            </a:xfrm>
          </p:grpSpPr>
          <p:sp>
            <p:nvSpPr>
              <p:cNvPr id="300" name=""/>
              <p:cNvSpPr/>
              <p:nvPr/>
            </p:nvSpPr>
            <p:spPr>
              <a:xfrm flipH="1">
                <a:off x="54525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57178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4007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3370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7513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7340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656240" y="1878120"/>
            <a:ext cx="2124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36640" y="1265400"/>
            <a:ext cx="251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87240" y="5227560"/>
            <a:ext cx="471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~200 business part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5200" y="4998960"/>
            <a:ext cx="307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ousand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elecomm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593800" y="4575240"/>
            <a:ext cx="301680" cy="4539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61040" y="4575240"/>
            <a:ext cx="1139760" cy="6825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FD4-A075-4817-A25E-473BF95BB7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73F84-05E1-4439-B3AA-8E88E13DE645}" type="datetime3">
              <a:rPr lang="en-US"/>
              <a:t>July 31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mote Attacks are Eas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acks can be laundered through many hosts around the wor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nonym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eas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verage defender is cluel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back can be very h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ueless IS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gnorant law enfor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ies with foreign coun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not be against the local la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ker may cease attack before traceback is comple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110-01EC-4777-94E3-102FA5DEFB1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B7363-F3AC-4511-8714-6C07397298B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oculture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set of target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planting Kansas with a single strain of wheat, or vineyards with a single root st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ers develop attack software for the rest of 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43E-46ED-47FF-AB39-C3CA691CEA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7E99B-12C1-46C4-B6E0-ADE68FC270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orly writ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or aud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nd in most h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r services and protocols are r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s sell flawed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s don’t fix h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st-ba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urity is usually bro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requires discipline: not found in market lea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679-AFB5-4B93-9F38-390FAD7E6F2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C9E58-4E88-4C10-B594-B9452962C8C4}" type="datetime3">
              <a:rPr lang="en-US"/>
              <a:t>July 31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Typical Erro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hecked user input submitted to the shell or Pe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dcard and escape characters take over th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 scri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string length is not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buffer overrun corrupts st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cpy, gets, sprint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r supplies assembly code, and jumps to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ger (Morris worm), early Netscape, statd (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 options, commands, or back do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 and others in send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023-42E6-4A68-9CE4-80A0DBCD4E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88C83-F431-4CE7-AA35-46D3775FE25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vileged programs are much too lar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mail is tens of thousands of lines of complex code, running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o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cape browser/communicator is hu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s are hu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are never retired, only ad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ort, simple program is hard to ge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945-0BC6-4237-8B8C-002568EAF4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52305-2323-4118-9AFD-A1BC109793D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8400" y="190512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1360" y="1854360"/>
            <a:ext cx="253980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1360" y="2448000"/>
            <a:ext cx="253980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1360" y="3683160"/>
            <a:ext cx="2539800" cy="634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1840" y="259092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42400" y="32004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28680" y="373392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664240" y="1854360"/>
            <a:ext cx="2539800" cy="2463480"/>
            <a:chOff x="5664240" y="1854360"/>
            <a:chExt cx="2539800" cy="2463480"/>
          </a:xfrm>
        </p:grpSpPr>
        <p:sp>
          <p:nvSpPr>
            <p:cNvPr id="55" name=""/>
            <p:cNvSpPr/>
            <p:nvPr/>
          </p:nvSpPr>
          <p:spPr>
            <a:xfrm>
              <a:off x="5741280" y="190512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64240" y="185436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64240" y="244800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64240" y="368316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4720" y="259092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95280" y="320040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81560" y="373392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0520" y="48261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61200" y="49528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54120" y="12193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42120" y="12952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38A-045E-4568-90D4-0FDCADDE34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337D2-96E2-4ECD-909C-F1431CD8F24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Protoco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words transmitted in the 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/response is better, though subject to dictionary att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KE can hide 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ne generated passwords are better, but require devices or printou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-based 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OK in controlled enviro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 and routing attacks can fool the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AC6-7C29-436E-A57F-CCE55DF29A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AC8B9-83CF-434D-944E-94103844A8D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akest Link Compromi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targ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ies are common in network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break-in comprom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 of the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st’s net (via sniff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sting h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vital” targets may be v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3ED-5B19-4675-9C7A-DB8C4DCD09B0}" type="slidenum">
              <a:t>2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8A50D-6911-406B-B9B4-176FD98AA38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afe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5E1-0F83-42DC-AE17-2D7BF3783D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96545-867B-4900-8517-8C26BB475D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6FF-738A-4F45-8226-C859643EE61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EED9F-EAB3-4A6D-AB9E-119E3B0EB2A9}" type="datetime3">
              <a:rPr lang="en-US"/>
              <a:t>July 31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267080" y="3733560"/>
            <a:ext cx="167652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0FD-D07B-4209-AAFE-24E60417CA5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C95F8-8201-42D0-9084-C9A9D1A6696E}" type="datetime3">
              <a:rPr lang="en-US"/>
              <a:t>July 31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ault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GI works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F32-FA6A-4EED-98B3-E36A6CEE7D4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21806-82B1-4F2A-8D20-26203C61B8F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re default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9920" y="1909800"/>
            <a:ext cx="754596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500-E782-4BEE-8476-6398B74C379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FAC41-444D-4C14-8ADA-B92F54308DD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ngerous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” R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login/rsh/rc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web serv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92F-4AC4-4EAF-BE80-109484FBE238}" type="slidenum">
              <a:t>2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DA5E5-E401-4929-86B5-F3324E0F384B}" type="datetime3">
              <a:rPr lang="en-US"/>
              <a:t>July 31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leaks pass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to hija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leaks pass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to hija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s in ser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handle gives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R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-b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foo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 R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ographically w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0AB-7448-4C5A-9418-02E6210E0790}" type="slidenum">
              <a:t>2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F64B5-1E33-4375-8A5F-8DA69508457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login, rsh, rc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ed-based 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to hija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text leaks secr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l can be taken 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al keystrok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 wrong answ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ack address-based 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bug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set up saf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GI scripts danger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519-B0A3-499E-8EED-129BA0BD7431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D68DA-F7D2-4450-93EC-8E7557E1585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400" y="190512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360" y="1854360"/>
            <a:ext cx="253980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1360" y="2448000"/>
            <a:ext cx="253980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1360" y="3683160"/>
            <a:ext cx="2539800" cy="634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1840" y="259092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2400" y="32004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28680" y="373392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664240" y="1854360"/>
            <a:ext cx="2539800" cy="2463480"/>
            <a:chOff x="5664240" y="1854360"/>
            <a:chExt cx="2539800" cy="2463480"/>
          </a:xfrm>
        </p:grpSpPr>
        <p:sp>
          <p:nvSpPr>
            <p:cNvPr id="77" name=""/>
            <p:cNvSpPr/>
            <p:nvPr/>
          </p:nvSpPr>
          <p:spPr>
            <a:xfrm>
              <a:off x="5741280" y="190512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4240" y="185436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64240" y="244800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64240" y="368316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74720" y="259092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95280" y="320040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81560" y="373392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30520" y="48261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61200" y="49528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54120" y="12193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42120" y="12952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1040" y="2446200"/>
            <a:ext cx="5369040" cy="2702160"/>
          </a:xfrm>
          <a:custGeom>
            <a:avLst/>
            <a:gdLst/>
            <a:ahLst/>
            <a:rect l="l" t="t" r="r" b="b"/>
            <a:pathLst>
              <a:path w="3382" h="1702">
                <a:moveTo>
                  <a:pt x="128" y="0"/>
                </a:moveTo>
                <a:cubicBezTo>
                  <a:pt x="149" y="236"/>
                  <a:pt x="0" y="1142"/>
                  <a:pt x="252" y="1417"/>
                </a:cubicBezTo>
                <a:cubicBezTo>
                  <a:pt x="504" y="1692"/>
                  <a:pt x="1164" y="1649"/>
                  <a:pt x="1641" y="1651"/>
                </a:cubicBezTo>
                <a:cubicBezTo>
                  <a:pt x="2118" y="1653"/>
                  <a:pt x="2852" y="1702"/>
                  <a:pt x="3117" y="1427"/>
                </a:cubicBezTo>
                <a:cubicBezTo>
                  <a:pt x="3382" y="1152"/>
                  <a:pt x="3207" y="297"/>
                  <a:pt x="3231" y="0"/>
                </a:cubicBezTo>
              </a:path>
            </a:pathLst>
          </a:custGeom>
          <a:noFill/>
          <a:ln w="88920">
            <a:solidFill>
              <a:srgbClr val="0000ff"/>
            </a:solidFill>
            <a:round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33C-3FA6-4D40-B8B0-F9B726F0E9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588D6-77A6-4D6B-91A1-4290B600B24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 They Find Dangerous Port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scan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wr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f-open (SYN-only) scanners often don’t show up in lo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er to scan for UDP services, but not by m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9E9-8860-4346-B789-446CAFF640B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DA42A-2234-49BB-8603-E756D71DC2A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afer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rberized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ed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get/c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/uns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ser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1E0-4B94-4926-A121-58121D538C84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8F004-7A26-41E9-A6CE-01AD54BDA065}" type="datetime3">
              <a:rPr lang="en-US"/>
              <a:t>July 31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ack Smashing Attack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DA7-6AC0-49F2-AF79-B5EB630883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3C7C2-70B1-4783-B2A5-C3AED851900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s don’t check their inp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es lik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c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rintf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are inherently danger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nput length is too long, it can overwrite memory in C, overwriting variables and subroutine return addr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piece of external data must be checked before it is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oesn’t hurt to check internal stuff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ert.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PU time is che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974-F313-4DF1-BA32-1C78DEECE17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9AA72-CAA9-4A13-8D81-D803B3F5FD9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133720" y="1600200"/>
            <a:ext cx="1981080" cy="1600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20640" y="205740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before a procedure ca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C70-B195-4DCB-942D-72BC5DA583A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9A667-39ED-42F6-A5DF-E40DAB54B24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84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36680" y="3240000"/>
            <a:ext cx="30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go aft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is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190760" y="342900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9A8-6485-4F57-AD20-129F889A516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7A9D3-B264-425C-932F-A793A08B765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97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956840" y="449568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line goes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206600" y="4684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8B0-AB3D-4DC9-AE34-69433195A08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430BA-B81E-49DA-BB0F-03150F8A49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410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956840" y="449568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line goes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206600" y="4684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4648320"/>
            <a:ext cx="19810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1B4-E978-44E9-B68D-AFF4E35AE71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84280-7AFB-44EC-9102-1F0B96DE573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424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ck smashing” at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33720" y="1905120"/>
            <a:ext cx="1981080" cy="31240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5760" y="3352680"/>
            <a:ext cx="38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turn address,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206600" y="3541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A1F-1055-4A38-A4F6-C4D0E13D0FF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0B4B4-5397-4149-B8C6-C59BC78D3C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438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ck smashing” at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1905120"/>
            <a:ext cx="1981080" cy="31240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4320" y="2133720"/>
            <a:ext cx="35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de load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pace on the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206600" y="232236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03480" y="3581280"/>
            <a:ext cx="35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runs 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ileges of the att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usual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F16-17C5-4AA5-B003-1BB8DB53167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B2B8A-6207-4092-B7BB-6E19D99D167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5800" y="1219320"/>
            <a:ext cx="1571760" cy="1448640"/>
            <a:chOff x="685800" y="1219320"/>
            <a:chExt cx="1571760" cy="1448640"/>
          </a:xfrm>
        </p:grpSpPr>
        <p:sp>
          <p:nvSpPr>
            <p:cNvPr id="93" name=""/>
            <p:cNvSpPr/>
            <p:nvPr/>
          </p:nvSpPr>
          <p:spPr>
            <a:xfrm>
              <a:off x="833040" y="152388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1515960"/>
              <a:ext cx="157176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1793880"/>
              <a:ext cx="157176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2370240"/>
              <a:ext cx="157176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000" y="182880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9456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8892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86200" y="1219320"/>
              <a:ext cx="64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24280" y="1752480"/>
            <a:ext cx="1571400" cy="915480"/>
            <a:chOff x="4724280" y="1752480"/>
            <a:chExt cx="1571400" cy="915480"/>
          </a:xfrm>
        </p:grpSpPr>
        <p:sp>
          <p:nvSpPr>
            <p:cNvPr id="102" name=""/>
            <p:cNvSpPr/>
            <p:nvPr/>
          </p:nvSpPr>
          <p:spPr>
            <a:xfrm>
              <a:off x="472428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2428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304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704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7932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743200" y="1752480"/>
            <a:ext cx="1571400" cy="915480"/>
            <a:chOff x="2743200" y="1752480"/>
            <a:chExt cx="1571400" cy="915480"/>
          </a:xfrm>
        </p:grpSpPr>
        <p:sp>
          <p:nvSpPr>
            <p:cNvPr id="108" name=""/>
            <p:cNvSpPr/>
            <p:nvPr/>
          </p:nvSpPr>
          <p:spPr>
            <a:xfrm>
              <a:off x="274320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196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596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9824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1752480"/>
            <a:ext cx="1571400" cy="915480"/>
            <a:chOff x="6553080" y="1752480"/>
            <a:chExt cx="1571400" cy="915480"/>
          </a:xfrm>
        </p:grpSpPr>
        <p:sp>
          <p:nvSpPr>
            <p:cNvPr id="114" name=""/>
            <p:cNvSpPr/>
            <p:nvPr/>
          </p:nvSpPr>
          <p:spPr>
            <a:xfrm>
              <a:off x="655308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184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584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812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800600" y="3657600"/>
            <a:ext cx="1571400" cy="915480"/>
            <a:chOff x="4800600" y="3657600"/>
            <a:chExt cx="1571400" cy="915480"/>
          </a:xfrm>
        </p:grpSpPr>
        <p:sp>
          <p:nvSpPr>
            <p:cNvPr id="120" name=""/>
            <p:cNvSpPr/>
            <p:nvPr/>
          </p:nvSpPr>
          <p:spPr>
            <a:xfrm>
              <a:off x="4800600" y="396252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600" y="427536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09360" y="396252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3360" y="426744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5640" y="365760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971800" y="3657600"/>
            <a:ext cx="1571400" cy="915480"/>
            <a:chOff x="2971800" y="3657600"/>
            <a:chExt cx="1571400" cy="915480"/>
          </a:xfrm>
        </p:grpSpPr>
        <p:sp>
          <p:nvSpPr>
            <p:cNvPr id="126" name=""/>
            <p:cNvSpPr/>
            <p:nvPr/>
          </p:nvSpPr>
          <p:spPr>
            <a:xfrm>
              <a:off x="2971800" y="396252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427536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0560" y="396252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4560" y="426744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6840" y="365760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705720" y="3124080"/>
            <a:ext cx="1571400" cy="1448640"/>
            <a:chOff x="6705720" y="3124080"/>
            <a:chExt cx="1571400" cy="1448640"/>
          </a:xfrm>
        </p:grpSpPr>
        <p:sp>
          <p:nvSpPr>
            <p:cNvPr id="132" name=""/>
            <p:cNvSpPr/>
            <p:nvPr/>
          </p:nvSpPr>
          <p:spPr>
            <a:xfrm>
              <a:off x="6852600" y="342864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5720" y="3420720"/>
              <a:ext cx="157140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05720" y="3698640"/>
              <a:ext cx="157140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5720" y="427500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9560" y="373356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3760" y="396216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8480" y="426708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1200" y="3124080"/>
              <a:ext cx="71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371600" y="1752480"/>
            <a:ext cx="7007400" cy="3149640"/>
          </a:xfrm>
          <a:custGeom>
            <a:avLst/>
            <a:gdLst/>
            <a:ahLst/>
            <a:rect l="l" t="t" r="r" b="b"/>
            <a:pathLst>
              <a:path w="4414" h="1984">
                <a:moveTo>
                  <a:pt x="0" y="0"/>
                </a:moveTo>
                <a:cubicBezTo>
                  <a:pt x="66" y="109"/>
                  <a:pt x="235" y="545"/>
                  <a:pt x="398" y="654"/>
                </a:cubicBezTo>
                <a:cubicBezTo>
                  <a:pt x="561" y="763"/>
                  <a:pt x="820" y="716"/>
                  <a:pt x="977" y="654"/>
                </a:cubicBezTo>
                <a:cubicBezTo>
                  <a:pt x="1134" y="592"/>
                  <a:pt x="1213" y="282"/>
                  <a:pt x="1339" y="282"/>
                </a:cubicBezTo>
                <a:cubicBezTo>
                  <a:pt x="1465" y="282"/>
                  <a:pt x="1584" y="592"/>
                  <a:pt x="1732" y="654"/>
                </a:cubicBezTo>
                <a:cubicBezTo>
                  <a:pt x="1880" y="716"/>
                  <a:pt x="2086" y="715"/>
                  <a:pt x="2229" y="654"/>
                </a:cubicBezTo>
                <a:cubicBezTo>
                  <a:pt x="2372" y="593"/>
                  <a:pt x="2468" y="290"/>
                  <a:pt x="2592" y="288"/>
                </a:cubicBezTo>
                <a:cubicBezTo>
                  <a:pt x="2716" y="286"/>
                  <a:pt x="2845" y="585"/>
                  <a:pt x="2974" y="644"/>
                </a:cubicBezTo>
                <a:cubicBezTo>
                  <a:pt x="3103" y="703"/>
                  <a:pt x="3239" y="703"/>
                  <a:pt x="3367" y="644"/>
                </a:cubicBezTo>
                <a:cubicBezTo>
                  <a:pt x="3495" y="585"/>
                  <a:pt x="3646" y="276"/>
                  <a:pt x="3744" y="288"/>
                </a:cubicBezTo>
                <a:cubicBezTo>
                  <a:pt x="3842" y="300"/>
                  <a:pt x="4414" y="567"/>
                  <a:pt x="3956" y="716"/>
                </a:cubicBezTo>
                <a:cubicBezTo>
                  <a:pt x="3498" y="865"/>
                  <a:pt x="1487" y="987"/>
                  <a:pt x="998" y="1182"/>
                </a:cubicBezTo>
                <a:cubicBezTo>
                  <a:pt x="509" y="1377"/>
                  <a:pt x="937" y="1834"/>
                  <a:pt x="1019" y="1885"/>
                </a:cubicBezTo>
                <a:cubicBezTo>
                  <a:pt x="1101" y="1936"/>
                  <a:pt x="1347" y="1493"/>
                  <a:pt x="1488" y="1488"/>
                </a:cubicBezTo>
                <a:cubicBezTo>
                  <a:pt x="1629" y="1483"/>
                  <a:pt x="1735" y="1793"/>
                  <a:pt x="1867" y="1854"/>
                </a:cubicBezTo>
                <a:cubicBezTo>
                  <a:pt x="1999" y="1915"/>
                  <a:pt x="2152" y="1923"/>
                  <a:pt x="2281" y="1854"/>
                </a:cubicBezTo>
                <a:cubicBezTo>
                  <a:pt x="2410" y="1785"/>
                  <a:pt x="2513" y="1440"/>
                  <a:pt x="2640" y="1440"/>
                </a:cubicBezTo>
                <a:cubicBezTo>
                  <a:pt x="2767" y="1440"/>
                  <a:pt x="2914" y="1782"/>
                  <a:pt x="3046" y="1854"/>
                </a:cubicBezTo>
                <a:cubicBezTo>
                  <a:pt x="3178" y="1926"/>
                  <a:pt x="3305" y="1984"/>
                  <a:pt x="3429" y="1875"/>
                </a:cubicBezTo>
                <a:cubicBezTo>
                  <a:pt x="3553" y="1766"/>
                  <a:pt x="3717" y="1341"/>
                  <a:pt x="3792" y="12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AA1-04FC-44C6-94F2-C6DE908656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13B63-F860-4F3E-A135-DD75DA643B9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former victims of stack-smashing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gerd (Morris w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log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tat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Netscape brow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ly: file names in attachments to 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hd scare of two weeks a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590-64C3-4CE0-A2DA-5CCDD327085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E99AA-8217-4194-BA3D-FE385F1D4C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able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FDC-4729-4F60-A64A-1D936D5A09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BCEEE-E62D-4334-9F74-7E6143CF2F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ngerous service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rtable pro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X^H^H^H^H^H^H^HCOM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0BB-83D8-44E4-800A-6B600D68DC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5C0CB-2B4C-4204-9577-DD8D1BED595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re do Programs Run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616120" y="1778040"/>
            <a:ext cx="3835440" cy="3682800"/>
            <a:chOff x="2616120" y="1778040"/>
            <a:chExt cx="3835440" cy="3682800"/>
          </a:xfrm>
        </p:grpSpPr>
        <p:sp>
          <p:nvSpPr>
            <p:cNvPr id="460" name=""/>
            <p:cNvSpPr/>
            <p:nvPr/>
          </p:nvSpPr>
          <p:spPr>
            <a:xfrm>
              <a:off x="3530520" y="2616120"/>
              <a:ext cx="2082960" cy="20066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16120" y="1778040"/>
              <a:ext cx="3835440" cy="36828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3230640"/>
              <a:ext cx="1567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30160" y="1935000"/>
              <a:ext cx="1934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08F-18B9-4BDA-B9F2-EFB8FED4DFE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1D3FB-7785-4972-AEA3-68E13AC09A1D}" type="datetime3">
              <a:rPr lang="en-US"/>
              <a:t>July 31, 20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re do Programs Run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616120" y="1778040"/>
            <a:ext cx="3835440" cy="3682800"/>
            <a:chOff x="2616120" y="1778040"/>
            <a:chExt cx="3835440" cy="3682800"/>
          </a:xfrm>
        </p:grpSpPr>
        <p:sp>
          <p:nvSpPr>
            <p:cNvPr id="467" name=""/>
            <p:cNvSpPr/>
            <p:nvPr/>
          </p:nvSpPr>
          <p:spPr>
            <a:xfrm>
              <a:off x="3530520" y="2616120"/>
              <a:ext cx="2082960" cy="20066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16120" y="1778040"/>
              <a:ext cx="3835440" cy="36828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90800" y="3230640"/>
              <a:ext cx="1567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30160" y="1935000"/>
              <a:ext cx="1934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458440" y="5532480"/>
            <a:ext cx="4249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90e0a"/>
                </a:solidFill>
                <a:latin typeface="Arial"/>
              </a:rPr>
              <a:t>This model is wro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B39-00F7-4A90-8284-FD67C3B2F16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C82AF-2262-4F18-A8DA-9E5EB94EB74D}" type="datetime3">
              <a:rPr lang="en-US"/>
              <a:t>July 31, 20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ets run in an incompletely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ined environ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355760" y="1812960"/>
            <a:ext cx="12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30520" y="2616120"/>
            <a:ext cx="2082960" cy="2006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16120" y="1778040"/>
            <a:ext cx="3835440" cy="36828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03880" y="1965240"/>
            <a:ext cx="12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90800" y="1935000"/>
            <a:ext cx="1567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06480" y="3306600"/>
            <a:ext cx="193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B23-0266-44E1-9D75-80D6351105F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E90F2-6C3C-4EFA-A51C-2E3D974FFC47}" type="datetime3">
              <a:rPr lang="en-US"/>
              <a:t>July 31, 20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ava’s “sandbox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incompletely d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different for each ven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ten optimized for speed, not secu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“native methods”, which can break the security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Java, but no sandbox at al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683-263B-4749-B99D-374BAB0CBD4F}" type="slidenum">
              <a:t>4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6BCB3-B68B-400A-A8F9-D52D1CDB35C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iffing at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“eavesdropping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3FC-E8A1-4E34-9766-5B6E51304D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A646D-001D-4536-95C6-5448674EC9E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7080" y="2973240"/>
            <a:ext cx="0" cy="236088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374-63BD-42CE-9520-0E91026F4B7B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7ABA0-DB9F-4E59-9E77-CBDCC95C409E}" type="datetime3">
              <a:rPr lang="en-US"/>
              <a:t>July 31, 20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thernet and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never secure from eavesdro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iffing” tools are comm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b host name, user name, and pass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any hacker col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card numbers are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1,000,000 captured in 199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t doesn’t matter how good your password is if it can be sniffed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 in wide use - even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160-C19B-4DA1-8634-72DBE457B844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74DF4-A855-46C0-A8A0-65206EFE29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 to a host with some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TP, POP3, IMAP (mai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net, rlogin (log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(web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(name servi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P, BGP4, OSPF (rou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S, SMB (network file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one can invent a new protocol between two hos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44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180-32CE-499B-9366-C208A50472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2CD22-F603-4AB7-BE42-B1D7121CCF8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rdware tokens are one solution to sniffed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965160" y="1336680"/>
            <a:ext cx="2165400" cy="36226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95400" y="5257800"/>
            <a:ext cx="3867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gital Pathw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NK-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/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or printout 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ot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proprietary server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A33-3334-4119-9DEC-D324B711AD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3ECA6-7998-41B6-A856-69C91279F61F}" type="datetime3">
              <a:rPr lang="en-US"/>
              <a:t>July 31, 20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81120" y="1881360"/>
            <a:ext cx="6496200" cy="39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190-A8A6-4A24-8A62-F12151A8AB4E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72A13-96D2-4389-B409-6B45C0D91131}" type="datetime3">
              <a:rPr lang="en-US"/>
              <a:t>July 31, 20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Spoof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usted ho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758-3EC2-4890-9BE9-D671D8C8656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7F601-9B72-45A7-BF69-8E9AD0FF9B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eat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ddress-based 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e. rlogin, rsh, tcp 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tools available to the hack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don’t have to be TCP/IP expe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s used to crack Tsutomu Shimomura’s machines in “Takedown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Morris Jr. wrote a paper on this in 198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ve Bellovin republished it in 198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known use in 199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D08-20A7-428E-AACC-6A8136AEF8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04D15-9852-45FE-BB5D-4D0AE465AC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connection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itial SYN pack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4D9-5A6C-4CF1-9A61-5EAC8BFF25A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B34A4-C600-45C2-ADFA-45D4FA5A4713}" type="datetime3">
              <a:rPr lang="en-US"/>
              <a:t>July 31, 20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e to Open, connection is “half open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BE8-05CE-4485-B6AC-ADBBE2E03B72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4DFE2-BCED-43C5-BA2D-365F8F3D4E9F}" type="datetime3">
              <a:rPr lang="en-US"/>
              <a:t>July 31, 20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ent completes handshake, TCP connection is now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13520" y="364176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98A-1E51-463F-85ED-FC87682D12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A5898-88FE-4FDC-AD61-A95810878706}" type="datetime3">
              <a:rPr lang="en-US"/>
              <a:t>July 31, 20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termine Likely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SEQ</a:t>
            </a:r>
            <a:r>
              <a:rPr b="1" lang="en-US" sz="26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419720" y="2971800"/>
            <a:ext cx="2209680" cy="23623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724280" y="3276360"/>
            <a:ext cx="1905120" cy="20574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029200" y="3580920"/>
            <a:ext cx="1600200" cy="175284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334120" y="3886200"/>
            <a:ext cx="1295280" cy="14479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562720" y="4191120"/>
            <a:ext cx="1066680" cy="121896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C02-C1A6-4559-AC75-6DF84980D02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52F20-6D35-4B0E-B561-A84662C0D07B}" type="datetime3">
              <a:rPr lang="en-US"/>
              <a:t>July 31, 20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ress the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37920" y="3429000"/>
            <a:ext cx="1600200" cy="190512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22720" y="3351240"/>
            <a:ext cx="3004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or SYN at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E37-02D8-4A0D-9476-54BE003C669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567AD-CFDD-4DEA-A0BE-145785FDE737}" type="datetime3">
              <a:rPr lang="en-US"/>
              <a:t>July 31, 20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ress the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63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394-A71A-4C1C-84D0-8175BA048722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42571-9A51-4763-8E3F-115C5FD1C3E0}" type="datetime3">
              <a:rPr lang="en-US"/>
              <a:t>July 31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 supplies a reliable connection to the other 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 up “circuit” between client and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ks a stream of data into 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sembles packets into a str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s 1 - 6553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51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A48-A60F-4D4F-A6B5-800F55D35B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3D051-66D6-45E3-BDED-BE71F2C293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opens connection “from”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73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390320" y="472428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49560" y="2592360"/>
            <a:ext cx="716220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47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477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0F2-C7C4-403A-8856-5F746E4AF44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5B2D0-B0A0-4A76-9D88-8C775D6DFDE3}" type="datetime3">
              <a:rPr lang="en-US"/>
              <a:t>July 31, 20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seems to come fro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usted client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85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390320" y="472428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560" y="2592360"/>
            <a:ext cx="716220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47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477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DBF-D4C2-489F-83D0-B30B2049E809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F65C1-134A-45BE-8981-372050D6942D}" type="datetime3">
              <a:rPr lang="en-US"/>
              <a:t>July 31, 20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 responds to dea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98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02B-BF56-4598-9E9E-CA3A8E85527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AA205-CA75-49BA-9855-4AEC530D3AD1}" type="datetime3">
              <a:rPr lang="en-US"/>
              <a:t>July 31, 20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oof final open mess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611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33080" y="446580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06760" y="4192560"/>
            <a:ext cx="609588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20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209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7D5-8CF2-4498-81F7-B8ADEA80B8C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D222B-F83C-4BE3-AD06-65B84FD4367E}" type="datetime3">
              <a:rPr lang="en-US"/>
              <a:t>July 31, 20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Open” is comple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625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4192560"/>
            <a:ext cx="609588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20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209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759-78F5-493D-80A5-847A170C9C4C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20AB4-DE44-4AEA-A17D-EE255AD38C07}" type="datetime3">
              <a:rPr lang="en-US"/>
              <a:t>July 31, 20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Server to outside acc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639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02040" y="4192560"/>
            <a:ext cx="350532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88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886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45840" y="4770360"/>
            <a:ext cx="328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vil trusted comma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379-4D34-45CA-8DF3-5764265868D1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37196-5D7C-4F98-A643-FD27CF06B4FF}" type="datetime3">
              <a:rPr lang="en-US"/>
              <a:t>July 31, 20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venting IP spoof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ofing can be stopped at the peri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ternal addresses accepted from the outsid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to have a coherent address 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irewall can prevent access al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-based authentication is a BAD IDE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AF8-A846-4892-8037-713D2315EEF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61A5A-1D79-4F91-8380-D5EAB2DC282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hija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440-DD20-480D-9001-C63C91E032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F5BC5-77AB-4C4D-9834-4F47E8C421F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is watching an existing connection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haps through the strong authentication st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335-99B6-4D55-9CF8-AB68DCBB7428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0692B-6CFA-4708-A287-085265814AEE}" type="datetime3">
              <a:rPr lang="en-US"/>
              <a:t>July 31, 20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ill the client connection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437920" y="2971800"/>
            <a:ext cx="1600200" cy="236232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4640" y="4494240"/>
            <a:ext cx="260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855-FB20-4205-ADC1-7DD9A46E902C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40115-3BD6-46F1-80EA-7F88C9CBE486}" type="datetime3">
              <a:rPr lang="en-US"/>
              <a:t>July 31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onless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rror corr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low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itable for some network services that don’t have to be reliable, like v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s are numb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6553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rule, its connectionless-nature makes it dangero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58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177-DC13-452B-A0EB-22C727CF1F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9EDDF-E95C-4115-9695-868DC3D65F8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continue the connec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63960" y="2744640"/>
            <a:ext cx="533340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95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954"/>
              </a:path>
            </a:pathLst>
          </a:custGeom>
          <a:noFill/>
          <a:ln cap="rnd"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361960" y="2743200"/>
            <a:ext cx="4190760" cy="0"/>
          </a:xfrm>
          <a:prstGeom prst="line">
            <a:avLst/>
          </a:prstGeom>
          <a:ln w="255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108160" y="2489040"/>
            <a:ext cx="584280" cy="584280"/>
            <a:chOff x="2108160" y="2489040"/>
            <a:chExt cx="584280" cy="584280"/>
          </a:xfrm>
        </p:grpSpPr>
        <p:sp>
          <p:nvSpPr>
            <p:cNvPr id="680" name=""/>
            <p:cNvSpPr/>
            <p:nvPr/>
          </p:nvSpPr>
          <p:spPr>
            <a:xfrm>
              <a:off x="2108160" y="2489040"/>
              <a:ext cx="584280" cy="5842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28760" y="2552760"/>
              <a:ext cx="343080" cy="4572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D68-9622-43CA-BE12-EB481A460789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0E749-2DDD-47A1-A628-ABCFB7369DE4}" type="datetime3">
              <a:rPr lang="en-US"/>
              <a:t>July 31, 20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hijac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s over an existing, authenticated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access to the packet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tools are available to the hackers n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ographic signatures of packets can defeat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0CC-D898-4E40-8D73-26E6F776F4B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4A1F0-6D17-4AC7-B88E-261309ED1A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AE7-0F5E-4E86-95F5-39D269B3B1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14D48-AFD8-40F3-8875-CDE47D6A40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38280" y="2971800"/>
            <a:ext cx="3124440" cy="0"/>
          </a:xfrm>
          <a:prstGeom prst="line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267080" y="3048120"/>
            <a:ext cx="23623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495320" y="3048120"/>
            <a:ext cx="21337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724280" y="3048120"/>
            <a:ext cx="19051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952520" y="3048120"/>
            <a:ext cx="16765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181480" y="2971800"/>
            <a:ext cx="1447920" cy="23623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5409720" y="3048120"/>
            <a:ext cx="12193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962520" y="3048120"/>
            <a:ext cx="266688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A34-37F8-47CC-9CBA-F8301E5B4AC7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46886-FE3B-40A9-92F0-A4268C2FCB85}" type="datetime3">
              <a:rPr lang="en-US"/>
              <a:t>July 31, 20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ial-of-servic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face - not subtle like traditional hacking att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packets are very hard to tr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go on for wee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ackers can exploit poor local software or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y flood the site’s network with incoming pa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These attacks are </a:t>
            </a:r>
            <a:r>
              <a:rPr b="1" i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always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possible on a public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85A-7541-483B-A44E-F09074CEC02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F7687-262F-49DD-80DC-646C92F515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 packet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7E5-F4AF-4023-B502-E633C01DD93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89918-B7F7-43FB-861F-8AE0E607FC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13520" y="364176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C6C-5B65-445C-B96A-2E6599E65DD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92706-4598-4305-8DCB-EE72F8854882}" type="datetime3">
              <a:rPr lang="en-US"/>
              <a:t>July 31, 20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1680" y="2765520"/>
            <a:ext cx="2210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half-o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&lt;300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34320" y="2666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53E-586B-49E1-BF0E-7766BB289840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A2F9C-232C-4213-B7A7-1710FBEC15A0}" type="datetime3">
              <a:rPr lang="en-US"/>
              <a:t>July 31, 20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seen at Panix.com in fall 199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-open processing was implemented poor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ehav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n’t much call for improving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been expecting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nly thing we left out of our firewalls bo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d at the last min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knew of no good 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sorry we left it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ew one appeared in fall 199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 with same source and destination address kills some TCP/IP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here will be more attacks on TCP/IP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lots of code invol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hard to test code in a kern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86C-2263-4495-9CA7-98E500B5815B}" type="slidenum">
              <a:t>7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D4E5C-1253-4FFD-8BEC-5CB5358D6EE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g flood (smurf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E1C-31A9-44D9-B5C6-794FDBCA431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3D562-CFA5-4EA0-8790-A847EBFF614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s have limited siz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be dropped in transit if conges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arrive out of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be dupli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ing by IP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 using IP Version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6 is dubio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/SEC gives authentication and/or encry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be tunne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65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CE5-2568-450B-8C79-9A55787A78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C8379-BD6F-45D8-9900-B5B1C1006C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 ping genera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CB3-CD50-4EF7-BF85-7564A33885A9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5A8B5-A1CD-4C0C-B580-13E10E918B4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gger packets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oofed return addr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163560" y="5234040"/>
            <a:ext cx="931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92360" y="3735360"/>
            <a:ext cx="39621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1" y="0"/>
                </a:moveTo>
                <a:arcTo wR="10800" hR="10800" stAng="-5402755" swAng="5402755"/>
                <a:lnTo>
                  <a:pt x="10800" y="10800"/>
                </a:lnTo>
                <a:close/>
              </a:path>
              <a:path fill="none" w="21600" h="21600">
                <a:moveTo>
                  <a:pt x="10791" y="0"/>
                </a:moveTo>
                <a:arcTo wR="10800" hR="10800" stAng="-5402755" swAng="5402755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337480" y="3887640"/>
            <a:ext cx="42242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5" y="4435"/>
                </a:moveTo>
                <a:arcTo wR="10800" hR="10800" stAng="-8633488" swAng="8346488"/>
                <a:lnTo>
                  <a:pt x="10800" y="10800"/>
                </a:lnTo>
                <a:close/>
              </a:path>
              <a:path fill="none" w="21600" h="21600">
                <a:moveTo>
                  <a:pt x="2075" y="4435"/>
                </a:moveTo>
                <a:arcTo wR="10800" hR="10800" stAng="-8633488" swAng="834648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-988920" y="3506760"/>
            <a:ext cx="746712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-760320" y="2135160"/>
            <a:ext cx="746712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810240" y="1830240"/>
            <a:ext cx="10515600" cy="70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038" swAng="540103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038" swAng="540103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570560" y="3583080"/>
            <a:ext cx="1127736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0968" swAng="540096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0968" swAng="540096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40A-FEB9-4C56-A3A4-D6F5919DC0BA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7C175-8051-4861-89D7-B7BDC9B11CA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rators flood the targ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 pack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163560" y="5234040"/>
            <a:ext cx="931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676520" y="1828800"/>
            <a:ext cx="5259240" cy="1601640"/>
          </a:xfrm>
          <a:custGeom>
            <a:avLst/>
            <a:gdLst/>
            <a:ahLst/>
            <a:rect l="l" t="t" r="r" b="b"/>
            <a:pathLst>
              <a:path w="3313" h="1009">
                <a:moveTo>
                  <a:pt x="0" y="0"/>
                </a:moveTo>
                <a:lnTo>
                  <a:pt x="432" y="336"/>
                </a:lnTo>
                <a:lnTo>
                  <a:pt x="960" y="672"/>
                </a:lnTo>
                <a:lnTo>
                  <a:pt x="1632" y="768"/>
                </a:lnTo>
                <a:lnTo>
                  <a:pt x="1654" y="798"/>
                </a:lnTo>
                <a:lnTo>
                  <a:pt x="2736" y="1008"/>
                </a:lnTo>
                <a:lnTo>
                  <a:pt x="3312" y="1008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2057400"/>
            <a:ext cx="4040280" cy="1601640"/>
          </a:xfrm>
          <a:custGeom>
            <a:avLst/>
            <a:gdLst/>
            <a:ahLst/>
            <a:rect l="l" t="t" r="r" b="b"/>
            <a:pathLst>
              <a:path w="2545" h="1009">
                <a:moveTo>
                  <a:pt x="0" y="0"/>
                </a:moveTo>
                <a:lnTo>
                  <a:pt x="816" y="384"/>
                </a:lnTo>
                <a:lnTo>
                  <a:pt x="1392" y="624"/>
                </a:lnTo>
                <a:lnTo>
                  <a:pt x="1920" y="1008"/>
                </a:lnTo>
                <a:lnTo>
                  <a:pt x="2544" y="96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2971800"/>
            <a:ext cx="6097680" cy="687240"/>
          </a:xfrm>
          <a:custGeom>
            <a:avLst/>
            <a:gdLst/>
            <a:ahLst/>
            <a:rect l="l" t="t" r="r" b="b"/>
            <a:pathLst>
              <a:path w="3841" h="433">
                <a:moveTo>
                  <a:pt x="0" y="384"/>
                </a:moveTo>
                <a:lnTo>
                  <a:pt x="768" y="240"/>
                </a:lnTo>
                <a:lnTo>
                  <a:pt x="1344" y="0"/>
                </a:lnTo>
                <a:lnTo>
                  <a:pt x="2112" y="144"/>
                </a:lnTo>
                <a:lnTo>
                  <a:pt x="3264" y="432"/>
                </a:lnTo>
                <a:lnTo>
                  <a:pt x="3840" y="384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743200" y="3124080"/>
            <a:ext cx="4497480" cy="763560"/>
          </a:xfrm>
          <a:custGeom>
            <a:avLst/>
            <a:gdLst/>
            <a:ahLst/>
            <a:rect l="l" t="t" r="r" b="b"/>
            <a:pathLst>
              <a:path w="2833" h="481">
                <a:moveTo>
                  <a:pt x="0" y="336"/>
                </a:moveTo>
                <a:lnTo>
                  <a:pt x="432" y="480"/>
                </a:lnTo>
                <a:lnTo>
                  <a:pt x="462" y="472"/>
                </a:lnTo>
                <a:lnTo>
                  <a:pt x="1104" y="384"/>
                </a:lnTo>
                <a:lnTo>
                  <a:pt x="1102" y="362"/>
                </a:lnTo>
                <a:lnTo>
                  <a:pt x="1680" y="0"/>
                </a:lnTo>
                <a:lnTo>
                  <a:pt x="2112" y="336"/>
                </a:lnTo>
                <a:lnTo>
                  <a:pt x="2832" y="24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19520" y="3048120"/>
            <a:ext cx="4268520" cy="1449360"/>
          </a:xfrm>
          <a:custGeom>
            <a:avLst/>
            <a:gdLst/>
            <a:ahLst/>
            <a:rect l="l" t="t" r="r" b="b"/>
            <a:pathLst>
              <a:path w="2689" h="913">
                <a:moveTo>
                  <a:pt x="0" y="912"/>
                </a:moveTo>
                <a:lnTo>
                  <a:pt x="384" y="528"/>
                </a:lnTo>
                <a:lnTo>
                  <a:pt x="1008" y="432"/>
                </a:lnTo>
                <a:lnTo>
                  <a:pt x="1632" y="0"/>
                </a:lnTo>
                <a:lnTo>
                  <a:pt x="2112" y="384"/>
                </a:lnTo>
                <a:lnTo>
                  <a:pt x="2688" y="336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419720" y="3200400"/>
            <a:ext cx="2744640" cy="579600"/>
          </a:xfrm>
          <a:custGeom>
            <a:avLst/>
            <a:gdLst/>
            <a:ahLst/>
            <a:rect l="l" t="t" r="r" b="b"/>
            <a:pathLst>
              <a:path w="1729" h="365">
                <a:moveTo>
                  <a:pt x="0" y="336"/>
                </a:moveTo>
                <a:lnTo>
                  <a:pt x="624" y="0"/>
                </a:lnTo>
                <a:lnTo>
                  <a:pt x="1104" y="336"/>
                </a:lnTo>
                <a:lnTo>
                  <a:pt x="1106" y="364"/>
                </a:lnTo>
                <a:lnTo>
                  <a:pt x="1728" y="288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4BC-16C7-4BD4-A537-83BC31CBA853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17813-6D61-4B2F-82F1-8D2EEB0F4DF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eb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rget cannot tell where the trigger is coming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acking hosts may not know that they are being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storms can generate more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28D-9CC3-462E-8CEC-5738F3F2853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9106D-A9D7-48F3-95DA-DD1A5DE866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S, routing, and infrastructure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3E3-89B0-41B2-9D90-7BDA209400F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A2629-633D-424D-B6D1-B5513EC5F8F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-2511720" y="2820960"/>
            <a:ext cx="9900360" cy="5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102" swAng="338411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102" swAng="3384118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673-8476-4F29-BCB0-2778C74A6A99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CF39A-48E4-4C14-BFB1-62A5BFE617B6}" type="datetime3">
              <a:rPr lang="en-US"/>
              <a:t>July 31, 20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-2511720" y="2820960"/>
            <a:ext cx="9900360" cy="5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102" swAng="338411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102" swAng="3384118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4267080" y="2819160"/>
            <a:ext cx="0" cy="2514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600360" y="227016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51A-2F58-4202-AE4A-8275384C5423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DB32A-4CD9-40A0-840E-ED5A4B8D3ED9}" type="datetime3">
              <a:rPr lang="en-US"/>
              <a:t>July 31, 20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990720" y="2820960"/>
            <a:ext cx="28951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769" swAng="5403769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769" swAng="5403769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802040" y="2744640"/>
            <a:ext cx="365724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01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016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00360" y="227016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584-7300-4788-BA48-E2C68F611EBA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A2592-ED4C-4EBF-97D0-D692E65EF8BD}" type="datetime3">
              <a:rPr lang="en-US"/>
              <a:t>July 31, 20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an extra “glue” record on a DNS qu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cache time-out hides the evi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est bind program checks for 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 cache poisoning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ture DNS server and return incorrect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SEC can fix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ing through final comments 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97C-BF5C-4F6C-98FE-55E3ECCCDCC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E3645-2943-449B-A1FB-19B9E1941FD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rastructur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tools are still w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enticated BGP4 is co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 up with the latest nam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o secure router implementations, when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what will you do if the entire Internet is down for a wee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F21-529B-4943-AE44-84F1A133D16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7610B-00A8-47DE-A68D-B7D82E41DA0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/IP stack is hard to d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,000 lines of code is typi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Cs don’t give all the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takes practice and experience to get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curve is still evident in Linux and Microso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kernel-level code: debugging is tedi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debug error states in a protoco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C20-3F3A-455B-B635-FBD3E4DB8D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B3EC9-86BA-4A5A-BA45-28548F8772F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Engine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AD5-3939-4E2C-8982-C90571AC9AB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D3772-7564-4FBE-A367-3B646408BE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cial Engineering (cont.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26920" y="3510000"/>
            <a:ext cx="5421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4FC-59FE-4AA4-A110-2040B77C5622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283EC-EAAD-4DBC-AF7D-5A892C51C7A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36040" cy="384516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484200" y="63360"/>
            <a:ext cx="85024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other problem with strange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03F-D10F-426A-8C2C-D7798C6295F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C0E0F-7213-4E56-B783-279BDBE37C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cial Engineer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502280" y="1987560"/>
            <a:ext cx="51854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1C8-D311-4417-A0C0-D677596F4865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68F38-5492-4721-80EB-507E73143CFE}" type="datetime3">
              <a:rPr lang="en-US"/>
              <a:t>July 31, 20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dangerous out there, especially at the server 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s should be programmed carefully and defensiv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 should avoid Java and Javascript, and run a virus chec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B15-D3B2-4C04-B6A5-63B16C278A3C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32BD3-CED3-4868-8656-32F3287671E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Gory Enough For You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traq mailing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walls and Internet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man and Zwick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word search in search engines for hack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kit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CAE-FA4D-499C-826D-630AE8E8C613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E762E-76DB-40AA-ABC1-489F004BDF6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y Inform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cs.bell-labs.com/~ches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“cheswick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@bell-labs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walls and Internet Security: Repelling the Wily Hac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wick and Bellov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BN 0-201-63357-4, Addison Wesley, 1994. Also in German, Japanese, and Fre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, I’d love to sign your b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883-2775-4F66-AB27-A6B6A14FA932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5DE4F-4E30-4184-A4B9-1EC3AEBBA86E}" type="datetime3">
              <a:rPr lang="en-US"/>
              <a:t>July 31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7T13:26:38Z</dcterms:created>
  <dc:creator>Bill Cheswick</dc:creator>
  <dc:description>Do not eat yellow snow.</dc:description>
  <cp:keywords>encryption Internet security tools</cp:keywords>
  <dc:language>en-US</dc:language>
  <cp:lastModifiedBy>Bill Cheswick</cp:lastModifiedBy>
  <dcterms:modified xsi:type="dcterms:W3CDTF">1998-11-12T14:54:20Z</dcterms:modified>
  <cp:revision>52</cp:revision>
  <dc:subject>Encryption Software for the Internet</dc:subject>
  <dc:title>Commercial Munitions on the Internet</dc:title>
</cp:coreProperties>
</file>