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0.xml.rels" ContentType="application/vnd.openxmlformats-package.relationships+xml"/>
  <Override PartName="/ppt/notesSlides/_rels/notesSlide89.xml.rels" ContentType="application/vnd.openxmlformats-package.relationships+xml"/>
  <Override PartName="/ppt/notesSlides/notesSlide89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787C8A-9E34-4EDB-A939-963B510FB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oughly increasing order of risk/time/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ighly debatable and changeable, but order of magnitude is about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c Microsoft spelling checker suggested ‘cyaniding’ as the correct spelling for ‘sysadmin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212760" y="806400"/>
            <a:ext cx="5857920" cy="2858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88280" y="533520"/>
            <a:ext cx="2370240" cy="6444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>
            <a:off x="533520" y="647712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62120" y="13716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ernet Attacks: The Gory Details</a:t>
            </a:r>
            <a:br>
              <a:rPr sz="1800"/>
            </a:br>
            <a:br>
              <a:rPr sz="18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ill Chesw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48006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 Labs, Lucent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es@bell-lab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www.cs.bell-labs.com/~ch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Lucent/AT&amp;T at the split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&gt;6 firewalls, 300,000 hosts, 200 extran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38240" y="3325680"/>
            <a:ext cx="4430880" cy="109044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424240" y="4424400"/>
            <a:ext cx="768240" cy="789120"/>
            <a:chOff x="2424240" y="4424400"/>
            <a:chExt cx="768240" cy="789120"/>
          </a:xfrm>
        </p:grpSpPr>
        <p:grpSp>
          <p:nvGrpSpPr>
            <p:cNvPr id="149" name=""/>
            <p:cNvGrpSpPr/>
            <p:nvPr/>
          </p:nvGrpSpPr>
          <p:grpSpPr>
            <a:xfrm>
              <a:off x="2424240" y="4660920"/>
              <a:ext cx="768240" cy="318960"/>
              <a:chOff x="2424240" y="4660920"/>
              <a:chExt cx="768240" cy="318960"/>
            </a:xfrm>
          </p:grpSpPr>
          <p:sp>
            <p:nvSpPr>
              <p:cNvPr id="150" name=""/>
              <p:cNvSpPr/>
              <p:nvPr/>
            </p:nvSpPr>
            <p:spPr>
              <a:xfrm>
                <a:off x="2508120" y="4660920"/>
                <a:ext cx="5670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490840" y="4660920"/>
                <a:ext cx="31752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2808360" y="4660920"/>
                <a:ext cx="31752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24240" y="497988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808360" y="4424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25640" y="5025960"/>
              <a:ext cx="0" cy="187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60640" y="4400640"/>
            <a:ext cx="770040" cy="831600"/>
            <a:chOff x="3860640" y="4400640"/>
            <a:chExt cx="770040" cy="831600"/>
          </a:xfrm>
        </p:grpSpPr>
        <p:grpSp>
          <p:nvGrpSpPr>
            <p:cNvPr id="157" name=""/>
            <p:cNvGrpSpPr/>
            <p:nvPr/>
          </p:nvGrpSpPr>
          <p:grpSpPr>
            <a:xfrm>
              <a:off x="3860640" y="4648320"/>
              <a:ext cx="770040" cy="336600"/>
              <a:chOff x="3860640" y="4648320"/>
              <a:chExt cx="770040" cy="336600"/>
            </a:xfrm>
          </p:grpSpPr>
          <p:sp>
            <p:nvSpPr>
              <p:cNvPr id="158" name=""/>
              <p:cNvSpPr/>
              <p:nvPr/>
            </p:nvSpPr>
            <p:spPr>
              <a:xfrm>
                <a:off x="3944880" y="4648320"/>
                <a:ext cx="5684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29040" y="4648320"/>
                <a:ext cx="317520" cy="298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4246560" y="4648320"/>
                <a:ext cx="317520" cy="298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860640" y="4984920"/>
                <a:ext cx="7700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4246560" y="4400640"/>
              <a:ext cx="0" cy="1983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62400" y="5033880"/>
              <a:ext cx="0" cy="1983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416560" y="4424400"/>
            <a:ext cx="768240" cy="789120"/>
            <a:chOff x="5416560" y="4424400"/>
            <a:chExt cx="768240" cy="789120"/>
          </a:xfrm>
        </p:grpSpPr>
        <p:grpSp>
          <p:nvGrpSpPr>
            <p:cNvPr id="165" name=""/>
            <p:cNvGrpSpPr/>
            <p:nvPr/>
          </p:nvGrpSpPr>
          <p:grpSpPr>
            <a:xfrm>
              <a:off x="5416560" y="4660920"/>
              <a:ext cx="768240" cy="318960"/>
              <a:chOff x="5416560" y="4660920"/>
              <a:chExt cx="768240" cy="3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5499000" y="4660920"/>
                <a:ext cx="5698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481720" y="4660920"/>
                <a:ext cx="31752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5799240" y="4660920"/>
                <a:ext cx="32040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416560" y="497988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799240" y="4424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6520" y="5025960"/>
              <a:ext cx="0" cy="187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 txBox="1"/>
          <p:nvPr/>
        </p:nvSpPr>
        <p:spPr>
          <a:xfrm>
            <a:off x="1589040" y="5243400"/>
            <a:ext cx="25081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411360" y="5243400"/>
            <a:ext cx="17715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cC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933800" y="5243400"/>
            <a:ext cx="19051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dy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398920" y="2798640"/>
            <a:ext cx="768600" cy="320760"/>
            <a:chOff x="5398920" y="2798640"/>
            <a:chExt cx="768600" cy="320760"/>
          </a:xfrm>
        </p:grpSpPr>
        <p:sp>
          <p:nvSpPr>
            <p:cNvPr id="176" name=""/>
            <p:cNvSpPr/>
            <p:nvPr/>
          </p:nvSpPr>
          <p:spPr>
            <a:xfrm flipH="1">
              <a:off x="5516640" y="3119400"/>
              <a:ext cx="568080" cy="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5784840" y="2836800"/>
              <a:ext cx="317520" cy="28260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5467320" y="2836800"/>
              <a:ext cx="317520" cy="28260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398920" y="2798640"/>
              <a:ext cx="768600" cy="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 flipV="1">
            <a:off x="5816520" y="3165480"/>
            <a:ext cx="0" cy="18900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799240" y="2563920"/>
            <a:ext cx="0" cy="18864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962520" y="2544840"/>
            <a:ext cx="768240" cy="790560"/>
            <a:chOff x="3962520" y="2544840"/>
            <a:chExt cx="768240" cy="790560"/>
          </a:xfrm>
        </p:grpSpPr>
        <p:grpSp>
          <p:nvGrpSpPr>
            <p:cNvPr id="183" name=""/>
            <p:cNvGrpSpPr/>
            <p:nvPr/>
          </p:nvGrpSpPr>
          <p:grpSpPr>
            <a:xfrm>
              <a:off x="3962520" y="2781360"/>
              <a:ext cx="768240" cy="318960"/>
              <a:chOff x="3962520" y="2781360"/>
              <a:chExt cx="768240" cy="318960"/>
            </a:xfrm>
          </p:grpSpPr>
          <p:sp>
            <p:nvSpPr>
              <p:cNvPr id="184" name=""/>
              <p:cNvSpPr/>
              <p:nvPr/>
            </p:nvSpPr>
            <p:spPr>
              <a:xfrm flipH="1">
                <a:off x="4078440" y="3100320"/>
                <a:ext cx="5698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flipV="1">
                <a:off x="434484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402732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3962520" y="278136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 flipV="1">
              <a:off x="4379760" y="3146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362480" y="254484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406600" y="2563920"/>
            <a:ext cx="770040" cy="790560"/>
            <a:chOff x="2406600" y="2563920"/>
            <a:chExt cx="770040" cy="790560"/>
          </a:xfrm>
        </p:grpSpPr>
        <p:grpSp>
          <p:nvGrpSpPr>
            <p:cNvPr id="191" name=""/>
            <p:cNvGrpSpPr/>
            <p:nvPr/>
          </p:nvGrpSpPr>
          <p:grpSpPr>
            <a:xfrm>
              <a:off x="2406600" y="2798640"/>
              <a:ext cx="770040" cy="320760"/>
              <a:chOff x="2406600" y="2798640"/>
              <a:chExt cx="770040" cy="320760"/>
            </a:xfrm>
          </p:grpSpPr>
          <p:sp>
            <p:nvSpPr>
              <p:cNvPr id="192" name=""/>
              <p:cNvSpPr/>
              <p:nvPr/>
            </p:nvSpPr>
            <p:spPr>
              <a:xfrm flipH="1">
                <a:off x="2525760" y="3119400"/>
                <a:ext cx="5666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flipV="1">
                <a:off x="2792520" y="283680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2475000" y="283680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2406600" y="2798640"/>
                <a:ext cx="7700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 flipV="1">
              <a:off x="2825640" y="316548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808360" y="2563920"/>
              <a:ext cx="0" cy="18864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 txBox="1"/>
          <p:nvPr/>
        </p:nvSpPr>
        <p:spPr>
          <a:xfrm>
            <a:off x="4732200" y="1954080"/>
            <a:ext cx="212400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111480" y="2152800"/>
            <a:ext cx="24400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u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722600" y="2152800"/>
            <a:ext cx="20923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lm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400800" y="3579840"/>
            <a:ext cx="336600" cy="506520"/>
            <a:chOff x="6400800" y="3579840"/>
            <a:chExt cx="336600" cy="506520"/>
          </a:xfrm>
        </p:grpSpPr>
        <p:sp>
          <p:nvSpPr>
            <p:cNvPr id="202" name=""/>
            <p:cNvSpPr/>
            <p:nvPr/>
          </p:nvSpPr>
          <p:spPr>
            <a:xfrm flipH="1">
              <a:off x="6400800" y="357984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400800" y="366408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6400800" y="374796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400800" y="383220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400800" y="391788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400800" y="400212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6400800" y="408636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 txBox="1"/>
          <p:nvPr/>
        </p:nvSpPr>
        <p:spPr>
          <a:xfrm>
            <a:off x="6324480" y="3363840"/>
            <a:ext cx="220968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198520" y="3368520"/>
            <a:ext cx="1652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2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AT&amp;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357800" y="3368520"/>
            <a:ext cx="1652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Lu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65560" y="3371760"/>
            <a:ext cx="0" cy="9716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emote Attacks are Eas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5412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tacks can be laundered through many host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anonym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average defender is clu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4976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ceback can be very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ueless I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gnorant law enfor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eaties with foreig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y not be against the local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acker may cease attack before traceback is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onocultur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mall set of target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ke planting Kansas with a single strain of wheat, or vineyards with a single root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ners develop attack software for the rest of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Unsafe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5412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Use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Poorly wri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Poor aud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ound in most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afer services and protocols are r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Vendors sell flaw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Users don’t fix h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Host-base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security is usually br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48320" y="1308240"/>
            <a:ext cx="38433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ecurity requires discipline: not found in market l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Unsafe Servic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ome Typical Err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checked user input submitted to the shell or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ldcard and escape characters take over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GI 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put string length is not che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ring buffer overrun corrupts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ller supplies assembly code, and jumps to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ger (Morris worm), early Netscape, statd (lat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ret options, commands, or back d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BUG and others in send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Unsafe Servic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ivileged programs are much too lar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ndmail is tens of thousands of lines of complex code, running a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scape browser/communicator is h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rating systems are h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atures are never retired, only a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hort, simple program is hard to get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Unsafe Protoc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swords transmitted in the 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llenge/response is better, though subject to dictionary att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KE can hide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hine generated passwords are better, but require devices or print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ress-based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 be OK in controlled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NS and routing attacks can fool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eakest Link Compromis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any targ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5412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ulnerabilities are common in network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break-in comprom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est of the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host’s net (via sniff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usting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4976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vital” targets may be v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saf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Host with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TCP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3600" y="312408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327672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43600" y="342900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943600" y="358128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43600" y="373392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ome Internet Basic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ternet commun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85880" y="1905120"/>
            <a:ext cx="238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828800"/>
            <a:ext cx="2590920" cy="25146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422440"/>
            <a:ext cx="2590920" cy="6858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3657600"/>
            <a:ext cx="2590920" cy="6858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20760" y="2590920"/>
            <a:ext cx="1522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CP/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43120" y="3200400"/>
            <a:ext cx="47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28680" y="3733920"/>
            <a:ext cx="150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638680" y="1828800"/>
            <a:ext cx="2590920" cy="2514600"/>
            <a:chOff x="5638680" y="1828800"/>
            <a:chExt cx="2590920" cy="2514600"/>
          </a:xfrm>
        </p:grpSpPr>
        <p:sp>
          <p:nvSpPr>
            <p:cNvPr id="97" name=""/>
            <p:cNvSpPr txBox="1"/>
            <p:nvPr/>
          </p:nvSpPr>
          <p:spPr>
            <a:xfrm>
              <a:off x="5738760" y="1905120"/>
              <a:ext cx="2387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38680" y="1828800"/>
              <a:ext cx="2590920" cy="2514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638680" y="2422440"/>
              <a:ext cx="2590920" cy="685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38680" y="3657600"/>
              <a:ext cx="2590920" cy="685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6173640" y="2590920"/>
              <a:ext cx="15224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/U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6696000" y="3200400"/>
              <a:ext cx="471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6181560" y="3733920"/>
              <a:ext cx="1504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057400" y="4343400"/>
            <a:ext cx="1447920" cy="83808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029200" y="4343400"/>
            <a:ext cx="1371600" cy="83808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4800600"/>
            <a:ext cx="1523880" cy="68580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662280" y="4952880"/>
            <a:ext cx="121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Host with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TCP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43600" y="312408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327672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943600" y="342900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358128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373392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267080" y="3733920"/>
            <a:ext cx="1676520" cy="160020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467000" y="1741320"/>
            <a:ext cx="653400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ftp     stream  tcp     nowait  root    /v/gate/ft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telnet  stream  tcp     nowait  root    /usr/etc/telne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hell   stream  tcp     nowait  root    /usr/etc/rsh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login   stream  tcp     nowait  root    /usr/etc/rlogi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xec    stream  tcp     nowait  root    /usr/etc/rexec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finger  stream  tcp     nowait  guest   /usr/etc/finge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bootp   dgram   udp     wait    root    /usr/etc/boot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tftp    dgram   udp     wait    guest   /usr/etc/tftp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ntalk   dgram   udp     wait    root    /usr/etc/talk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cho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discard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gen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daytime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ime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cho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discard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gen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daytime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ime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-dgl stream  tcp     nowait  root/rcv dg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uucp   stream  tcp      nowait  root    /usr/lib/uucp/uuc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efault servic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GI works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ore default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81080" y="1909800"/>
            <a:ext cx="754704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mountd/1    stream  rpc/tc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mountd/1    dgram 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mountd/1 stream rpc/tc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mountd/1 dgram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statd/1-3  dgram   rpc/udp wait       root    rpc.rstat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walld/1     dgram   rpc/udp wait       root    rpc.rwal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usersd/1   dgram   rpc/udp wait       root    rpc.rusers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quotad/1   dgram   rpc/udp wait       root    rpc.rquota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prayd/1    dgram   rpc/udp wait       root    rpc.spray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bootparam/1 dgram   rpc/udp wait       root    rpc.bootpara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videod/1 stream rpc/tcp wait       root    ?videod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fam/1   stream  rpc/tcp wait       root    ?fam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snoopd/1 stream rpc/tcp wait       root    ?rpc.snoop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pcsd/1  dgram   rpc/udp wait       root    ?cvpcs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pod/1   stream  rpc/tcp wait       root    ?podd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/sgi_scanner stream tcp nowait   root    ?scan/net/scanne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/sgi_printer stream tcp nowait   root    ?print/printe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9fs         stream  tcp     nowait     root    /v/bin/u9fs u9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webproxy    stream  tcp     nowait     root    /usr/local/etc/webse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Dangerous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5412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el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N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ecure” 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rlogin/rsh/r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X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976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(web serv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hy are they insecu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5412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l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ocol leaks pass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ject to hij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ocol leaks pass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ject to hij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gs i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64976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 handle gives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R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ress-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be foo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ure R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ographically w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hy are they insecu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5412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login, rsh, r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ressed-based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ject to hij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text leaks secr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l can be taken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al keystro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64976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che wrong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ack address-based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b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ten bug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 to set up saf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GI scripts dange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ow Do They Find Dangerous Por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rt scan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lf-open (SYN-only) scanners often don’t show up in 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er to scan for UDP services, but not by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afer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5412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Kerb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Kerberiz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uthenticat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get/c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tage/un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976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mmercial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Net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Open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ustom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rtable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angerous services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ortable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veX^H^H^H^H^H^H^HCOM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pplication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976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lks to a host with some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CP supplies a reliable connection to the other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y one can invent a new protocol between two ho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11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here do Programs Ru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590920" y="1752480"/>
            <a:ext cx="3886200" cy="3733920"/>
            <a:chOff x="2590920" y="1752480"/>
            <a:chExt cx="3886200" cy="3733920"/>
          </a:xfrm>
        </p:grpSpPr>
        <p:sp>
          <p:nvSpPr>
            <p:cNvPr id="283" name=""/>
            <p:cNvSpPr/>
            <p:nvPr/>
          </p:nvSpPr>
          <p:spPr>
            <a:xfrm>
              <a:off x="3505320" y="2590920"/>
              <a:ext cx="2133720" cy="2057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90920" y="1752480"/>
              <a:ext cx="3886200" cy="3733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03880" y="1965240"/>
              <a:ext cx="1233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3790800" y="3230640"/>
              <a:ext cx="15667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rne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3530520" y="1935000"/>
              <a:ext cx="193356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here do Programs Ru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590920" y="1752480"/>
            <a:ext cx="3886200" cy="3733920"/>
            <a:chOff x="2590920" y="1752480"/>
            <a:chExt cx="3886200" cy="3733920"/>
          </a:xfrm>
        </p:grpSpPr>
        <p:sp>
          <p:nvSpPr>
            <p:cNvPr id="290" name=""/>
            <p:cNvSpPr/>
            <p:nvPr/>
          </p:nvSpPr>
          <p:spPr>
            <a:xfrm>
              <a:off x="3505320" y="2590920"/>
              <a:ext cx="2133720" cy="2057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90920" y="1752480"/>
              <a:ext cx="3886200" cy="3733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03880" y="1965240"/>
              <a:ext cx="1233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3790800" y="3230640"/>
              <a:ext cx="15667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rne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3530520" y="1935000"/>
              <a:ext cx="193356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 txBox="1"/>
          <p:nvPr/>
        </p:nvSpPr>
        <p:spPr>
          <a:xfrm>
            <a:off x="2459160" y="5532480"/>
            <a:ext cx="42480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c90e0a"/>
                </a:solidFill>
                <a:latin typeface="Arial"/>
                <a:ea typeface="Arial"/>
              </a:rPr>
              <a:t>This model is wr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6320" y="76320"/>
            <a:ext cx="89917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pplets run in an incompletely-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efined enviro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55760" y="1812960"/>
            <a:ext cx="12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05320" y="2590920"/>
            <a:ext cx="2133720" cy="205740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90920" y="1752480"/>
            <a:ext cx="3886200" cy="373392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403880" y="1965240"/>
            <a:ext cx="12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790800" y="1935000"/>
            <a:ext cx="1566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606840" y="3306600"/>
            <a:ext cx="1933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Java’s “sandbox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incompletely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 be different for each ven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ten optimized for speed, not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4976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ws “native methods”, which can break the security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iv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Java, but no sandbox at 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niffing at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“eavesdropping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Host with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TCP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267080" y="2973240"/>
            <a:ext cx="0" cy="2360880"/>
          </a:xfrm>
          <a:prstGeom prst="line">
            <a:avLst/>
          </a:prstGeom>
          <a:ln w="255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thernet and Passwo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5412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s never secure from eavesdr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niffing” tools are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ab host name, user name, and pass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eck any hacker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dit card numbers are e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64976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 1,000,000 captured in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It doesn’t matter how good your password is if it can be sniff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ll in wide use - even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Hardware tokens are one solution to sniffed passwo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965160" y="1336680"/>
            <a:ext cx="2165400" cy="36226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95400" y="5257800"/>
            <a:ext cx="386712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Digital Pathw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NK-0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648320" y="1308240"/>
            <a:ext cx="38433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ecur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ime-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/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oftware or printout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Man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usually proprietary server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One-time Passwo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581120" y="1881360"/>
            <a:ext cx="6496200" cy="39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C/os (i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hentication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?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er response code for 70202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04432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tination?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e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P Spoo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trusted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C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ts up “circuit” between client and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eaks a stream of data into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ssembles packets into a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rvices 1 - 655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18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TCP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P Spoof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eats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address-based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.e. rlogin, rsh, tcp wrap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on tools available to the ha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y don’t have to be TCP/IP 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was used to crack Tsutomu Shimomura’s machines in “Takedow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bert Morris Jr. wrote a paper on this in 19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ve Bellovin republished it in 19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st known use in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Normal TCP connection,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initial SYN pack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449440" y="2270160"/>
            <a:ext cx="1652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YN,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Response to Open, connection is “half ope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449440" y="2270160"/>
            <a:ext cx="1652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YN,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00720" y="2879640"/>
            <a:ext cx="21286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YN,AC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Client completes handshake, TCP connection is now o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449440" y="2270160"/>
            <a:ext cx="1652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YN,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00720" y="2879640"/>
            <a:ext cx="21286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YN,AC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500200" y="3641760"/>
            <a:ext cx="24764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C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Determine Likely 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Arial"/>
              </a:rPr>
              <a:t>SEQ</a:t>
            </a:r>
            <a:r>
              <a:rPr b="1" lang="en-US" sz="26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419720" y="2971800"/>
            <a:ext cx="2209680" cy="236232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724280" y="3276720"/>
            <a:ext cx="1905120" cy="205740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029200" y="3581280"/>
            <a:ext cx="1600200" cy="175284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5334120" y="3886200"/>
            <a:ext cx="1295280" cy="144792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5562720" y="4191120"/>
            <a:ext cx="1066680" cy="121896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ppress the Trusted Cl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2438280" y="3429000"/>
            <a:ext cx="1600200" cy="1905120"/>
          </a:xfrm>
          <a:prstGeom prst="line">
            <a:avLst/>
          </a:prstGeom>
          <a:ln w="255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222720" y="3351240"/>
            <a:ext cx="30052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killer pa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or SYN att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ppress the Trusted Cl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914400" y="2057400"/>
            <a:ext cx="914400" cy="914400"/>
            <a:chOff x="914400" y="2057400"/>
            <a:chExt cx="914400" cy="914400"/>
          </a:xfrm>
        </p:grpSpPr>
        <p:sp>
          <p:nvSpPr>
            <p:cNvPr id="386" name=""/>
            <p:cNvSpPr/>
            <p:nvPr/>
          </p:nvSpPr>
          <p:spPr>
            <a:xfrm>
              <a:off x="914400" y="2057400"/>
              <a:ext cx="914400" cy="91440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Attacker opens connection “from” trusted cl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914400" y="2057400"/>
            <a:ext cx="914400" cy="914400"/>
            <a:chOff x="914400" y="2057400"/>
            <a:chExt cx="914400" cy="914400"/>
          </a:xfrm>
        </p:grpSpPr>
        <p:sp>
          <p:nvSpPr>
            <p:cNvPr id="396" name=""/>
            <p:cNvSpPr/>
            <p:nvPr/>
          </p:nvSpPr>
          <p:spPr>
            <a:xfrm>
              <a:off x="914400" y="2057400"/>
              <a:ext cx="914400" cy="91440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 txBox="1"/>
          <p:nvPr/>
        </p:nvSpPr>
        <p:spPr>
          <a:xfrm>
            <a:off x="1382760" y="4724280"/>
            <a:ext cx="1652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SYN,SEQ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048120" y="2590920"/>
            <a:ext cx="3581640" cy="2743560"/>
          </a:xfrm>
          <a:custGeom>
            <a:avLst/>
            <a:gdLst/>
            <a:ahLst/>
            <a:rect l="0" t="0" r="r" b="b"/>
            <a:pathLst>
              <a:path fill="none" w="9949" h="7621">
                <a:moveTo>
                  <a:pt x="9949" y="0"/>
                </a:moveTo>
                <a:lnTo>
                  <a:pt x="9949" y="0"/>
                </a:lnTo>
                <a:cubicBezTo>
                  <a:pt x="8203" y="0"/>
                  <a:pt x="6487" y="352"/>
                  <a:pt x="4974" y="1021"/>
                </a:cubicBezTo>
                <a:cubicBezTo>
                  <a:pt x="3462" y="1690"/>
                  <a:pt x="2206" y="2652"/>
                  <a:pt x="1333" y="3811"/>
                </a:cubicBezTo>
                <a:cubicBezTo>
                  <a:pt x="460" y="4969"/>
                  <a:pt x="0" y="6283"/>
                  <a:pt x="0" y="7621"/>
                </a:cubicBezTo>
              </a:path>
            </a:pathLst>
          </a:custGeom>
          <a:ln w="25560">
            <a:solidFill>
              <a:srgbClr val="a50021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Open seems to come from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trusted cli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914400" y="2057400"/>
            <a:ext cx="914400" cy="914400"/>
            <a:chOff x="914400" y="2057400"/>
            <a:chExt cx="914400" cy="914400"/>
          </a:xfrm>
        </p:grpSpPr>
        <p:sp>
          <p:nvSpPr>
            <p:cNvPr id="408" name=""/>
            <p:cNvSpPr/>
            <p:nvPr/>
          </p:nvSpPr>
          <p:spPr>
            <a:xfrm>
              <a:off x="914400" y="2057400"/>
              <a:ext cx="914400" cy="91440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"/>
          <p:cNvSpPr txBox="1"/>
          <p:nvPr/>
        </p:nvSpPr>
        <p:spPr>
          <a:xfrm>
            <a:off x="1382760" y="4724280"/>
            <a:ext cx="1652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SYN,SEQ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048120" y="2590920"/>
            <a:ext cx="3581640" cy="2743560"/>
          </a:xfrm>
          <a:custGeom>
            <a:avLst/>
            <a:gdLst/>
            <a:ahLst/>
            <a:rect l="0" t="0" r="r" b="b"/>
            <a:pathLst>
              <a:path fill="none" w="9949" h="7621">
                <a:moveTo>
                  <a:pt x="9949" y="0"/>
                </a:moveTo>
                <a:lnTo>
                  <a:pt x="9949" y="0"/>
                </a:lnTo>
                <a:cubicBezTo>
                  <a:pt x="8203" y="0"/>
                  <a:pt x="6487" y="352"/>
                  <a:pt x="4974" y="1021"/>
                </a:cubicBezTo>
                <a:cubicBezTo>
                  <a:pt x="3462" y="1690"/>
                  <a:pt x="2206" y="2652"/>
                  <a:pt x="1333" y="3811"/>
                </a:cubicBezTo>
                <a:cubicBezTo>
                  <a:pt x="460" y="4969"/>
                  <a:pt x="0" y="6283"/>
                  <a:pt x="0" y="7621"/>
                </a:cubicBezTo>
              </a:path>
            </a:pathLst>
          </a:custGeom>
          <a:ln w="25560">
            <a:solidFill>
              <a:srgbClr val="a50021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erver responds to dead cl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914400" y="2057400"/>
            <a:ext cx="914400" cy="914400"/>
            <a:chOff x="914400" y="2057400"/>
            <a:chExt cx="914400" cy="914400"/>
          </a:xfrm>
        </p:grpSpPr>
        <p:sp>
          <p:nvSpPr>
            <p:cNvPr id="421" name=""/>
            <p:cNvSpPr/>
            <p:nvPr/>
          </p:nvSpPr>
          <p:spPr>
            <a:xfrm>
              <a:off x="914400" y="2057400"/>
              <a:ext cx="914400" cy="91440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00720" y="2879640"/>
            <a:ext cx="21286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YN,AC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UD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4976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nectionless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error 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itable for some network services that don’t have to be reliable, like 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rvices are numb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25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 or </a:t>
              </a: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poof final open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914400" y="2057400"/>
            <a:ext cx="914400" cy="914400"/>
            <a:chOff x="914400" y="2057400"/>
            <a:chExt cx="914400" cy="914400"/>
          </a:xfrm>
        </p:grpSpPr>
        <p:sp>
          <p:nvSpPr>
            <p:cNvPr id="434" name=""/>
            <p:cNvSpPr/>
            <p:nvPr/>
          </p:nvSpPr>
          <p:spPr>
            <a:xfrm>
              <a:off x="914400" y="2057400"/>
              <a:ext cx="914400" cy="91440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019400" y="4465800"/>
            <a:ext cx="24764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AC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SEQ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505320" y="4191120"/>
            <a:ext cx="3048480" cy="1143360"/>
          </a:xfrm>
          <a:custGeom>
            <a:avLst/>
            <a:gdLst/>
            <a:ahLst/>
            <a:rect l="0" t="0" r="r" b="b"/>
            <a:pathLst>
              <a:path fill="none" w="8468" h="3176">
                <a:moveTo>
                  <a:pt x="8468" y="0"/>
                </a:moveTo>
                <a:lnTo>
                  <a:pt x="8468" y="0"/>
                </a:lnTo>
                <a:cubicBezTo>
                  <a:pt x="6982" y="0"/>
                  <a:pt x="5521" y="147"/>
                  <a:pt x="4234" y="426"/>
                </a:cubicBezTo>
                <a:cubicBezTo>
                  <a:pt x="2947" y="704"/>
                  <a:pt x="1878" y="1105"/>
                  <a:pt x="1134" y="1588"/>
                </a:cubicBezTo>
                <a:cubicBezTo>
                  <a:pt x="391" y="2071"/>
                  <a:pt x="0" y="2618"/>
                  <a:pt x="0" y="3176"/>
                </a:cubicBezTo>
              </a:path>
            </a:pathLst>
          </a:custGeom>
          <a:ln w="25560">
            <a:solidFill>
              <a:srgbClr val="a50021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“Open” is compl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914400" y="2057400"/>
            <a:ext cx="914400" cy="914400"/>
            <a:chOff x="914400" y="2057400"/>
            <a:chExt cx="914400" cy="914400"/>
          </a:xfrm>
        </p:grpSpPr>
        <p:sp>
          <p:nvSpPr>
            <p:cNvPr id="448" name=""/>
            <p:cNvSpPr/>
            <p:nvPr/>
          </p:nvSpPr>
          <p:spPr>
            <a:xfrm>
              <a:off x="914400" y="2057400"/>
              <a:ext cx="914400" cy="91440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05320" y="4191120"/>
            <a:ext cx="3048480" cy="1143360"/>
          </a:xfrm>
          <a:custGeom>
            <a:avLst/>
            <a:gdLst/>
            <a:ahLst/>
            <a:rect l="0" t="0" r="r" b="b"/>
            <a:pathLst>
              <a:path fill="none" w="8468" h="3176">
                <a:moveTo>
                  <a:pt x="8468" y="0"/>
                </a:moveTo>
                <a:lnTo>
                  <a:pt x="8468" y="0"/>
                </a:lnTo>
                <a:cubicBezTo>
                  <a:pt x="6982" y="0"/>
                  <a:pt x="5521" y="147"/>
                  <a:pt x="4234" y="426"/>
                </a:cubicBezTo>
                <a:cubicBezTo>
                  <a:pt x="2947" y="704"/>
                  <a:pt x="1878" y="1105"/>
                  <a:pt x="1134" y="1588"/>
                </a:cubicBezTo>
                <a:cubicBezTo>
                  <a:pt x="391" y="2071"/>
                  <a:pt x="0" y="2618"/>
                  <a:pt x="0" y="3176"/>
                </a:cubicBezTo>
              </a:path>
            </a:pathLst>
          </a:custGeom>
          <a:ln w="25560">
            <a:solidFill>
              <a:srgbClr val="a50021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Open Server to outside ac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914400" y="2057400"/>
            <a:ext cx="914400" cy="914400"/>
            <a:chOff x="914400" y="2057400"/>
            <a:chExt cx="914400" cy="914400"/>
          </a:xfrm>
        </p:grpSpPr>
        <p:sp>
          <p:nvSpPr>
            <p:cNvPr id="462" name=""/>
            <p:cNvSpPr/>
            <p:nvPr/>
          </p:nvSpPr>
          <p:spPr>
            <a:xfrm>
              <a:off x="914400" y="2057400"/>
              <a:ext cx="914400" cy="91440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800600" y="4191120"/>
            <a:ext cx="1752840" cy="1143360"/>
          </a:xfrm>
          <a:custGeom>
            <a:avLst/>
            <a:gdLst/>
            <a:ahLst/>
            <a:rect l="0" t="0" r="r" b="b"/>
            <a:pathLst>
              <a:path fill="none" w="4869" h="3176">
                <a:moveTo>
                  <a:pt x="4869" y="0"/>
                </a:moveTo>
                <a:lnTo>
                  <a:pt x="4869" y="0"/>
                </a:lnTo>
                <a:cubicBezTo>
                  <a:pt x="4014" y="0"/>
                  <a:pt x="3175" y="147"/>
                  <a:pt x="2434" y="426"/>
                </a:cubicBezTo>
                <a:cubicBezTo>
                  <a:pt x="1694" y="704"/>
                  <a:pt x="1080" y="1105"/>
                  <a:pt x="652" y="1588"/>
                </a:cubicBezTo>
                <a:cubicBezTo>
                  <a:pt x="225" y="2071"/>
                  <a:pt x="0" y="2618"/>
                  <a:pt x="0" y="3176"/>
                </a:cubicBezTo>
              </a:path>
            </a:pathLst>
          </a:custGeom>
          <a:ln w="25560">
            <a:solidFill>
              <a:srgbClr val="a50021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5146560" y="4770360"/>
            <a:ext cx="328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evil trusted comman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eventing IP spoof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oofing can be stopped at the pe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internal addresses accepted from the outsid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lps to have a coherent address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firewall can prevent access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ress-based authentication is a BAD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CP hij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Attacker is watching an existing connection,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perhaps through the strong authentication st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38160">
            <a:solidFill>
              <a:srgbClr val="0099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4800" y="2971800"/>
            <a:ext cx="0" cy="2362320"/>
          </a:xfrm>
          <a:prstGeom prst="line">
            <a:avLst/>
          </a:prstGeom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Kill the client connection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38160">
            <a:solidFill>
              <a:srgbClr val="0099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2971800"/>
            <a:ext cx="0" cy="2362320"/>
          </a:xfrm>
          <a:prstGeom prst="line">
            <a:avLst/>
          </a:prstGeom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 flipV="1">
            <a:off x="2438280" y="2971800"/>
            <a:ext cx="1600200" cy="2362320"/>
          </a:xfrm>
          <a:prstGeom prst="line">
            <a:avLst/>
          </a:prstGeom>
          <a:ln w="255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225360" y="4494240"/>
            <a:ext cx="25988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killer pa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…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and continue the conn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62520" y="2743200"/>
            <a:ext cx="2667240" cy="2591280"/>
          </a:xfrm>
          <a:custGeom>
            <a:avLst/>
            <a:gdLst/>
            <a:ahLst/>
            <a:rect l="0" t="0" r="r" b="b"/>
            <a:pathLst>
              <a:path fill="none" w="7409" h="7198">
                <a:moveTo>
                  <a:pt x="7409" y="0"/>
                </a:moveTo>
                <a:lnTo>
                  <a:pt x="7409" y="0"/>
                </a:lnTo>
                <a:cubicBezTo>
                  <a:pt x="6108" y="0"/>
                  <a:pt x="4831" y="333"/>
                  <a:pt x="3704" y="964"/>
                </a:cubicBezTo>
                <a:cubicBezTo>
                  <a:pt x="2578" y="1596"/>
                  <a:pt x="1643" y="2505"/>
                  <a:pt x="993" y="3599"/>
                </a:cubicBezTo>
                <a:cubicBezTo>
                  <a:pt x="342" y="4693"/>
                  <a:pt x="0" y="5934"/>
                  <a:pt x="0" y="7198"/>
                </a:cubicBezTo>
              </a:path>
            </a:pathLst>
          </a:custGeom>
          <a:ln w="38160">
            <a:solidFill>
              <a:srgbClr val="009900"/>
            </a:solidFill>
            <a:round/>
            <a:headEnd len="med" type="triangle" w="med"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2362320" y="2743200"/>
            <a:ext cx="4190760" cy="0"/>
          </a:xfrm>
          <a:prstGeom prst="line">
            <a:avLst/>
          </a:prstGeom>
          <a:ln w="25560">
            <a:solidFill>
              <a:srgbClr val="009900"/>
            </a:solidFill>
            <a:custDash>
              <a:ds d="198592" sp="198592"/>
              <a:ds d="100000" sp="198592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2057400" y="2438280"/>
            <a:ext cx="685800" cy="685800"/>
            <a:chOff x="2057400" y="2438280"/>
            <a:chExt cx="685800" cy="685800"/>
          </a:xfrm>
        </p:grpSpPr>
        <p:sp>
          <p:nvSpPr>
            <p:cNvPr id="503" name=""/>
            <p:cNvSpPr/>
            <p:nvPr/>
          </p:nvSpPr>
          <p:spPr>
            <a:xfrm>
              <a:off x="2057400" y="2438280"/>
              <a:ext cx="685800" cy="68580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28760" y="2552760"/>
              <a:ext cx="343080" cy="457200"/>
            </a:xfrm>
            <a:prstGeom prst="line">
              <a:avLst/>
            </a:prstGeom>
            <a:ln w="763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CP hijac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kes over an existing, authenticated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s access to the packet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on tools are available to the hackers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graphic signatures of packets can defeat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ial of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976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ckets have limited 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y be dropped in transit if 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y arrive out of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y be du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ressing by IP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32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Host with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TCP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438280" y="2971800"/>
            <a:ext cx="3124440" cy="0"/>
          </a:xfrm>
          <a:prstGeom prst="line">
            <a:avLst/>
          </a:prstGeom>
          <a:ln w="255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4267080" y="3048120"/>
            <a:ext cx="2362320" cy="228600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4495680" y="3048120"/>
            <a:ext cx="2133720" cy="228600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4724280" y="3048120"/>
            <a:ext cx="1905120" cy="228600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4952880" y="3048120"/>
            <a:ext cx="1676520" cy="228600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5181480" y="2971800"/>
            <a:ext cx="1447920" cy="236232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5410080" y="3048120"/>
            <a:ext cx="1219320" cy="228600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3962520" y="3048120"/>
            <a:ext cx="2666880" cy="228600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enial-of-service Att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your face - not subtle like traditional hacking at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om packets are very hard to 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go on for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tackers can exploit poor local software o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mply flood the site’s network with incoming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These attacks are </a:t>
            </a:r>
            <a:r>
              <a:rPr b="1" i="1" lang="en-US" sz="2400" spc="-1" strike="noStrike" u="sng">
                <a:solidFill>
                  <a:srgbClr val="009900"/>
                </a:solidFill>
                <a:uFillTx/>
                <a:latin typeface="Arial"/>
                <a:ea typeface="Arial"/>
              </a:rPr>
              <a:t>always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 possible on a public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ial of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YN packet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Normal TCP o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449440" y="2270160"/>
            <a:ext cx="1652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YN,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00720" y="2879640"/>
            <a:ext cx="21286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YN,AC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2500200" y="3641760"/>
            <a:ext cx="24764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C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Normal TCP o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781680" y="2765520"/>
            <a:ext cx="22096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half-op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&lt;300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934320" y="2666880"/>
            <a:ext cx="0" cy="1524240"/>
          </a:xfrm>
          <a:prstGeom prst="line">
            <a:avLst/>
          </a:prstGeom>
          <a:ln w="12600">
            <a:solidFill>
              <a:srgbClr val="0000ff"/>
            </a:solidFill>
            <a:custDash>
              <a:ds d="402857" sp="402857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YN Att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65412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rst seen at Panix.com in fall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lf-open processing was implemented poo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dratic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n’t much call for improving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’ve been expectin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nly thing we left out of our firewalls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moved at the last min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knew of no goo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are sorry we left it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648320" y="1308240"/>
            <a:ext cx="38433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new one has appeared in fall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N with same source and destination address kills some TCP/IP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There will be more attacks on TCP/IP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lots of code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hard to test code in a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ial of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ing flood (smur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dentify ping genera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et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943600" y="35053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934320" y="34290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029200" y="4876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181480" y="29718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267080" y="2590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267080" y="30481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267080" y="35812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495680" y="54864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343400" y="46483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971800" y="28954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133720" y="24382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3733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248520" y="3581280"/>
            <a:ext cx="68580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5486400" y="32004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5257800" y="3733920"/>
            <a:ext cx="762120" cy="121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4648320" y="4876920"/>
            <a:ext cx="38088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4724280" y="518148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4572000" y="320040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572000" y="312408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H="1" flipV="1">
            <a:off x="4572000" y="281952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4114800" y="1828800"/>
            <a:ext cx="22860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3048120" y="2209680"/>
            <a:ext cx="121896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 flipV="1">
            <a:off x="3276720" y="3048120"/>
            <a:ext cx="99036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 flipV="1">
            <a:off x="2438280" y="266688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362320" y="3124080"/>
            <a:ext cx="60948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3581280" y="37339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 flipV="1">
            <a:off x="1523880" y="182880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1371600" y="2666880"/>
            <a:ext cx="76212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1143000" y="3352680"/>
            <a:ext cx="99072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 flipV="1">
            <a:off x="2666880" y="3581280"/>
            <a:ext cx="60984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2971800" y="39625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 flipV="1">
            <a:off x="3962520" y="4495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962520" y="480060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886200" y="49528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3809880" y="55627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4191120" y="57150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227720" y="3154320"/>
            <a:ext cx="83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533680" y="43275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381400" y="34131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781200" y="34131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238400" y="15843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2685960" y="19652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210200" y="35654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495680" y="3886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429000" y="2895480"/>
            <a:ext cx="91440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495680" y="32767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rigger packets with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poofed return add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43600" y="35053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934320" y="34290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029200" y="4876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181480" y="29718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267080" y="2590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67080" y="30481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67080" y="35812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495680" y="54864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343400" y="46483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971800" y="28954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133720" y="24382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276720" y="3733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6248520" y="3581280"/>
            <a:ext cx="68580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5486400" y="32004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257800" y="3733920"/>
            <a:ext cx="762120" cy="121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4648320" y="4876920"/>
            <a:ext cx="38088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724280" y="518148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4572000" y="320040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4572000" y="312408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4572000" y="281952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 flipV="1">
            <a:off x="4114800" y="1828800"/>
            <a:ext cx="22860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3048120" y="2209680"/>
            <a:ext cx="121896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 flipV="1">
            <a:off x="3276720" y="3048120"/>
            <a:ext cx="99036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 flipV="1">
            <a:off x="2438280" y="266688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2362320" y="3124080"/>
            <a:ext cx="60948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581280" y="37339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 flipV="1">
            <a:off x="1523880" y="182880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1371600" y="2666880"/>
            <a:ext cx="76212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1143000" y="3352680"/>
            <a:ext cx="99072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 flipV="1">
            <a:off x="2666880" y="3581280"/>
            <a:ext cx="60984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2971800" y="39625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H="1" flipV="1">
            <a:off x="3962520" y="4495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3962520" y="480060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3886200" y="49528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 flipV="1">
            <a:off x="3809880" y="55627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4191120" y="57150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7227720" y="3154320"/>
            <a:ext cx="83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6162840" y="5234040"/>
            <a:ext cx="933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2533680" y="43275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2381400" y="34131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781200" y="34131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238400" y="15843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2685960" y="19652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210200" y="35654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0" y="3733920"/>
            <a:ext cx="1981440" cy="1448280"/>
          </a:xfrm>
          <a:custGeom>
            <a:avLst/>
            <a:gdLst/>
            <a:ahLst/>
            <a:rect l="0" t="0" r="r" b="b"/>
            <a:pathLst>
              <a:path fill="none" w="5504" h="4023">
                <a:moveTo>
                  <a:pt x="5504" y="4023"/>
                </a:moveTo>
                <a:lnTo>
                  <a:pt x="5504" y="4023"/>
                </a:lnTo>
                <a:lnTo>
                  <a:pt x="5504" y="4023"/>
                </a:lnTo>
                <a:cubicBezTo>
                  <a:pt x="5504" y="3317"/>
                  <a:pt x="5250" y="2623"/>
                  <a:pt x="4767" y="2011"/>
                </a:cubicBezTo>
                <a:cubicBezTo>
                  <a:pt x="4284" y="1400"/>
                  <a:pt x="3589" y="892"/>
                  <a:pt x="2752" y="539"/>
                </a:cubicBezTo>
                <a:cubicBezTo>
                  <a:pt x="1915" y="186"/>
                  <a:pt x="966" y="0"/>
                  <a:pt x="0" y="0"/>
                </a:cubicBezTo>
              </a:path>
            </a:pathLst>
          </a:custGeom>
          <a:ln w="25560">
            <a:solidFill>
              <a:srgbClr val="ff0033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742840" y="3886200"/>
            <a:ext cx="3811320" cy="1328760"/>
          </a:xfrm>
          <a:custGeom>
            <a:avLst/>
            <a:gdLst/>
            <a:ahLst/>
            <a:rect l="0" t="0" r="r" b="b"/>
            <a:pathLst>
              <a:path fill="none" w="10587" h="3691">
                <a:moveTo>
                  <a:pt x="10587" y="3691"/>
                </a:moveTo>
                <a:lnTo>
                  <a:pt x="10587" y="3691"/>
                </a:lnTo>
                <a:cubicBezTo>
                  <a:pt x="10515" y="3099"/>
                  <a:pt x="10254" y="2526"/>
                  <a:pt x="9821" y="2012"/>
                </a:cubicBezTo>
                <a:cubicBezTo>
                  <a:pt x="9306" y="1400"/>
                  <a:pt x="8565" y="893"/>
                  <a:pt x="7673" y="539"/>
                </a:cubicBezTo>
                <a:cubicBezTo>
                  <a:pt x="6781" y="186"/>
                  <a:pt x="5770" y="0"/>
                  <a:pt x="4740" y="0"/>
                </a:cubicBezTo>
                <a:cubicBezTo>
                  <a:pt x="3710" y="0"/>
                  <a:pt x="2698" y="186"/>
                  <a:pt x="1806" y="539"/>
                </a:cubicBezTo>
                <a:cubicBezTo>
                  <a:pt x="1097" y="820"/>
                  <a:pt x="482" y="1199"/>
                  <a:pt x="0" y="1652"/>
                </a:cubicBezTo>
              </a:path>
            </a:pathLst>
          </a:custGeom>
          <a:ln w="25560">
            <a:solidFill>
              <a:srgbClr val="ff0033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743200" y="3505320"/>
            <a:ext cx="3734280" cy="1752840"/>
          </a:xfrm>
          <a:custGeom>
            <a:avLst/>
            <a:gdLst/>
            <a:ahLst/>
            <a:rect l="0" t="0" r="r" b="b"/>
            <a:pathLst>
              <a:path fill="none" w="10373" h="4869">
                <a:moveTo>
                  <a:pt x="10373" y="4869"/>
                </a:moveTo>
                <a:lnTo>
                  <a:pt x="10373" y="4869"/>
                </a:lnTo>
                <a:lnTo>
                  <a:pt x="10373" y="4869"/>
                </a:lnTo>
                <a:cubicBezTo>
                  <a:pt x="10373" y="4014"/>
                  <a:pt x="9894" y="3175"/>
                  <a:pt x="8983" y="2434"/>
                </a:cubicBezTo>
                <a:cubicBezTo>
                  <a:pt x="8073" y="1694"/>
                  <a:pt x="6763" y="1080"/>
                  <a:pt x="5186" y="652"/>
                </a:cubicBezTo>
                <a:cubicBezTo>
                  <a:pt x="3610" y="225"/>
                  <a:pt x="1821" y="0"/>
                  <a:pt x="0" y="0"/>
                </a:cubicBezTo>
              </a:path>
            </a:pathLst>
          </a:custGeom>
          <a:ln w="25560">
            <a:solidFill>
              <a:srgbClr val="ff0033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495680" y="3886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3429000" y="2895480"/>
            <a:ext cx="91440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495680" y="32767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971800" y="2133720"/>
            <a:ext cx="3734280" cy="3200760"/>
          </a:xfrm>
          <a:custGeom>
            <a:avLst/>
            <a:gdLst/>
            <a:ahLst/>
            <a:rect l="0" t="0" r="r" b="b"/>
            <a:pathLst>
              <a:path fill="none" w="10373" h="8891">
                <a:moveTo>
                  <a:pt x="10373" y="8891"/>
                </a:moveTo>
                <a:lnTo>
                  <a:pt x="10373" y="8891"/>
                </a:lnTo>
                <a:lnTo>
                  <a:pt x="10373" y="8891"/>
                </a:lnTo>
                <a:cubicBezTo>
                  <a:pt x="10373" y="7330"/>
                  <a:pt x="9894" y="5797"/>
                  <a:pt x="8983" y="4445"/>
                </a:cubicBezTo>
                <a:cubicBezTo>
                  <a:pt x="8073" y="3094"/>
                  <a:pt x="6763" y="1972"/>
                  <a:pt x="5186" y="1191"/>
                </a:cubicBezTo>
                <a:cubicBezTo>
                  <a:pt x="3610" y="411"/>
                  <a:pt x="1821" y="0"/>
                  <a:pt x="0" y="0"/>
                </a:cubicBezTo>
              </a:path>
            </a:pathLst>
          </a:custGeom>
          <a:ln w="25560">
            <a:solidFill>
              <a:srgbClr val="ff0033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447920" y="1828800"/>
            <a:ext cx="5258160" cy="3505680"/>
          </a:xfrm>
          <a:custGeom>
            <a:avLst/>
            <a:gdLst/>
            <a:ahLst/>
            <a:rect l="0" t="0" r="r" b="b"/>
            <a:pathLst>
              <a:path fill="none" w="14606" h="9738">
                <a:moveTo>
                  <a:pt x="14606" y="9738"/>
                </a:moveTo>
                <a:lnTo>
                  <a:pt x="14606" y="9738"/>
                </a:lnTo>
                <a:lnTo>
                  <a:pt x="14606" y="9738"/>
                </a:lnTo>
                <a:cubicBezTo>
                  <a:pt x="14606" y="8029"/>
                  <a:pt x="13931" y="6349"/>
                  <a:pt x="12649" y="4869"/>
                </a:cubicBezTo>
                <a:cubicBezTo>
                  <a:pt x="11367" y="3389"/>
                  <a:pt x="9523" y="2159"/>
                  <a:pt x="7303" y="1305"/>
                </a:cubicBezTo>
                <a:cubicBezTo>
                  <a:pt x="5083" y="450"/>
                  <a:pt x="2564" y="0"/>
                  <a:pt x="0" y="0"/>
                </a:cubicBezTo>
              </a:path>
            </a:pathLst>
          </a:custGeom>
          <a:ln w="25560">
            <a:solidFill>
              <a:srgbClr val="ff0033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66680" y="3581280"/>
            <a:ext cx="5639040" cy="1752840"/>
          </a:xfrm>
          <a:custGeom>
            <a:avLst/>
            <a:gdLst/>
            <a:ahLst/>
            <a:rect l="0" t="0" r="r" b="b"/>
            <a:pathLst>
              <a:path fill="none" w="15664" h="4869">
                <a:moveTo>
                  <a:pt x="15664" y="4869"/>
                </a:moveTo>
                <a:lnTo>
                  <a:pt x="15664" y="4869"/>
                </a:lnTo>
                <a:lnTo>
                  <a:pt x="15664" y="4869"/>
                </a:lnTo>
                <a:cubicBezTo>
                  <a:pt x="15664" y="4014"/>
                  <a:pt x="14940" y="3175"/>
                  <a:pt x="13565" y="2434"/>
                </a:cubicBezTo>
                <a:cubicBezTo>
                  <a:pt x="12191" y="1694"/>
                  <a:pt x="10213" y="1080"/>
                  <a:pt x="7832" y="652"/>
                </a:cubicBezTo>
                <a:cubicBezTo>
                  <a:pt x="5451" y="225"/>
                  <a:pt x="2750" y="0"/>
                  <a:pt x="0" y="0"/>
                </a:cubicBezTo>
              </a:path>
            </a:pathLst>
          </a:custGeom>
          <a:ln w="25560">
            <a:solidFill>
              <a:srgbClr val="ff0033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enerators flood the targ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ith pac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943600" y="35053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934320" y="34290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029200" y="4876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181480" y="29718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2590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267080" y="30481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267080" y="35812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495680" y="54864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343400" y="46483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971800" y="28954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133720" y="24382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276720" y="3733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6248520" y="3581280"/>
            <a:ext cx="68580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 flipV="1">
            <a:off x="5486400" y="32004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5257800" y="3733920"/>
            <a:ext cx="762120" cy="121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H="1" flipV="1">
            <a:off x="4648320" y="4876920"/>
            <a:ext cx="38088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4724280" y="518148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4572000" y="320040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4572000" y="312408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4572000" y="281952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4114800" y="1828800"/>
            <a:ext cx="22860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3048120" y="2209680"/>
            <a:ext cx="121896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3276720" y="3048120"/>
            <a:ext cx="99036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2438280" y="266688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2362320" y="3124080"/>
            <a:ext cx="60948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3581280" y="37339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1523880" y="182880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1371600" y="2666880"/>
            <a:ext cx="76212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143000" y="3352680"/>
            <a:ext cx="99072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2666880" y="3581280"/>
            <a:ext cx="60984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971800" y="39625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 flipV="1">
            <a:off x="3962520" y="4495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3962520" y="480060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3886200" y="49528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3809880" y="55627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4191120" y="57150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7227720" y="3154320"/>
            <a:ext cx="83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6162840" y="5234040"/>
            <a:ext cx="933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2533680" y="43275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2381400" y="34131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781200" y="34131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1238400" y="15843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2685960" y="19652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210200" y="35654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495680" y="3886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2860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3429000" y="2895480"/>
            <a:ext cx="91440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495680" y="32767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676520" y="1828800"/>
            <a:ext cx="5258160" cy="1600560"/>
          </a:xfrm>
          <a:custGeom>
            <a:avLst/>
            <a:gdLst/>
            <a:ahLst/>
            <a:rect l="0" t="0" r="r" b="b"/>
            <a:pathLst>
              <a:path fill="none" w="14606" h="4446">
                <a:moveTo>
                  <a:pt x="0" y="0"/>
                </a:moveTo>
                <a:lnTo>
                  <a:pt x="1905" y="1481"/>
                </a:lnTo>
                <a:lnTo>
                  <a:pt x="4233" y="2964"/>
                </a:lnTo>
                <a:lnTo>
                  <a:pt x="7196" y="3387"/>
                </a:lnTo>
                <a:lnTo>
                  <a:pt x="7293" y="3519"/>
                </a:lnTo>
                <a:lnTo>
                  <a:pt x="12066" y="4446"/>
                </a:lnTo>
                <a:lnTo>
                  <a:pt x="14606" y="4446"/>
                </a:lnTo>
              </a:path>
            </a:pathLst>
          </a:custGeom>
          <a:ln w="25560">
            <a:solidFill>
              <a:srgbClr val="ff0033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124080" y="2057400"/>
            <a:ext cx="4038840" cy="1600560"/>
          </a:xfrm>
          <a:custGeom>
            <a:avLst/>
            <a:gdLst/>
            <a:ahLst/>
            <a:rect l="0" t="0" r="r" b="b"/>
            <a:pathLst>
              <a:path fill="none" w="11219" h="4446">
                <a:moveTo>
                  <a:pt x="0" y="0"/>
                </a:moveTo>
                <a:lnTo>
                  <a:pt x="3598" y="1693"/>
                </a:lnTo>
                <a:lnTo>
                  <a:pt x="6139" y="2752"/>
                </a:lnTo>
                <a:lnTo>
                  <a:pt x="8467" y="4446"/>
                </a:lnTo>
                <a:lnTo>
                  <a:pt x="11219" y="4234"/>
                </a:lnTo>
              </a:path>
            </a:pathLst>
          </a:custGeom>
          <a:ln w="25560">
            <a:solidFill>
              <a:srgbClr val="ff0033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066680" y="2971800"/>
            <a:ext cx="6096240" cy="686160"/>
          </a:xfrm>
          <a:custGeom>
            <a:avLst/>
            <a:gdLst/>
            <a:ahLst/>
            <a:rect l="0" t="0" r="r" b="b"/>
            <a:pathLst>
              <a:path fill="none" w="16934" h="1906">
                <a:moveTo>
                  <a:pt x="0" y="1694"/>
                </a:moveTo>
                <a:lnTo>
                  <a:pt x="3386" y="1059"/>
                </a:lnTo>
                <a:lnTo>
                  <a:pt x="5926" y="0"/>
                </a:lnTo>
                <a:lnTo>
                  <a:pt x="9314" y="635"/>
                </a:lnTo>
                <a:lnTo>
                  <a:pt x="14394" y="1906"/>
                </a:lnTo>
                <a:lnTo>
                  <a:pt x="16934" y="1694"/>
                </a:lnTo>
              </a:path>
            </a:pathLst>
          </a:custGeom>
          <a:ln w="25560">
            <a:solidFill>
              <a:srgbClr val="ff0033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743200" y="3124080"/>
            <a:ext cx="4496040" cy="762480"/>
          </a:xfrm>
          <a:custGeom>
            <a:avLst/>
            <a:gdLst/>
            <a:ahLst/>
            <a:rect l="0" t="0" r="r" b="b"/>
            <a:pathLst>
              <a:path fill="none" w="12489" h="2118">
                <a:moveTo>
                  <a:pt x="0" y="1482"/>
                </a:moveTo>
                <a:lnTo>
                  <a:pt x="1905" y="2118"/>
                </a:lnTo>
                <a:lnTo>
                  <a:pt x="2037" y="2083"/>
                </a:lnTo>
                <a:lnTo>
                  <a:pt x="4868" y="1695"/>
                </a:lnTo>
                <a:lnTo>
                  <a:pt x="4859" y="1598"/>
                </a:lnTo>
                <a:lnTo>
                  <a:pt x="7409" y="0"/>
                </a:lnTo>
                <a:lnTo>
                  <a:pt x="9314" y="1482"/>
                </a:lnTo>
                <a:lnTo>
                  <a:pt x="12489" y="1059"/>
                </a:lnTo>
              </a:path>
            </a:pathLst>
          </a:custGeom>
          <a:ln w="25560">
            <a:solidFill>
              <a:srgbClr val="ff0033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819520" y="3048120"/>
            <a:ext cx="4267440" cy="1448280"/>
          </a:xfrm>
          <a:custGeom>
            <a:avLst/>
            <a:gdLst/>
            <a:ahLst/>
            <a:rect l="0" t="0" r="r" b="b"/>
            <a:pathLst>
              <a:path fill="none" w="11854" h="4023">
                <a:moveTo>
                  <a:pt x="0" y="4023"/>
                </a:moveTo>
                <a:lnTo>
                  <a:pt x="1693" y="2329"/>
                </a:lnTo>
                <a:lnTo>
                  <a:pt x="4444" y="1905"/>
                </a:lnTo>
                <a:lnTo>
                  <a:pt x="7197" y="0"/>
                </a:lnTo>
                <a:lnTo>
                  <a:pt x="9314" y="1694"/>
                </a:lnTo>
                <a:lnTo>
                  <a:pt x="11854" y="1482"/>
                </a:lnTo>
              </a:path>
            </a:pathLst>
          </a:custGeom>
          <a:ln w="25560">
            <a:solidFill>
              <a:srgbClr val="ff0033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419720" y="3200400"/>
            <a:ext cx="2743560" cy="578160"/>
          </a:xfrm>
          <a:custGeom>
            <a:avLst/>
            <a:gdLst/>
            <a:ahLst/>
            <a:rect l="0" t="0" r="r" b="b"/>
            <a:pathLst>
              <a:path fill="none" w="7621" h="1606">
                <a:moveTo>
                  <a:pt x="0" y="1482"/>
                </a:moveTo>
                <a:lnTo>
                  <a:pt x="2751" y="0"/>
                </a:lnTo>
                <a:lnTo>
                  <a:pt x="4869" y="1482"/>
                </a:lnTo>
                <a:lnTo>
                  <a:pt x="4878" y="1606"/>
                </a:lnTo>
                <a:lnTo>
                  <a:pt x="7621" y="1271"/>
                </a:lnTo>
              </a:path>
            </a:pathLst>
          </a:custGeom>
          <a:ln w="25560">
            <a:solidFill>
              <a:srgbClr val="ff0033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ardwar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976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niffable if on sam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are attacks that fiddle at this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39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race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arget cannot tell where the trigger is coming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tacking hosts may not know that they are being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adcast storms can generate mor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NS, routing, and infrastructure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Routing attack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Packet Diversion and man-in-the-middle att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438280" y="2819520"/>
            <a:ext cx="4190760" cy="12240"/>
          </a:xfrm>
          <a:custGeom>
            <a:avLst/>
            <a:gdLst/>
            <a:ahLst/>
            <a:rect l="0" t="0" r="r" b="b"/>
            <a:pathLst>
              <a:path fill="none" w="11641" h="34">
                <a:moveTo>
                  <a:pt x="11641" y="34"/>
                </a:moveTo>
                <a:lnTo>
                  <a:pt x="11641" y="34"/>
                </a:lnTo>
                <a:cubicBezTo>
                  <a:pt x="10457" y="24"/>
                  <a:pt x="8855" y="16"/>
                  <a:pt x="6967" y="10"/>
                </a:cubicBezTo>
                <a:cubicBezTo>
                  <a:pt x="4876" y="3"/>
                  <a:pt x="2504" y="0"/>
                  <a:pt x="90" y="0"/>
                </a:cubicBezTo>
                <a:cubicBezTo>
                  <a:pt x="60" y="0"/>
                  <a:pt x="30" y="0"/>
                  <a:pt x="0" y="0"/>
                </a:cubicBezTo>
              </a:path>
            </a:pathLst>
          </a:custGeom>
          <a:ln w="38160">
            <a:solidFill>
              <a:srgbClr val="009900"/>
            </a:solidFill>
            <a:round/>
            <a:tailEnd len="med" type="triangle" w="med"/>
          </a:ln>
        </p:spPr>
        <p:txBody>
          <a:bodyPr lIns="109080" rIns="109080" tIns="-51840" bIns="-51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Routing attack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Packet Diversion and man-in-the-middle att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438280" y="2819520"/>
            <a:ext cx="4190760" cy="12240"/>
          </a:xfrm>
          <a:custGeom>
            <a:avLst/>
            <a:gdLst/>
            <a:ahLst/>
            <a:rect l="0" t="0" r="r" b="b"/>
            <a:pathLst>
              <a:path fill="none" w="11641" h="34">
                <a:moveTo>
                  <a:pt x="11641" y="34"/>
                </a:moveTo>
                <a:lnTo>
                  <a:pt x="11641" y="34"/>
                </a:lnTo>
                <a:cubicBezTo>
                  <a:pt x="10457" y="24"/>
                  <a:pt x="8855" y="16"/>
                  <a:pt x="6967" y="10"/>
                </a:cubicBezTo>
                <a:cubicBezTo>
                  <a:pt x="4876" y="3"/>
                  <a:pt x="2504" y="0"/>
                  <a:pt x="90" y="0"/>
                </a:cubicBezTo>
                <a:cubicBezTo>
                  <a:pt x="60" y="0"/>
                  <a:pt x="30" y="0"/>
                  <a:pt x="0" y="0"/>
                </a:cubicBezTo>
              </a:path>
            </a:pathLst>
          </a:custGeom>
          <a:ln w="38160">
            <a:solidFill>
              <a:srgbClr val="009900"/>
            </a:solidFill>
            <a:round/>
            <a:tailEnd len="med" type="triangle" w="med"/>
          </a:ln>
        </p:spPr>
        <p:txBody>
          <a:bodyPr lIns="109080" rIns="109080" tIns="-51840" bIns="-51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267080" y="2819520"/>
            <a:ext cx="0" cy="2514600"/>
          </a:xfrm>
          <a:prstGeom prst="line">
            <a:avLst/>
          </a:prstGeom>
          <a:ln w="25560">
            <a:solidFill>
              <a:srgbClr val="ff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3602160" y="2270160"/>
            <a:ext cx="1182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(rou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Routing attack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Packet Diversion and man-in-the-middle att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438280" y="2819520"/>
            <a:ext cx="1448280" cy="2514960"/>
          </a:xfrm>
          <a:custGeom>
            <a:avLst/>
            <a:gdLst/>
            <a:ahLst/>
            <a:rect l="0" t="0" r="r" b="b"/>
            <a:pathLst>
              <a:path fill="none" w="4023" h="6986">
                <a:moveTo>
                  <a:pt x="4023" y="6986"/>
                </a:moveTo>
                <a:lnTo>
                  <a:pt x="4023" y="6986"/>
                </a:lnTo>
                <a:cubicBezTo>
                  <a:pt x="4023" y="5760"/>
                  <a:pt x="3837" y="4555"/>
                  <a:pt x="3484" y="3494"/>
                </a:cubicBezTo>
                <a:cubicBezTo>
                  <a:pt x="3131" y="2431"/>
                  <a:pt x="2623" y="1549"/>
                  <a:pt x="2012" y="936"/>
                </a:cubicBezTo>
                <a:cubicBezTo>
                  <a:pt x="1400" y="323"/>
                  <a:pt x="706" y="0"/>
                  <a:pt x="0" y="0"/>
                </a:cubicBezTo>
                <a:lnTo>
                  <a:pt x="0" y="0"/>
                </a:lnTo>
              </a:path>
            </a:pathLst>
          </a:custGeom>
          <a:ln w="38160">
            <a:solidFill>
              <a:srgbClr val="009900"/>
            </a:solidFill>
            <a:round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800600" y="2743200"/>
            <a:ext cx="1829160" cy="2591280"/>
          </a:xfrm>
          <a:custGeom>
            <a:avLst/>
            <a:gdLst/>
            <a:ahLst/>
            <a:rect l="0" t="0" r="r" b="b"/>
            <a:pathLst>
              <a:path fill="none" w="5081" h="7198">
                <a:moveTo>
                  <a:pt x="5081" y="0"/>
                </a:moveTo>
                <a:lnTo>
                  <a:pt x="5081" y="0"/>
                </a:lnTo>
                <a:cubicBezTo>
                  <a:pt x="4189" y="0"/>
                  <a:pt x="3313" y="333"/>
                  <a:pt x="2540" y="964"/>
                </a:cubicBezTo>
                <a:cubicBezTo>
                  <a:pt x="1768" y="1596"/>
                  <a:pt x="1127" y="2505"/>
                  <a:pt x="681" y="3599"/>
                </a:cubicBezTo>
                <a:cubicBezTo>
                  <a:pt x="235" y="4693"/>
                  <a:pt x="0" y="5934"/>
                  <a:pt x="0" y="7198"/>
                </a:cubicBezTo>
              </a:path>
            </a:pathLst>
          </a:custGeom>
          <a:ln w="38160">
            <a:solidFill>
              <a:srgbClr val="009900"/>
            </a:solidFill>
            <a:round/>
            <a:head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3602160" y="2270160"/>
            <a:ext cx="1182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(rou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NS att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 an extra “glue” record on a DNS 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ort cache time-out hides the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est bind program checks for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ture DNS server and return incorrect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NSSEC can fix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ing through final comments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att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r tools are still 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thenticated BGP4 is co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ep up with the latest na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 to secure router implementations, when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 what will you do if the entire Internet is down for a we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cial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ocial Engineering (cont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826920" y="3510000"/>
            <a:ext cx="5421240" cy="7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ick </a:t>
            </a: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er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to infect your compu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297000" y="1946160"/>
            <a:ext cx="8636040" cy="384480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nother problem with strange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br>
              <a:rPr sz="18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eakn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ocial Engine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1503360" y="1987560"/>
            <a:ext cx="518148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``Hello, this is Dennis Ritchie c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I’m in Israel now and I have forg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my password.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``Hello, &lt;admin-name&gt;, I’ve j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tarted work here.  &lt;Boss-na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aid I should have an accoun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&lt;target-host&gt;‘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ol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afer Trans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l encryption, but at the wrong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P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crypted tu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P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ore “Clue”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xpert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 and repair at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ger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ople to actively check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tility infielder” - a genera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ue” (experts) are expensive and hard to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533520" y="171360"/>
            <a:ext cx="8107200" cy="607680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 txBox="1"/>
          <p:nvPr/>
        </p:nvSpPr>
        <p:spPr>
          <a:xfrm>
            <a:off x="2752560" y="112680"/>
            <a:ext cx="349092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Firewall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irewall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ot a panac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65412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ommunity of insecure hosts can be protected from an external attack on thes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firewall enforces a network access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not a perfect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protection from insider at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4648320" y="1308240"/>
            <a:ext cx="38433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 go around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 go through the bad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protection from ins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y give community a false sense of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Firewall Experi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he firewall is often the only secure piece of an Internet arra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Backdoors usually diminish the effectiveness of a fire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ommercial firewalls are probably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There is more to Internet security than installing a fire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ho Stages These Atta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ho Uses These Attack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ng people with too much time and no girl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gruntled (ex-)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fessional consul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acker’s Risk Asses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65412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Exploit Send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Guess default pw-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FTP - holes &amp; sni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telnet - sni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Crack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NFS confi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portmapper/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DNS at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464976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IP spoof r* cm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ci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k in Manhat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break secure 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Inter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 hoc collection of TCP/IP inter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real central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central knowledge of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per-packet billing, in most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e equipment too busy to help law enfor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 perimeters are impossible to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igher Ris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65412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break exportable cryp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dict. attack on chal/resp. based on p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mpster d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eak into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oin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y off sysad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464976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idnap sysad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idnap C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eak good crypto (DES crac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lance federal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eak superb cryp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formation 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ewalls mailing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ww.greatcircl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pman and Zw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yword search in altavista.digita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My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http://www.cs.bell-labs.com/~che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hes@bell-lab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Firewalls and Internet Security: Repelling the Wily Ha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heswick and Bello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SBN 0-201-63357-4, Addison Wesley, 1994. Also in German, Japanese, and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Yes, I’d love to sign your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Cheswick</dc:creator>
  <dc:description>Do not eat yellow snow.</dc:description>
  <dc:language>en-US</dc:language>
  <cp:lastModifiedBy>Bill Cheswick</cp:lastModifiedBy>
  <cp:revision>0</cp:revision>
  <dc:subject>Encryption Software for the Internet</dc:subject>
  <dc:title>Commercial Munitions on the Internet</dc:title>
</cp:coreProperties>
</file>