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CECFDC1-A0E5-4DF3-A9BD-27E3B9518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15360"/>
            <a:ext cx="8534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0480" y="14475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153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0480" y="39153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600" y="14475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8000" y="14475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153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600" y="39153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8000" y="39153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164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0480" y="1447560"/>
            <a:ext cx="4164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0480" y="1447560"/>
            <a:ext cx="4164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153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164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0480" y="14475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0480" y="39153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0480" y="1447560"/>
            <a:ext cx="4164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15360"/>
            <a:ext cx="8534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14800" y="6521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786E-D2A1-40F6-BCE4-B05D340EF9F6}" type="slidenum"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of 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331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D65C-81A5-499F-A01A-7BF662BCF9B5}" type="datetime3"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es@lumeta.co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masci.com/amateur/sciam1.html" TargetMode="External"/><Relationship Id="rId2" Type="http://schemas.openxmlformats.org/officeDocument/2006/relationships/hyperlink" Target="http://www.tinkersguide.com/AmSciIndex/indexTop.html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www.pugwash.org/september11/sept11-calogero.htm" TargetMode="External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ity and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eta Co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ff"/>
                </a:solidFill>
                <a:uFillTx/>
                <a:latin typeface="Arial"/>
                <a:hlinkClick r:id="rId1"/>
              </a:rPr>
              <a:t>ches@lumeta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53036-891D-4FF1-93D4-1CC1B91A5D0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recent demonst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sk of chlorine gas at a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I3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. N2: recruiting fluid for Bell L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s can be obtained: “science supplies” AND “home school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5B19C-04E5-43F4-8BDC-8ACC6E4542A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clear phy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 smasher in 1959 Scientific American in “Amateur Science” s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la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cently: try to understand fission and fusion weapons from publish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FD099-2A50-4413-9163-16DAA31AF6D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dioactive stuff in the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: smoke 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: (European smoke det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: (lantern mant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: old c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iger counters &lt; $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s into a serial port on 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45734-C286-4A2B-A7EF-AFE5793CA27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ateur projects in Scientific Ameri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wn Carlson at </a:t>
            </a:r>
            <a:r>
              <a:rPr b="0" lang="en-US" sz="3200" spc="-1" strike="noStrike" u="sng">
                <a:solidFill>
                  <a:srgbClr val="6600ff"/>
                </a:solidFill>
                <a:uFillTx/>
                <a:latin typeface="Arial"/>
                <a:hlinkClick r:id="rId1"/>
              </a:rPr>
              <a:t>http://www.amasci.com/amateur/sciam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experiments at </a:t>
            </a:r>
            <a:r>
              <a:rPr b="0" lang="en-US" sz="3200" spc="-1" strike="noStrike" u="sng">
                <a:solidFill>
                  <a:srgbClr val="6600ff"/>
                </a:solidFill>
                <a:uFillTx/>
                <a:latin typeface="Arial"/>
                <a:hlinkClick r:id="rId2"/>
              </a:rPr>
              <a:t>http://www.tinkersguide.com/AmSciIndex/indexTop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d by difficulty and danger.  Haven’t been dangerous rec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C74AB-E34F-4169-9464-9F2334A4B36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 and play with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ep’s blood agar is $15 for 12 prepared petri d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r is cheap, fermentation i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dang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C3F25-0B42-49EF-A127-8189F06D37D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iver S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ng to Oliver Sacks’ book “Uncle Tungst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uncle had lots of cool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A, OSHA, and lawyers have made fun stuff harder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. Ammonia sounds like 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CD12E-0699-47CE-BFBB-F48DFEEDBB3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e of this is going to change th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ect is local, usually on the experim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757AF-6557-469D-BACC-C537949ABFB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Lehigh: chemistry to compu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at time, everybody came from a different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till happens, to some people’s l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-class machines cost millions of do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twork: you can only hurt other local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cked for CPU time (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became an acol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system administrator, I had the run of the machine, at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ed the limits:  CODACAS, RPC on a CDC 6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07FE4-F2A7-4E56-83C3-06728A42338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ore’s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tarted about 3 doublings after he announce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exponential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doubles every 18 months, with constant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s in 201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0.02 talking chip? (laser pointers are now in the dollar store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CE6D2-FBF5-4618-9022-54F4A8DB856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now have fabulously powerful compu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ps cycle tim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Point runs at reasonable speeds on thes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iginal computers were built to model H-bomb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te force and pig ignorance is often a fine substitute for cleverness (see be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ost cycles on MPEG gene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557D8-FF87-4925-9713-6BDFFC7E5AD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2437920"/>
            <a:ext cx="937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chnologies are giving individuals, even amateurs,  unprecedented power to effect the world.  We’ve seen this in spades on the Internet, and this trend is likely to continue, and be a factor in emerging technologies, such as molecular bi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D8224-36FB-482A-9EAE-9EA99465426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-of-the-art Amate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700 computer and an Internet link is all you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, good and evil, ab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oesn’t go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 maybe scientology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12 and 13 from Los Alamos, via K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67BC6-A4E7-4B7B-8CCD-910ABD89C9F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produce some of my recent work with these simple tools, plus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6CDAD-2CDE-4489-8224-7CD056ECB5C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448920" cy="695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242B7-E686-45F6-8347-E4BB3D2E0A70}" type="datetime3">
              <a:rPr lang="en-US"/>
              <a:t>July 29, 20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ualizat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nteres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 our database and collec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to fol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 doesn’t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lors to show further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76430-5DDC-4C1C-B9E4-2C0989C3773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asn-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81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4400"/>
            <a:ext cx="148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lor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S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DE88C-D8A2-4AB9-A2EF-5FA7D03A95D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kind of maps c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m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290E9-5439-4B58-AAF1-20C6EB4203A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 Col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from test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al (by T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ing, firewalls, LSRR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98482-2AAB-43A9-A32F-FC90E4B062C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p-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-97560" y="1440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lored by IP addres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FA389-AE8B-4D73-9B84-DA8FF9B0AE9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geo-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97560" y="243000"/>
            <a:ext cx="24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lored by ge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FDB66-5B92-45E3-BBAB-9DC13A38CEF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sp-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-94680" y="-61920"/>
            <a:ext cx="17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lored by 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9B1CE-3953-497B-8356-E8FBCBBFB99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 a science guy, and fan of geno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nano-machines have strong similarities to computer design an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 == assembly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units, in proteins, organs, and esp. 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no-machines are slower, but massively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8DEA8-A857-44C0-992B-5F7DCF22178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depth-big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7240" y="-61920"/>
            <a:ext cx="22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ored by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scanning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B41EC-1D6D-430E-A30D-BBC73448F41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il-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96120" y="14400"/>
            <a:ext cx="24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US mili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eached by ICMP 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14E63-3B5B-417F-B6D4-6533CC2A5E1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mil-screen-mdst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010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-96120" y="-61920"/>
            <a:ext cx="23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military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hed by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B30DC-2284-412F-97F0-4E5B803E699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u.gif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B20BB-582F-43C0-805D-6BB70F1B7D5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yu.gif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6730C-1655-4B82-AB95-DDD7FF7B9C4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ugoslav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bia and Bos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77AFE-3427-494F-96FE-FA00D71992E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y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AEF29-8AC1-4533-A08C-1AE02C47824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448920" cy="644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0C2C0-12B6-4881-80E2-DDDC97CB5B4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viduals can participate in international affa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tic hacking attacks ab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aelis v. Palestin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vs. China after the collision incident l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87438-F9C9-4047-9762-6BE4F8A3D6B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nymity frees foreign agents to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deal of espionage going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backs are hard to 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86D2A-D7E7-4E06-A585-4C1F1D3B733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fields have and will interact strongly for the foreseeabl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AB970-1C98-4FAA-B84B-E2639D2D8A7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ther Internet security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AB699-63E1-4B00-A3FC-3C15891C354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don’t have to be a genius to be an effective hac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’s plenty of documentation to hel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plenty of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et is a bad neighbor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 kiddies” don’t have to know much at 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AEA7B-6E4D-4296-B0B3-2F0F9E35236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many, capabilities outrun mor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mply antisocial hacker is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ually acquire some morals event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ld teenage hackers now have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consulting about h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AEB0D-3C80-4B76-8FD7-94839479F5F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t has amazing software avail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mware (and emulators) for old video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grades for automobile firm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be the case for biological synthesis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DE934-835C-454F-9C20-218C422AACD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er vir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rus Creation Lab, and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 PC viruses, made to order, with your choice o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uspect that the epidemiological math is similar, but packets travel faster tha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C9E72-73A2-4758-9AEB-3786FCA871B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us Generation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vefunc's Goofy Batch Virus Generator v1.1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d97 Macro Virii Construction Kit aka W97MV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Walrus Macro Virus Generator (WMV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ltras Construction Kit fo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 Olde Funky Virus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4400E-A623-4A70-8CC5-09AC8BB5CF3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Virus Generation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ttp://vx.netlux.org/dat/vct.s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irus Creation Tools (5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si Bomb Kit v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SI Bomb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si Bomb Ma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vanced Batch Mutator v1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iological Warefare Virus Creation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ubble Cha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lass Macro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lass.Poppy Construction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hina Town Macro Word Virus Construction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uke's Pascal Overwriting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uke's Simple Virus Cloner T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Ding Lik's Millenium C Virus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jecutor Virus Cre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2 Virus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German Virus Construction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mmortal EAS Virus Creation Cen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ant Virus Production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any Batch Vir 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B v1.4 Lädt den X-14 Virus in eine Dat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boratorio de virus 1.3 [Una porgramme Argentinia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ineZer0 Macro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ss Destruction Lib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etric Buttload of Code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PCGEN Mass Code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ister Spock - Virusgenerator Ver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0600" y="144756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MOOTHiE::s Macro Virus Cre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owhere Ut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KE's Randomic Life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verwritting Virus Construction Tool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halcon/Skism Mass-Produced Code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 Quick &amp; Easy Trojan Developing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tanic Brain Virus Tool'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iCem Virus Creation La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paMaCidAL trojan batch file cre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imple Batch Virus Ma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Simple WinScript Virus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SMEG Virus construction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SR Time Bomb Cre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rojan Horse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irus Factory mit Code - Tabe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irus Creator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irus Creation L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 virus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 virus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irus Researcher's Tool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BS Worm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BS Encryp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indows Virus Creation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avefunc's Goofy Batch Virus Generator v1.1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ord97 Macro Virii Construction Kit aka W97MV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Walrus Macro Virus Generator (WMV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ltras Construction Kit for 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e Olde Funky Virus 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70B74-9976-4C0E-811C-C68E926F56D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wnload: [BW - 0.90B] [BW 1.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igin: Mnemonix / 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KA : B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nown versions: BW 0.90B - April 1994, BW 1.00 - June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iological Warfare is a program that will generate assembly source code for a 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al virus according to the specifications that the user gives it. When Biolog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arfare is run, it will give the user a menu with a list of options pertaining to the virus.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 can manipulate the options as directed to create the virus to his specif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llowing are the options of version 0.90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) Text - Any text that has to appear within the virus, up to 60 charac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) Resident - Specifies whether virus will be resident in memory or n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) Infect - Either COM, EXE, or b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) Encryption - Specifies if the virus will feature encryp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) INT 24 Handler - Specifies if the virus will steal DOS's critical error handler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e protect err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) Anti-Trace - Specifies if the virus will includes routines to thwart trivial debugging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rac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) Maximum Size - If selected, the virus will not infect any .COM file too large for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) Traversal - Specifies if the virus will move upwards in the directory tr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) Infections/run - Maximum number of files to infect each r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) Avoid COMMAND - Specifies if the virus will infect COMMAND.C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) EXE Marker - Two characters used to indicate an infected .EXE fi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) Overlay check - Specifies that the virus will not infect .EXE files with internal overl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) DirStealth - Hides the file size increases from a directory listing. All infected files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ir seconds field set to the given number. Absence this number indicates that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rectory stealth function will be included. (Resident viruses onl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) Infect on - Specifies if the virus has to infect when opening a file, executing a file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) Activate - Virus will include space for an activation routine in the co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) More directory stealth - In conjunction with directory stealth this will mak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crease in file size invisible from any file managing programs in addition to a D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rsion 1.00 added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 Encryption, both standard and basic polymorphic (via the Biological Warfare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g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 Time stamp - This is used by either directory stealth or polymorph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 Biological Warfare Mutation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BWME is a very basic polymorphic encryption engine that will make the viru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fficult to scan. It's size is 609 bytes. p - This is used by either directory stealth or polymorph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 Biological Warfare Mutation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BWME is a very basic polymorphic encryption engine that will make the viru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fficult to scan. It's size is 609 by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ttp://vx.netlux.org/dat/tb00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FAFE8-F94C-4D10-A802-AAF2B726000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logical Warfare Creation 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37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wnload: [BW - 0.90B] [BW 1.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igin: Mnemonix / 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KA : B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nown versions: BW 0.90B - April 1994, BW 1.00 - June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iological Warfare is a program that will generate assembly source code for a 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al virus according to the specifications that the user gives it. When Biolog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arfare is run, it will give the user a menu with a list of options pertaining to the virus.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 can manipulate the options as directed to create the virus to his specif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llowing are the options of version 0.90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) Text - Any text that has to appear within the virus, up to 60 charac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) Resident - Specifies whether virus will be resident in memory or n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) Infect - Either COM, EXE, or b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) Encryption - Specifies if the virus will feature encryp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) INT 24 Handler - Specifies if the virus will steal DOS's critical error handler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e protect err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) Anti-Trace - Specifies if the virus will includes routines to thwart trivial debugging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rac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) Maximum Size - If selected, the virus will not infect any .COM file too large for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) Traversal - Specifies if the virus will move upwards in the directory tr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) Infections/run - Maximum number of files to infect each r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) Avoid COMMAND - Specifies if the virus will infect COMMAND.C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) EXE Marker - Two characters used to indicate an infected .EXE fi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) Overlay check - Specifies that the virus will not infect .EXE files with internal overl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) DirStealth - Hides the file size increases from a directory listing. All infected files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ir seconds field set to the given number. Absence this number indicates that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rectory stealth function will be included. (Resident viruses onl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6920C-233C-4F47-AF31-611043B2DE0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logical Warfare Creation 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372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) Infect on - Specifies if the virus has to infect when opening a file, executing a file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) Activate - Virus will include space for an activation routine in the co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) More directory stealth - In conjunction with directory stealth this will mak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crease in file size invisible from any file managing programs in addition to a D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rsion 1.00 added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 Encryption, both standard and basic polymorphic (via the Biological Warfare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g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 Time stamp - This is used by either directory stealth or polymorph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 Biological Warfare Mutation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BWME is a very basic polymorphic encryption engine that will make the viru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fficult to scan. It's size is 609 bytes. p - This is used by either directory stealth or polymorph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 Biological Warfare Mutation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BWME is a very basic polymorphic encryption engine that will make the viru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fficult to scan. It's size is 609 by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ttp://vx.netlux.org/dat/tb00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A6F11-21FD-4DE8-9A4B-632DCE66EE4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swick: the unauthorized autobi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guy since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kerer/bricol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ker” in 1980 MIT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, biology, physics, and bacteriological fun in junior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y things at home, even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ked into computing in 1969 at Lawrencevill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security at Bell Labs by 19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 walking parano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4FAC5-F36B-4600-B907-36DAEE4D24B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s evaluate the softwar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ttp://vx.netlux.org/dat/ti01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stant Virus Production K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wnload: [IVP 1.0] [IVP 1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igin: Youths Against McAfee / 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KA : IV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nown versions: IVP 1.0 - December 1992, IVP 1.7 - January 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atures: Youths Against McAfee, a group founded in the USA, has contribute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stant Virus Producer, or IVP, to the competition for the best virus generator. IVP has no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owever, attracted popularity to speak o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VP does not feature the amount of functions Virus Creation Lab and Phalcon/Sk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ss-Produced Code Generator do, it cannot, for example, create memory 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iruses. In the same vein, the encryption algorithms of IVP are really very simpl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parison with, let's say, Phalcon/Skism Mass-Produced Code Generator. To top it a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VP frequently produces dysfunctional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re than 120 viruses produced with IVP are known to ex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6D041-F75F-481F-8F2F-07D36D9C21C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rcial companies track the vir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ake money selling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ke public health, they can do something abou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this be a useful business model when we have better antivir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necessarily the avuncular doct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surveillance has been spotty for the most common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BB834-7ACB-4AF6-B806-76DF9E5A86B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interesting computer virus payloa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ase files, disk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things, often inadvert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the computer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the dif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numbers in a spread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se characters sometimes when typing is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7C52C-4A2B-42F9-B2C2-1CEA42AE41E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ms and viruses cause a massive, shared exp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lissa virus shut down corporate emails for some companies for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&gt;$10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author created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not a technic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ur de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pians software was a matter of immense national pri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9BE5C-AD48-4784-AE00-38B2DA1E00F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ad Propo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an antivirus to clean up a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exponential growth is hard to 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hard to write a bug-free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“innocent” viruses that did inadvertent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C07EA-1E83-47E0-9B3A-37323967F26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times unlucky things happen on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20C1A-CEC3-4599-BB55-04D64657530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the random event inten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algorithms can go bad, performance-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ing algorithm should be O(n log n), but certain inputs can make it go O(N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eren’t thinking about intentionally selected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2AE7E-C5AC-47E1-86ED-1E97133147C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ntional algorithm degradation in Denial of Service (DOS) atta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 attacks (1996) exploited slow code in most kern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airs improved the situation considerably,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attackers select un-optimal inpu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55E41-F8BB-4876-8FF1-A6C977A066C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omeres and TT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 growth of automatons is hard to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s with exponential growth in net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ris worm (19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Ma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uses and worms i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7E8C6-B984-4AA1-B766-1F5A473E7F0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ascribe to malevolence that which can be explained by incompetence.  Us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6914F-549B-4650-B1F3-983BA549AF9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stry in the home of an investment advi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to make due with chemistry set and easily available chemicals, mos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unning water in the lab, nor a fume 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periments where performed in the garage or back y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ADDA0-310C-43A4-B550-9F47E848CBE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will figure out Bad Things for themselves, sooner or l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by obscurity is a good thing, but should not be the only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C1691-9A2C-47A0-B852-23E4E372FB7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attacks were anticipated long a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word snif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spoofing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 packet denial-of-service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we discuss known (theoretical) weakn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3CDB9-2781-4AAF-9266-EF1DD64FFA5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d guys will find the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statd hole, found by Andrew G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ed attacks are probing every host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ice is not a prerequisite for explo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13BC9-26DA-48F2-A936-9D23D400A09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nymity is easy, and can be hard to pie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s are laundered through many weak hosts, in many juris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85499-CAC9-4846-9C0A-CAFFD85521B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ome sequencing capacity will grow strongly, some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ples will have a sequence and analysis of fetal genome, obtained from a fetal cell in the maternal blood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edge closer to eugenics, which has been practiced since the daw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e temptation to edit SNPs and others, though writing is harder than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9DC0B-3E13-449F-94C9-088350A91A7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stom plasmids for easy protein p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: reagents, plus base-pair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a plasmid for uptake by bacte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t marker shows which colonies express the adjacent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ly, a fairly cheap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most any protein that will fit in the plas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version seems likely,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FABDB-9B63-4271-AD94-32F5C990B24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smidtron 50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with more Dalt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B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GUI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, extensible library of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heuristics for frame-shift p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 binding domains implemented in 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Download new sequences from the 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1E621-845E-4049-B18B-2B2258A0A54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stom disease for a target host or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u for me, deadly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ubjects DNA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’s a security problem for the Secret Servi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el prizewinner Peter Doherty says it can’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as the plot of an X Files, I am t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plausible to 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A antigens provide a robust secre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ariations in the course and severity of a disease must have a genetic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the random event 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62E47-7685-496B-BFE8-5271FC2467C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teria-synthesized 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et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dis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rder effects- more rev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reg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72A64-3B7B-4083-9B12-4F3FBCBE48A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icrosoft chromos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ction is probably volu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a subscription to its eff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 standard copyright and checksums in DNA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BF1FD-E684-4D80-9E8F-CCFD74EA568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coleur’s list of interesting chemic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, 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in clea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: muriat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: “Quink”: removes rust s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: of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2: drug stores, some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2O2: hair bleach (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grade (!) 35% (not shipped in the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4NO3: fertilizer, chemistry se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l and photographic chemicals were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5CC80-7C20-48AE-9EE9-9AB68AD2C05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olicy suggestion: Make vaccines available to the pub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rgeon General, the CDC, and the FBI don’t always get the cost/benefits ratio right, and certainly not at the individu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line with the national ethos of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reates a market for something we may need in a hu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tially immunized population is a less-attractive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eed a law to abate liability concerns for the manufactu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32F83-E05C-42E1-81B4-8E651D2673A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etter tracking of “what’s going aroun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MWR tracks serious stuff, but what about flu-like sympto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seases should be analyzed: it is gett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F02BE-DD84-4CEF-8730-88FD0FA6DCB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ternet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lly smart ones think of new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y cod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script kiddies” may run them, clueles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s may ride the coattails of the script kid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is shared, event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35050-FA9E-414E-B31F-4A89D331AF5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ing is hard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is hard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s are particularly hard to d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mproving at exponential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ps not even at arithmetic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01155-0305-481E-8B97-1D74F0B6B8B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nonymity is the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dered machines allow bad guys to probe and experiment with little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8069A-6259-4595-8B5F-477C8979152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B83A3-3BA6-4AAE-A58B-94E98D06770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suggestion: buy H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as much HEU from Russia as we can,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is no object: this is cheap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“Nuclear Terrorism” by Fransesco Calogero, </a:t>
            </a:r>
            <a:r>
              <a:rPr b="0" lang="en-US" sz="3200" spc="-1" strike="noStrike" u="sng">
                <a:solidFill>
                  <a:srgbClr val="6600ff"/>
                </a:solidFill>
                <a:uFillTx/>
                <a:latin typeface="Arial"/>
                <a:hlinkClick r:id="rId1"/>
              </a:rPr>
              <a:t>http://www.pugwash.org/september11/sept11-calogero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tonium, and pre-made weapons are a different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94A01-8D40-44D4-A9E8-3B32DC45146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mateur phy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build an atom bomb, given access to “special nuclear material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tonium:  probably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U: prob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717E0-B8D7-43F3-9452-61605BE72F7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hy do I think it might be eas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ful computers for sim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notes from the Manhattan projec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data (neutron cross sections, etc.) are pu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appears easier if you don’t have to optimize th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mb ignition is a matter of probabilities: will a neutron arrive at the wrong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zzle yield at Rockefeller center would still make the evening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6B719-B516-4349-8F32-E24832F8C6E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t’s probably as easy as it seems, and maybe eas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dn’t bother testing the whole bomb at Los Al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EU w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d Taylor implied that there were easy ways in McPhee’s “Curve of the Binding Energ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ld idiot can “tweak the dragon’s tail”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470B5-3E87-4CAA-BE3A-8C2C98919D1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so ea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pow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6FCBA-185C-4973-8EA4-F3035FB8C28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2104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eople believe that it is quite difficult to manufacture a nuclear explosive device. They are mistaken. If [HEU] were available, a very small group of terrorists -- possibly even a single person -- might manufacture in an apartment or a garage a device which would then have a substantial probability to produce a nuclear explosion comparable to that which destroyed Hirosh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rancesco Calog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83A1E-6500-49DD-BB53-39F8C7A4F5F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ontinue to tin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2F83B-5E8D-424B-ACD4-EBE89A592A1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ming amateur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tlantic flight with model air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orbital amateur rocket f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111B7-0DA9-49B7-BA47-A4C365C9136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ur digital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ly technology in the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intercom connected to computer’s sound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s phone callers, astronomical events and news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ke the kid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catch the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h and recycling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the lights, monitors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s the Christmas lights in a non-tacky fash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23E30-CC56-4A4A-AC53-B3222DAD32E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gital House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warning system should have an Internet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 of al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4TB of disks in our house, with 26GB of photos and mo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5D3A2-7301-4F6F-9701-F2DC49EDCA5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ntinuing phy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 rock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 air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 rocket recov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5839A-2D71-4DAF-B0D0-2F2404707D2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ntinuing b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2O and bacterial grow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EC08C-7331-4B08-8D4B-FEA9AED1E34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219320" y="76320"/>
          <a:ext cx="6933960" cy="69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320"/>
                    <a:ext cx="6933960" cy="69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E60FE-05F5-4189-A03E-0E06303A0DF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chemical experiments, back t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ll Br from K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2S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ll ether from ethanol and H2SO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on fruit 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lic sodium from 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ncotton, flash paper, etc.  (No nitroglycer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books were more informative than new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FD16E-4517-475F-A2DB-219F9939E3D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8T14:38:07Z</dcterms:created>
  <dc:creator>Bill Cheswick</dc:creator>
  <dc:description/>
  <dc:language>en-US</dc:language>
  <cp:lastModifiedBy>ches</cp:lastModifiedBy>
  <cp:lastPrinted>2000-09-12T21:06:26Z</cp:lastPrinted>
  <dcterms:modified xsi:type="dcterms:W3CDTF">2002-01-31T20:56:47Z</dcterms:modified>
  <cp:revision>40</cp:revision>
  <dc:subject/>
  <dc:title>Mapping the Internet and Intranets</dc:title>
</cp:coreProperties>
</file>