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ial of Servi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 packet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3886200"/>
            <a:ext cx="6400800" cy="18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l Chesw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l Laboratories, Lucent Te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es@bell-lab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137040" y="154080"/>
            <a:ext cx="28447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se up TCP/IP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ant connection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ar link list was O(n^2)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can game the collisio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ricia tre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t TCP SYN/AC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-o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seconds seems about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ludes ‘distant’ sites:  they need a minute or more (Presot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ad Spectrum”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your mail host every few minutes or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y games with D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where queries come from-one source will probably be the atta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 connections fr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iends on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act friends from previous 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 Bloom filter to identify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friends acce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asional bad ones acce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 table o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lid Internet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ge it with BGP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MP unreachables add to th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percentage of Internet addresses are unreach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rvice of the N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able is full, thr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a pending re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otto/Van Jacobson/RTM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d packets are more likely to be ignored than the minority good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ood queuing theory person could suggest good table sizes and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w out the oldest seems to work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m filter pl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ard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be the best answer we have at the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friends are OK, and the rest have a decent shot to get th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ack-stifling h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kernel changes are not possible or undesi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 sniffs the net, and analyzes SYN at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g caller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connection invalid, forge and issue RST packet to the target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Bloom filter described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 chang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 for second SY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ckers can do this, but would have to figure out this is what we are do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t of a light-weight pre-connection st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 chang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on SYN/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lovin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/TC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ful firewa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ial of Service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2680" y="2131920"/>
            <a:ext cx="8410680" cy="33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ll the packets are encryp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ll the users are strongly authentica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ll the protocols are flaw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ll the servers are bug-f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will still have denial of service att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t ‘em Down Lik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s the support of multiple ISPs, proba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 IS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DEBUG command on routers: hangs busy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mage is obvious, and easily estimated: civil suit might be a cl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t packets to clueful IS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t ‘em down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NS lookup tr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likely friends try to identify packets going out.  (Long sho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ood news:  the basic software requires a complacent ker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d news:  hackers can install mods to make a kernel complac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he Bad Guys Check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all connection attempts to 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connection attempts to related, unattacked tar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 IP address and log all DNS qu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TL to 0.  (Not foolproof - caching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correlation of failed legitimate connections to attac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 on ISP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 is probably low enough to handle the filters at this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ther place to administer when new route is announ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ly insufficient capacity to do this for very large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Ps may choose to do this, esp. if a customer has been a source of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 on ISP Trans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not effect router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BGP t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vailable at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spread availability would usefully improve the state of security on the 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the Cop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new:  the cops are probably more clueless than the IS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ps can get the ISP’s attention, though I know of no legal compulsion they can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news:  it is easy to show economic damage, which is a trigger for their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 news:  economic damage is easy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al asp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mage is obvious, and pretty easy to put a price tag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gets the attention of law enforcemen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ompany law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jurisdi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unning” can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/IP code is hard to test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layer has other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require highly-clueful atta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on’t plan to help them beyond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-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 targets are likely, though popular services have hard-to-kill capa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rack and 2600 publish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about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left this attack out of our book, because we didn’t see a complete solution t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mitigation i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 packets require data structures, plus a SYN/ACK from the c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easy to flood a site with SYN packets from apparently random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kernels do need modifications to do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s kernel mods to deal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s multiple ISP support trace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ial of Service Attac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 of Thre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is to make a service un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t attack:  a single nuke packet that shuts down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tent bullets:  easily discarded by target, but swamps net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emitters can swamp any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tigate the potency or senders o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the capacity of the CPU or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 We Deal with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rms race is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ge capacity can tak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-purchase net, kernel, and CPU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oftware i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entirely satisfactory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xilary equip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the Last Security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93840" y="1812960"/>
            <a:ext cx="928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232680" y="1812960"/>
            <a:ext cx="979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2590920"/>
            <a:ext cx="3581640" cy="4572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251240" y="219384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895480" y="3200400"/>
            <a:ext cx="3581640" cy="9907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4419720"/>
            <a:ext cx="3581640" cy="7617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184560" y="3184560"/>
            <a:ext cx="1644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+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56160" y="432756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29400" y="320040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994440" y="3108240"/>
            <a:ext cx="153036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lf-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479840" y="5622840"/>
            <a:ext cx="15210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 We Deal with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 out bad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rms race is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CP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t ‘em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the Last Security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y Respon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nore Bad Pac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find some idiosyncrasy in generated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TL&lt;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sequenc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icable sequenc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Cheswick</dc:creator>
  <dc:description/>
  <dc:language>en-US</dc:language>
  <cp:lastModifiedBy>Bill Cheswick</cp:lastModifiedBy>
  <cp:revision>0</cp:revision>
  <dc:subject/>
  <dc:title>Denial of Service</dc:title>
</cp:coreProperties>
</file>