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55680" y="6432480"/>
            <a:ext cx="6224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g - </a:t>
            </a:r>
            <a:fld id="{CC3FDC6A-F3EE-4B39-A5DB-85BE5621021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785000" y="5867280"/>
            <a:ext cx="1054080" cy="82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62120" y="1371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ranet Challenge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t’s a Jungle in There</a:t>
            </a:r>
            <a:br>
              <a:rPr sz="4400"/>
            </a:br>
            <a:br>
              <a:rPr sz="18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2280" y="4800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l Labs, Luc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cheswick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Partial solutions: controlling extrane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uld have writte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uld allow only the specific service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ments should be checked and enforced by firewal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 auditing and recertification of the outs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tial soluti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tch your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work m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now and watch your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ps, alarms, and honeyp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 up minor in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errors are administrative, not e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0.75 discrepancy can lead to a s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efully watch and control the routing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Watch your intrane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 and watch the internal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ist on reverse DNS entries for all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stigate those without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tch for internal routes announced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 up on mergers and divest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ult with ISPs: they have the sam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ttacks can spread easily within a trust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Weakest Link Compromises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many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cc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ulnerabilities are common in network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cc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break-in comprom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st of the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ost’s net (via sniff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usting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cc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vital” targets may be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Default services</a:t>
            </a:r>
            <a:br>
              <a:rPr sz="3200"/>
            </a:b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SGI workstation (Irix 5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More defaul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81080" y="1909800"/>
            <a:ext cx="754704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angerous “Unix”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cure”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login/rsh/r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X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(web serv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angerous “PC”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ile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inter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T security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acro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il app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C vulnerabilities are less well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Partial solutions: safer services and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SL w. strong 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sh: secure 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erminal access and file cop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get, c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il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tage, un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rectory mirr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11080" y="2224080"/>
            <a:ext cx="746748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trane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xtrane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omebody else’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You can only protect the hosts that you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You can’t control many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reside at the departmen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 owners probably know the value of thei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them responsible for the security of thei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diting and tiger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ining and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e time to make it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-to-market race can kill securit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Corporate Edicts Create a “Monocul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ocultures are subject to common failure modes: wheat rust, root stock, elm trees, Wor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ail these days contains Word documents and macros, spreadsheets, and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decisions are made on purpose, but the guys in Redmond don’t always have the right tool for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y BIG web offering with 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External services are exposed to th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attacked repeatedly and anonym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have to be very determined or lucky to catch the bad gu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romised external services a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Y EMBARRASS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r external customers need good outsid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Denial-of-servic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your face - not subtle like traditional hacking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ndom packets are very hard to t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go on for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ackers exploit poor local software o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mply flood the site’s network with incoming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These attacks are </a:t>
            </a: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always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possible on a public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A secure read-only web page 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 server (it runs nothing e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, contained web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root, for 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 link to the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h probably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 provisioning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n’t let your guard down just because it is on a “safe”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NS and routing attacks can still divert customers els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85800" y="2286000"/>
            <a:ext cx="7772400" cy="13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You want to give your customers access</a:t>
            </a:r>
            <a:br>
              <a:rPr sz="3200"/>
            </a:b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to database that is currently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base access by th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h of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al change in data access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ware of cheap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es the database come outside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the outsiders come into th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do you authenticate some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client secure enough to use th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force domestic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up controls for abuse: use log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752560" y="112680"/>
            <a:ext cx="34909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Hardware tokens are one solution to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65160" y="1336680"/>
            <a:ext cx="2165400" cy="3622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95400" y="5257800"/>
            <a:ext cx="386712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Digital Path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NK-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4652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cur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ime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/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oftware or printout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an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usually proprietary serv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Good network security people are hard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Parti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in 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’t forget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y them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Social Engineering” works an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03360" y="1987560"/>
            <a:ext cx="5181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s friendly people and chutzp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have to train suspicion into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ployees Can Introduce Dangerou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Social Engineering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6920" y="3510000"/>
            <a:ext cx="542124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97000" y="1946160"/>
            <a:ext cx="8636040" cy="3844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ther problem with strang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ruses, et.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ewalls are not th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viruses arrive on disk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loyee education hel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rus checkers are a great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Firewalls: Not a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doors usually diminish the effectiveness of a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irewall is often the only secure piece of an Internet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ercial firewalls are probably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652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ople go arou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ople go through the bad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give community a false sense of 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There is more to Internet security than installing a 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ttp://www.cheswick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s@bell-lab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irewalls and Internet Security: Repelling the Wily H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swick and Bell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SBN 0-201-63357-4, Addison Wesley, 1994. Also in German, Japanese, and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Yes, I’d love to sign your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s/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nything large enough to be called</a:t>
            </a:r>
            <a:br>
              <a:rPr sz="3200"/>
            </a:b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n “intranet” is probably out of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You don’t know to whom you are conn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ms are cheap and easy to hook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n’s “fax”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me commuting networks may link to spouse’s company, or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 routing work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ote managers can make extranet connections that aren’t author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connections can be very hard to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e security threat is still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You don’t know how many hosts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control is at the network level, not the host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 server entries are op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body keeps the reverse name service information up-to-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pping takes work, and doesn’t catch hosts that are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network links are ephem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ucent/AT&amp;T at the split (1996)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gt;6 fw, 300,000 hosts, 200 extra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38240" y="3325680"/>
            <a:ext cx="4430880" cy="109044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424240" y="4424400"/>
            <a:ext cx="768240" cy="789120"/>
            <a:chOff x="2424240" y="4424400"/>
            <a:chExt cx="768240" cy="789120"/>
          </a:xfrm>
        </p:grpSpPr>
        <p:grpSp>
          <p:nvGrpSpPr>
            <p:cNvPr id="98" name=""/>
            <p:cNvGrpSpPr/>
            <p:nvPr/>
          </p:nvGrpSpPr>
          <p:grpSpPr>
            <a:xfrm>
              <a:off x="2424240" y="4660920"/>
              <a:ext cx="768240" cy="318960"/>
              <a:chOff x="2424240" y="4660920"/>
              <a:chExt cx="768240" cy="3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2508120" y="4660920"/>
                <a:ext cx="5670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9084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80836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2424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80836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564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860640" y="4400640"/>
            <a:ext cx="770040" cy="831600"/>
            <a:chOff x="3860640" y="4400640"/>
            <a:chExt cx="770040" cy="831600"/>
          </a:xfrm>
        </p:grpSpPr>
        <p:grpSp>
          <p:nvGrpSpPr>
            <p:cNvPr id="106" name=""/>
            <p:cNvGrpSpPr/>
            <p:nvPr/>
          </p:nvGrpSpPr>
          <p:grpSpPr>
            <a:xfrm>
              <a:off x="3860640" y="4648320"/>
              <a:ext cx="770040" cy="336600"/>
              <a:chOff x="3860640" y="4648320"/>
              <a:chExt cx="770040" cy="336600"/>
            </a:xfrm>
          </p:grpSpPr>
          <p:sp>
            <p:nvSpPr>
              <p:cNvPr id="107" name=""/>
              <p:cNvSpPr/>
              <p:nvPr/>
            </p:nvSpPr>
            <p:spPr>
              <a:xfrm>
                <a:off x="3944880" y="4648320"/>
                <a:ext cx="5684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92904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424656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60640" y="498492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4246560" y="440064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2400" y="503388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416560" y="4424400"/>
            <a:ext cx="768240" cy="789120"/>
            <a:chOff x="5416560" y="4424400"/>
            <a:chExt cx="768240" cy="789120"/>
          </a:xfrm>
        </p:grpSpPr>
        <p:grpSp>
          <p:nvGrpSpPr>
            <p:cNvPr id="114" name=""/>
            <p:cNvGrpSpPr/>
            <p:nvPr/>
          </p:nvGrpSpPr>
          <p:grpSpPr>
            <a:xfrm>
              <a:off x="5416560" y="4660920"/>
              <a:ext cx="768240" cy="318960"/>
              <a:chOff x="5416560" y="4660920"/>
              <a:chExt cx="768240" cy="318960"/>
            </a:xfrm>
          </p:grpSpPr>
          <p:sp>
            <p:nvSpPr>
              <p:cNvPr id="115" name=""/>
              <p:cNvSpPr/>
              <p:nvPr/>
            </p:nvSpPr>
            <p:spPr>
              <a:xfrm>
                <a:off x="5499000" y="46609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8172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5799240" y="4660920"/>
                <a:ext cx="32040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41656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579924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1652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 txBox="1"/>
          <p:nvPr/>
        </p:nvSpPr>
        <p:spPr>
          <a:xfrm>
            <a:off x="1589040" y="5243400"/>
            <a:ext cx="2508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11360" y="5243400"/>
            <a:ext cx="1771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33800" y="5243400"/>
            <a:ext cx="1905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98920" y="2798640"/>
            <a:ext cx="768600" cy="320760"/>
            <a:chOff x="5398920" y="2798640"/>
            <a:chExt cx="768600" cy="320760"/>
          </a:xfrm>
        </p:grpSpPr>
        <p:sp>
          <p:nvSpPr>
            <p:cNvPr id="125" name=""/>
            <p:cNvSpPr/>
            <p:nvPr/>
          </p:nvSpPr>
          <p:spPr>
            <a:xfrm flipH="1">
              <a:off x="5516640" y="3119400"/>
              <a:ext cx="56808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578484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46732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98920" y="2798640"/>
              <a:ext cx="76860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5816520" y="3165480"/>
            <a:ext cx="0" cy="1890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99240" y="2563920"/>
            <a:ext cx="0" cy="1886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962520" y="2544840"/>
            <a:ext cx="768240" cy="790560"/>
            <a:chOff x="3962520" y="2544840"/>
            <a:chExt cx="768240" cy="790560"/>
          </a:xfrm>
        </p:grpSpPr>
        <p:grpSp>
          <p:nvGrpSpPr>
            <p:cNvPr id="132" name=""/>
            <p:cNvGrpSpPr/>
            <p:nvPr/>
          </p:nvGrpSpPr>
          <p:grpSpPr>
            <a:xfrm>
              <a:off x="3962520" y="2781360"/>
              <a:ext cx="768240" cy="318960"/>
              <a:chOff x="3962520" y="2781360"/>
              <a:chExt cx="768240" cy="31896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40784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43448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0273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9625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V="1">
              <a:off x="43797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624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406600" y="2563920"/>
            <a:ext cx="770040" cy="790560"/>
            <a:chOff x="2406600" y="2563920"/>
            <a:chExt cx="770040" cy="790560"/>
          </a:xfrm>
        </p:grpSpPr>
        <p:grpSp>
          <p:nvGrpSpPr>
            <p:cNvPr id="140" name=""/>
            <p:cNvGrpSpPr/>
            <p:nvPr/>
          </p:nvGrpSpPr>
          <p:grpSpPr>
            <a:xfrm>
              <a:off x="2406600" y="2798640"/>
              <a:ext cx="770040" cy="320760"/>
              <a:chOff x="2406600" y="2798640"/>
              <a:chExt cx="770040" cy="32076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2525760" y="3119400"/>
                <a:ext cx="5666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279252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247500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406600" y="279864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2825640" y="316548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808360" y="2563920"/>
              <a:ext cx="0" cy="18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 txBox="1"/>
          <p:nvPr/>
        </p:nvSpPr>
        <p:spPr>
          <a:xfrm>
            <a:off x="4732200" y="195408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111480" y="2152800"/>
            <a:ext cx="2440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226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400800" y="3579840"/>
            <a:ext cx="336600" cy="506520"/>
            <a:chOff x="6400800" y="3579840"/>
            <a:chExt cx="336600" cy="506520"/>
          </a:xfrm>
        </p:grpSpPr>
        <p:sp>
          <p:nvSpPr>
            <p:cNvPr id="151" name=""/>
            <p:cNvSpPr/>
            <p:nvPr/>
          </p:nvSpPr>
          <p:spPr>
            <a:xfrm flipH="1">
              <a:off x="6400800" y="357984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400800" y="36640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400800" y="37479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400800" y="383220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400800" y="39178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400800" y="400212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400800" y="40863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 txBox="1"/>
          <p:nvPr/>
        </p:nvSpPr>
        <p:spPr>
          <a:xfrm>
            <a:off x="6324480" y="3363840"/>
            <a:ext cx="220968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19852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T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35780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65560" y="3371760"/>
            <a:ext cx="0" cy="971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335240" y="5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ucent now (sort o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38240" y="3325680"/>
            <a:ext cx="4386240" cy="12463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655720" y="2271600"/>
            <a:ext cx="2508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en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590920" y="2544840"/>
            <a:ext cx="768240" cy="790560"/>
            <a:chOff x="2590920" y="2544840"/>
            <a:chExt cx="768240" cy="790560"/>
          </a:xfrm>
        </p:grpSpPr>
        <p:grpSp>
          <p:nvGrpSpPr>
            <p:cNvPr id="166" name=""/>
            <p:cNvGrpSpPr/>
            <p:nvPr/>
          </p:nvGrpSpPr>
          <p:grpSpPr>
            <a:xfrm>
              <a:off x="2590920" y="2781360"/>
              <a:ext cx="768240" cy="318960"/>
              <a:chOff x="2590920" y="2781360"/>
              <a:chExt cx="768240" cy="318960"/>
            </a:xfrm>
          </p:grpSpPr>
          <p:sp>
            <p:nvSpPr>
              <p:cNvPr id="167" name=""/>
              <p:cNvSpPr/>
              <p:nvPr/>
            </p:nvSpPr>
            <p:spPr>
              <a:xfrm flipH="1">
                <a:off x="27068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29732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6557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909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flipV="1">
              <a:off x="30081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9908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720800" y="2563920"/>
            <a:ext cx="770040" cy="790560"/>
            <a:chOff x="1720800" y="2563920"/>
            <a:chExt cx="770040" cy="790560"/>
          </a:xfrm>
        </p:grpSpPr>
        <p:grpSp>
          <p:nvGrpSpPr>
            <p:cNvPr id="174" name=""/>
            <p:cNvGrpSpPr/>
            <p:nvPr/>
          </p:nvGrpSpPr>
          <p:grpSpPr>
            <a:xfrm>
              <a:off x="1720800" y="2798640"/>
              <a:ext cx="770040" cy="320760"/>
              <a:chOff x="1720800" y="2798640"/>
              <a:chExt cx="770040" cy="32076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1839960" y="3119400"/>
                <a:ext cx="5666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210672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178920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720800" y="279864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flipV="1">
              <a:off x="2139840" y="316548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122560" y="2563920"/>
              <a:ext cx="0" cy="18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 txBox="1"/>
          <p:nvPr/>
        </p:nvSpPr>
        <p:spPr>
          <a:xfrm>
            <a:off x="3817800" y="187812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39880" y="1847880"/>
            <a:ext cx="2440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368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324480" y="3579840"/>
            <a:ext cx="412920" cy="506520"/>
            <a:chOff x="6324480" y="3579840"/>
            <a:chExt cx="412920" cy="506520"/>
          </a:xfrm>
        </p:grpSpPr>
        <p:sp>
          <p:nvSpPr>
            <p:cNvPr id="185" name=""/>
            <p:cNvSpPr/>
            <p:nvPr/>
          </p:nvSpPr>
          <p:spPr>
            <a:xfrm flipH="1">
              <a:off x="6324480" y="357984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324480" y="366408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324480" y="374796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324480" y="383220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324480" y="391788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24480" y="400212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24480" y="408636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6324480" y="3363840"/>
            <a:ext cx="220968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905120" y="3444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ucent - 100,000 people, 1000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05320" y="2544840"/>
            <a:ext cx="768240" cy="790560"/>
            <a:chOff x="3505320" y="2544840"/>
            <a:chExt cx="768240" cy="790560"/>
          </a:xfrm>
        </p:grpSpPr>
        <p:grpSp>
          <p:nvGrpSpPr>
            <p:cNvPr id="195" name=""/>
            <p:cNvGrpSpPr/>
            <p:nvPr/>
          </p:nvGrpSpPr>
          <p:grpSpPr>
            <a:xfrm>
              <a:off x="3505320" y="2781360"/>
              <a:ext cx="768240" cy="318960"/>
              <a:chOff x="3505320" y="2781360"/>
              <a:chExt cx="768240" cy="318960"/>
            </a:xfrm>
          </p:grpSpPr>
          <p:sp>
            <p:nvSpPr>
              <p:cNvPr id="196" name=""/>
              <p:cNvSpPr/>
              <p:nvPr/>
            </p:nvSpPr>
            <p:spPr>
              <a:xfrm flipH="1">
                <a:off x="36212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38876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35701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35053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flipV="1">
              <a:off x="39225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9052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419720" y="2544840"/>
            <a:ext cx="768240" cy="790560"/>
            <a:chOff x="4419720" y="2544840"/>
            <a:chExt cx="768240" cy="790560"/>
          </a:xfrm>
        </p:grpSpPr>
        <p:grpSp>
          <p:nvGrpSpPr>
            <p:cNvPr id="203" name=""/>
            <p:cNvGrpSpPr/>
            <p:nvPr/>
          </p:nvGrpSpPr>
          <p:grpSpPr>
            <a:xfrm>
              <a:off x="4419720" y="2781360"/>
              <a:ext cx="768240" cy="318960"/>
              <a:chOff x="4419720" y="2781360"/>
              <a:chExt cx="768240" cy="31896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45356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48020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845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44197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48369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8196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334120" y="2544840"/>
            <a:ext cx="768240" cy="790560"/>
            <a:chOff x="5334120" y="2544840"/>
            <a:chExt cx="768240" cy="790560"/>
          </a:xfrm>
        </p:grpSpPr>
        <p:grpSp>
          <p:nvGrpSpPr>
            <p:cNvPr id="211" name=""/>
            <p:cNvGrpSpPr/>
            <p:nvPr/>
          </p:nvGrpSpPr>
          <p:grpSpPr>
            <a:xfrm>
              <a:off x="5334120" y="2781360"/>
              <a:ext cx="768240" cy="318960"/>
              <a:chOff x="5334120" y="2781360"/>
              <a:chExt cx="768240" cy="318960"/>
            </a:xfrm>
          </p:grpSpPr>
          <p:sp>
            <p:nvSpPr>
              <p:cNvPr id="212" name=""/>
              <p:cNvSpPr/>
              <p:nvPr/>
            </p:nvSpPr>
            <p:spPr>
              <a:xfrm flipH="1">
                <a:off x="54500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flipV="1">
                <a:off x="57164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53989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3341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V="1">
              <a:off x="57513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7340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 txBox="1"/>
          <p:nvPr/>
        </p:nvSpPr>
        <p:spPr>
          <a:xfrm>
            <a:off x="4656240" y="187812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637000" y="1265400"/>
            <a:ext cx="2509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403880" y="5227560"/>
            <a:ext cx="4476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00 business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5200" y="4998960"/>
            <a:ext cx="3075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ousand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elecomm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590920" y="4572000"/>
            <a:ext cx="304560" cy="457200"/>
          </a:xfrm>
          <a:prstGeom prst="line">
            <a:avLst/>
          </a:prstGeom>
          <a:ln w="7632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4572000"/>
            <a:ext cx="1143000" cy="685800"/>
          </a:xfrm>
          <a:prstGeom prst="line">
            <a:avLst/>
          </a:prstGeom>
          <a:ln w="7632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>It's a jungle in there</dc:description>
  <dc:language>en-US</dc:language>
  <cp:lastModifiedBy>Bill Cheswick</cp:lastModifiedBy>
  <cp:revision>0</cp:revision>
  <dc:subject>Current problems and some partial solutions</dc:subject>
  <dc:title>Intranet Challenges</dc:title>
</cp:coreProperties>
</file>