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50.xml.rels" ContentType="application/vnd.openxmlformats-package.relationships+xml"/>
  <Override PartName="/ppt/notesSlides/notesSlide50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42B7-E5DC-41B2-AA26-CC1EC6474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AF55-BFDF-44ED-B9F4-0B98F5920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74FF-B1F7-4D21-9DCF-3452EB028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2B47-3BA2-4CC7-8CA1-E3FE230B9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7A16-44B7-4C1C-B87E-1C33E3B74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B471-759B-4A8E-8B25-6D73980C0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17A0-35A9-407B-BEF5-249600DF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CE1E-6D49-4424-AA12-700A201AB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C45-A1E7-45B5-8C73-ACF92C72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5E2-454E-4094-AE2F-694503AB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94C-19AA-43DC-AC0D-B7EEFF4C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4CA-E5F5-4856-90E2-AB5933DC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313-78E1-4489-B608-FA578AE3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FD5-1CC6-4D3E-ADF6-C6AE518D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58F-4E3A-4B2D-8201-DDD51E48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A16-0E8A-4252-B327-43D4B426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0A9-C314-4E26-A673-F3036459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0C5-71A8-4654-A64D-AFCDCD23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A89-9D03-40D8-B078-4749ED7B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002-4FB6-483C-89DF-2751011E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CF6E-28B5-411C-A58E-DA4F89538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: what it looks like, how it works, and how it is ab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B94-BF41-418B-BB49-BA1DFCB8571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s and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initiate the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ar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 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ient’s name is usually un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s answer calls from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s ar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audio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’s names are well known, I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yahoo.co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A6F-B64E-4F3C-A6E1-583695E5C26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/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3C5-3EB7-4F00-A1D1-FAEBC3232BB9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2640" y="2768760"/>
            <a:ext cx="254016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35520" y="2768760"/>
            <a:ext cx="254016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8680" y="52578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0480" y="52578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02160" y="57405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2840" y="58672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25400" y="21337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13400" y="22096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CD6-4ECE-4093-8E31-603375B8270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protocols, standards, and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by the government (DARPA rese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priesthood” of geeks polished i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by 19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describes the basic packet formats an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packets may be dropped, duplicated, and misro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brings order to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480-633A-446F-AE9C-FB94AD513044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9680" y="28195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2640" y="2768760"/>
            <a:ext cx="254016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2640" y="3362400"/>
            <a:ext cx="254016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2640" y="4597560"/>
            <a:ext cx="254016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3480" y="35053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13680" y="4114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9960" y="46483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35520" y="2768760"/>
            <a:ext cx="2539800" cy="2463480"/>
            <a:chOff x="5735520" y="2768760"/>
            <a:chExt cx="2539800" cy="2463480"/>
          </a:xfrm>
        </p:grpSpPr>
        <p:sp>
          <p:nvSpPr>
            <p:cNvPr id="85" name=""/>
            <p:cNvSpPr/>
            <p:nvPr/>
          </p:nvSpPr>
          <p:spPr>
            <a:xfrm>
              <a:off x="5812560" y="28195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35520" y="27687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5520" y="33624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5520" y="45975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46000" y="35053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66560" y="41148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52840" y="46483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128680" y="52578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100480" y="52578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2160" y="57405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2840" y="58672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25400" y="21337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13400" y="22096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6F4-2564-4F26-9624-B1B50965D5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0600" y="297180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560" y="2921040"/>
            <a:ext cx="2540160" cy="2463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3560" y="3514680"/>
            <a:ext cx="254016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4749840"/>
            <a:ext cx="254016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4400" y="365760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94600" y="42670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0880" y="480060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716440" y="2921040"/>
            <a:ext cx="2539800" cy="2463480"/>
            <a:chOff x="5716440" y="2921040"/>
            <a:chExt cx="2539800" cy="2463480"/>
          </a:xfrm>
        </p:grpSpPr>
        <p:sp>
          <p:nvSpPr>
            <p:cNvPr id="107" name=""/>
            <p:cNvSpPr/>
            <p:nvPr/>
          </p:nvSpPr>
          <p:spPr>
            <a:xfrm>
              <a:off x="5793480" y="297180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6440" y="292104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6440" y="351468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6440" y="474984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26920" y="365760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47480" y="426708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33760" y="480060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109960" y="5410080"/>
            <a:ext cx="1447560" cy="838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081760" y="5410080"/>
            <a:ext cx="1371600" cy="838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3080" y="5892840"/>
            <a:ext cx="1473120" cy="635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13760" y="601992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6320" y="228600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94320" y="236232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3240" y="3513240"/>
            <a:ext cx="5369040" cy="2701800"/>
          </a:xfrm>
          <a:custGeom>
            <a:avLst/>
            <a:gdLst/>
            <a:ahLst/>
            <a:rect l="l" t="t" r="r" b="b"/>
            <a:pathLst>
              <a:path w="3382" h="1702">
                <a:moveTo>
                  <a:pt x="128" y="0"/>
                </a:moveTo>
                <a:cubicBezTo>
                  <a:pt x="149" y="236"/>
                  <a:pt x="0" y="1142"/>
                  <a:pt x="252" y="1417"/>
                </a:cubicBezTo>
                <a:cubicBezTo>
                  <a:pt x="504" y="1692"/>
                  <a:pt x="1164" y="1649"/>
                  <a:pt x="1641" y="1651"/>
                </a:cubicBezTo>
                <a:cubicBezTo>
                  <a:pt x="2118" y="1653"/>
                  <a:pt x="2852" y="1702"/>
                  <a:pt x="3117" y="1427"/>
                </a:cubicBezTo>
                <a:cubicBezTo>
                  <a:pt x="3382" y="1152"/>
                  <a:pt x="3207" y="297"/>
                  <a:pt x="3231" y="0"/>
                </a:cubicBezTo>
              </a:path>
            </a:pathLst>
          </a:custGeom>
          <a:noFill/>
          <a:ln w="88920">
            <a:solidFill>
              <a:srgbClr val="0000ff"/>
            </a:solidFill>
            <a:round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FA5-BD3A-484F-BCCD-205DC0CC1F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ternet traffic consists of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cket is roughly 64 to 1,500 characters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acket has a source and destination IP address, and a pay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792-E3E0-4A2D-BA10-3D11B89A2F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IP Pack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implifi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666880" y="1905120"/>
            <a:ext cx="3657600" cy="4114800"/>
            <a:chOff x="2666880" y="1905120"/>
            <a:chExt cx="3657600" cy="4114800"/>
          </a:xfrm>
        </p:grpSpPr>
        <p:sp>
          <p:nvSpPr>
            <p:cNvPr id="125" name=""/>
            <p:cNvSpPr/>
            <p:nvPr/>
          </p:nvSpPr>
          <p:spPr>
            <a:xfrm>
              <a:off x="2666880" y="1905120"/>
              <a:ext cx="3657600" cy="4114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0120" y="2000520"/>
              <a:ext cx="13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69680" y="261000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tin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400" y="4362840"/>
              <a:ext cx="149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6688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148-0E7B-4A3D-8029-87D3C3E956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consists of 4 “octets”: 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4.178.16.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permanently assigned to a host, or dynamically assigned when the host is boo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758,096,384 IP addresse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running out!  (sort o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087-E1F0-40CD-80E5-95319DE250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IP Pa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09480" y="1905120"/>
            <a:ext cx="3657600" cy="4114800"/>
            <a:chOff x="609480" y="1905120"/>
            <a:chExt cx="3657600" cy="4114800"/>
          </a:xfrm>
        </p:grpSpPr>
        <p:sp>
          <p:nvSpPr>
            <p:cNvPr id="135" name=""/>
            <p:cNvSpPr/>
            <p:nvPr/>
          </p:nvSpPr>
          <p:spPr>
            <a:xfrm>
              <a:off x="609480" y="1905120"/>
              <a:ext cx="3657600" cy="4114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82720" y="2000520"/>
              <a:ext cx="13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12280" y="261000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tin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92000" y="4362840"/>
              <a:ext cx="149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48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952880" y="1905120"/>
            <a:ext cx="3657600" cy="41148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5120" y="200016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7.99.106.1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6120" y="2610000"/>
            <a:ext cx="29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9.185.108.1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poetry of Zambian orig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2590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276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C90-C6D3-4554-9271-A551328E3D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IP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1905120"/>
            <a:ext cx="3657600" cy="41148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05400" y="266688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7.99.106.1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29080" y="1981080"/>
            <a:ext cx="29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9.185.108.1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58128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,864 matches foun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1: 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590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276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1905120"/>
            <a:ext cx="3657600" cy="4114800"/>
            <a:chOff x="685800" y="1905120"/>
            <a:chExt cx="3657600" cy="4114800"/>
          </a:xfrm>
        </p:grpSpPr>
        <p:sp>
          <p:nvSpPr>
            <p:cNvPr id="155" name=""/>
            <p:cNvSpPr/>
            <p:nvPr/>
          </p:nvSpPr>
          <p:spPr>
            <a:xfrm>
              <a:off x="685800" y="1905120"/>
              <a:ext cx="3657600" cy="4114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48040" y="2000160"/>
              <a:ext cx="273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07.99.106.13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49040" y="2610000"/>
              <a:ext cx="293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09.185.108.15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3581280"/>
              <a:ext cx="312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rench poetry of Zambian origin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2AF-EC93-47D8-A8FB-E3BE5323610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Internet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78C-3AE2-4352-B559-1F5E21A2F5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EF3-D00D-4389-AFFE-F381B3499E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rea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5562720"/>
            <a:ext cx="1828800" cy="530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10552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6600" y="419112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76960" y="41911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7240" y="563724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96600" y="56386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3640" y="56386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4800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026-ECF9-41E1-80CD-BB11A84B34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rea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5562720"/>
            <a:ext cx="1828800" cy="530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10552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6600" y="419112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76960" y="41911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7240" y="563724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96600" y="56386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3640" y="56386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882760" y="2666880"/>
            <a:ext cx="2134800" cy="1923120"/>
            <a:chOff x="5882760" y="2666880"/>
            <a:chExt cx="2134800" cy="1923120"/>
          </a:xfrm>
        </p:grpSpPr>
        <p:sp>
          <p:nvSpPr>
            <p:cNvPr id="199" name=""/>
            <p:cNvSpPr/>
            <p:nvPr/>
          </p:nvSpPr>
          <p:spPr>
            <a:xfrm>
              <a:off x="7162920" y="3048120"/>
              <a:ext cx="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1960" y="2666880"/>
              <a:ext cx="1695600" cy="398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To the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2760" y="3886200"/>
              <a:ext cx="1524960" cy="70380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135.104.52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(rout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6705720" y="464832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4800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335-083C-4F14-A370-76ACB332C2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rea network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mod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562720"/>
            <a:ext cx="1828800" cy="530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510552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600" y="419112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6960" y="41911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7240" y="563724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96600" y="56386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3640" y="56386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79600" y="3429000"/>
            <a:ext cx="406440" cy="685800"/>
            <a:chOff x="1479600" y="3429000"/>
            <a:chExt cx="406440" cy="685800"/>
          </a:xfrm>
        </p:grpSpPr>
        <p:sp>
          <p:nvSpPr>
            <p:cNvPr id="223" name=""/>
            <p:cNvSpPr/>
            <p:nvPr/>
          </p:nvSpPr>
          <p:spPr>
            <a:xfrm>
              <a:off x="1479600" y="3429000"/>
              <a:ext cx="406440" cy="398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76520" y="38862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2240" y="2209680"/>
            <a:ext cx="1256760" cy="703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2971800"/>
            <a:ext cx="0" cy="45720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971800"/>
            <a:ext cx="0" cy="45720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800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82760" y="2666880"/>
            <a:ext cx="2134800" cy="1923120"/>
            <a:chOff x="5882760" y="2666880"/>
            <a:chExt cx="2134800" cy="1923120"/>
          </a:xfrm>
        </p:grpSpPr>
        <p:sp>
          <p:nvSpPr>
            <p:cNvPr id="231" name=""/>
            <p:cNvSpPr/>
            <p:nvPr/>
          </p:nvSpPr>
          <p:spPr>
            <a:xfrm>
              <a:off x="7162920" y="30481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1960" y="2666880"/>
              <a:ext cx="169560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the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760" y="3886200"/>
              <a:ext cx="152496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35.104.52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rout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001600" y="3429000"/>
            <a:ext cx="406440" cy="685800"/>
            <a:chOff x="2001600" y="3429000"/>
            <a:chExt cx="406440" cy="685800"/>
          </a:xfrm>
        </p:grpSpPr>
        <p:sp>
          <p:nvSpPr>
            <p:cNvPr id="235" name=""/>
            <p:cNvSpPr/>
            <p:nvPr/>
          </p:nvSpPr>
          <p:spPr>
            <a:xfrm>
              <a:off x="2001600" y="3429000"/>
              <a:ext cx="406440" cy="398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8520" y="38862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535120" y="3429000"/>
            <a:ext cx="406440" cy="685800"/>
            <a:chOff x="2535120" y="3429000"/>
            <a:chExt cx="406440" cy="685800"/>
          </a:xfrm>
        </p:grpSpPr>
        <p:sp>
          <p:nvSpPr>
            <p:cNvPr id="238" name=""/>
            <p:cNvSpPr/>
            <p:nvPr/>
          </p:nvSpPr>
          <p:spPr>
            <a:xfrm>
              <a:off x="2535120" y="3429000"/>
              <a:ext cx="406440" cy="398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2040" y="38862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642-0636-4CFC-9EDA-F4F3E822DAB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242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155-797E-4C61-85D0-180A635725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285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93400" y="4129200"/>
            <a:ext cx="291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ach router has a list of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etwork destination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to forward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 them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190760" y="3581280"/>
            <a:ext cx="1447560" cy="1067040"/>
          </a:xfrm>
          <a:prstGeom prst="line">
            <a:avLst/>
          </a:prstGeom>
          <a:ln w="64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67360" y="5805360"/>
            <a:ext cx="35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..except this gateway, which 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 single “default” ro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352320" y="5486040"/>
            <a:ext cx="838440" cy="685800"/>
          </a:xfrm>
          <a:prstGeom prst="line">
            <a:avLst/>
          </a:prstGeom>
          <a:ln w="64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A59-103D-461C-ABF7-C9D8B19D5B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62120" y="2514600"/>
            <a:ext cx="1571400" cy="1448640"/>
            <a:chOff x="762120" y="2514600"/>
            <a:chExt cx="1571400" cy="1448640"/>
          </a:xfrm>
        </p:grpSpPr>
        <p:sp>
          <p:nvSpPr>
            <p:cNvPr id="345" name=""/>
            <p:cNvSpPr/>
            <p:nvPr/>
          </p:nvSpPr>
          <p:spPr>
            <a:xfrm>
              <a:off x="909000" y="281916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2120" y="2811240"/>
              <a:ext cx="157140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3089160"/>
              <a:ext cx="157140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120" y="366552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5960" y="312408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70160" y="335268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64880" y="365760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1800" y="251460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800600" y="3048120"/>
            <a:ext cx="1571400" cy="915480"/>
            <a:chOff x="4800600" y="3048120"/>
            <a:chExt cx="1571400" cy="915480"/>
          </a:xfrm>
        </p:grpSpPr>
        <p:sp>
          <p:nvSpPr>
            <p:cNvPr id="354" name=""/>
            <p:cNvSpPr/>
            <p:nvPr/>
          </p:nvSpPr>
          <p:spPr>
            <a:xfrm>
              <a:off x="4800600" y="335304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00600" y="366588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09360" y="335304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3360" y="365796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55640" y="304812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819520" y="3048120"/>
            <a:ext cx="1571400" cy="915480"/>
            <a:chOff x="2819520" y="3048120"/>
            <a:chExt cx="1571400" cy="915480"/>
          </a:xfrm>
        </p:grpSpPr>
        <p:sp>
          <p:nvSpPr>
            <p:cNvPr id="360" name=""/>
            <p:cNvSpPr/>
            <p:nvPr/>
          </p:nvSpPr>
          <p:spPr>
            <a:xfrm>
              <a:off x="2819520" y="335304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19520" y="366588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28280" y="335304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22280" y="365796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4560" y="304812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629400" y="3048120"/>
            <a:ext cx="1571400" cy="915480"/>
            <a:chOff x="6629400" y="3048120"/>
            <a:chExt cx="1571400" cy="915480"/>
          </a:xfrm>
        </p:grpSpPr>
        <p:sp>
          <p:nvSpPr>
            <p:cNvPr id="366" name=""/>
            <p:cNvSpPr/>
            <p:nvPr/>
          </p:nvSpPr>
          <p:spPr>
            <a:xfrm>
              <a:off x="6629400" y="335304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366588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38160" y="335304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2160" y="365796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84440" y="304812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952880"/>
            <a:ext cx="1571400" cy="915480"/>
            <a:chOff x="4876920" y="4952880"/>
            <a:chExt cx="1571400" cy="915480"/>
          </a:xfrm>
        </p:grpSpPr>
        <p:sp>
          <p:nvSpPr>
            <p:cNvPr id="372" name=""/>
            <p:cNvSpPr/>
            <p:nvPr/>
          </p:nvSpPr>
          <p:spPr>
            <a:xfrm>
              <a:off x="4876920" y="52578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76920" y="55706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85680" y="52578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79680" y="55627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31960" y="49528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8120" y="4952880"/>
            <a:ext cx="1571400" cy="915480"/>
            <a:chOff x="3048120" y="4952880"/>
            <a:chExt cx="1571400" cy="915480"/>
          </a:xfrm>
        </p:grpSpPr>
        <p:sp>
          <p:nvSpPr>
            <p:cNvPr id="378" name=""/>
            <p:cNvSpPr/>
            <p:nvPr/>
          </p:nvSpPr>
          <p:spPr>
            <a:xfrm>
              <a:off x="3048120" y="52578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48120" y="55706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56880" y="52578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50880" y="55627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03160" y="49528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781680" y="4419720"/>
            <a:ext cx="1571760" cy="1448640"/>
            <a:chOff x="6781680" y="4419720"/>
            <a:chExt cx="1571760" cy="1448640"/>
          </a:xfrm>
        </p:grpSpPr>
        <p:sp>
          <p:nvSpPr>
            <p:cNvPr id="384" name=""/>
            <p:cNvSpPr/>
            <p:nvPr/>
          </p:nvSpPr>
          <p:spPr>
            <a:xfrm>
              <a:off x="6928920" y="472428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81680" y="4716360"/>
              <a:ext cx="157176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81680" y="4994280"/>
              <a:ext cx="157176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1680" y="5570640"/>
              <a:ext cx="157176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85880" y="502920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90440" y="52578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084800" y="55627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47880" y="441972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447920" y="3048120"/>
            <a:ext cx="7007040" cy="3149640"/>
          </a:xfrm>
          <a:custGeom>
            <a:avLst/>
            <a:gdLst/>
            <a:ahLst/>
            <a:rect l="l" t="t" r="r" b="b"/>
            <a:pathLst>
              <a:path w="4414" h="1984">
                <a:moveTo>
                  <a:pt x="0" y="0"/>
                </a:moveTo>
                <a:cubicBezTo>
                  <a:pt x="66" y="109"/>
                  <a:pt x="235" y="545"/>
                  <a:pt x="398" y="654"/>
                </a:cubicBezTo>
                <a:cubicBezTo>
                  <a:pt x="561" y="763"/>
                  <a:pt x="820" y="716"/>
                  <a:pt x="977" y="654"/>
                </a:cubicBezTo>
                <a:cubicBezTo>
                  <a:pt x="1134" y="592"/>
                  <a:pt x="1213" y="282"/>
                  <a:pt x="1339" y="282"/>
                </a:cubicBezTo>
                <a:cubicBezTo>
                  <a:pt x="1465" y="282"/>
                  <a:pt x="1584" y="592"/>
                  <a:pt x="1732" y="654"/>
                </a:cubicBezTo>
                <a:cubicBezTo>
                  <a:pt x="1880" y="716"/>
                  <a:pt x="2086" y="715"/>
                  <a:pt x="2229" y="654"/>
                </a:cubicBezTo>
                <a:cubicBezTo>
                  <a:pt x="2372" y="593"/>
                  <a:pt x="2468" y="290"/>
                  <a:pt x="2592" y="288"/>
                </a:cubicBezTo>
                <a:cubicBezTo>
                  <a:pt x="2716" y="286"/>
                  <a:pt x="2845" y="585"/>
                  <a:pt x="2974" y="644"/>
                </a:cubicBezTo>
                <a:cubicBezTo>
                  <a:pt x="3103" y="703"/>
                  <a:pt x="3239" y="703"/>
                  <a:pt x="3367" y="644"/>
                </a:cubicBezTo>
                <a:cubicBezTo>
                  <a:pt x="3495" y="585"/>
                  <a:pt x="3646" y="276"/>
                  <a:pt x="3744" y="288"/>
                </a:cubicBezTo>
                <a:cubicBezTo>
                  <a:pt x="3842" y="300"/>
                  <a:pt x="4414" y="567"/>
                  <a:pt x="3956" y="716"/>
                </a:cubicBezTo>
                <a:cubicBezTo>
                  <a:pt x="3498" y="865"/>
                  <a:pt x="1487" y="987"/>
                  <a:pt x="998" y="1182"/>
                </a:cubicBezTo>
                <a:cubicBezTo>
                  <a:pt x="509" y="1377"/>
                  <a:pt x="937" y="1834"/>
                  <a:pt x="1019" y="1885"/>
                </a:cubicBezTo>
                <a:cubicBezTo>
                  <a:pt x="1101" y="1936"/>
                  <a:pt x="1347" y="1493"/>
                  <a:pt x="1488" y="1488"/>
                </a:cubicBezTo>
                <a:cubicBezTo>
                  <a:pt x="1629" y="1483"/>
                  <a:pt x="1735" y="1793"/>
                  <a:pt x="1867" y="1854"/>
                </a:cubicBezTo>
                <a:cubicBezTo>
                  <a:pt x="1999" y="1915"/>
                  <a:pt x="2152" y="1923"/>
                  <a:pt x="2281" y="1854"/>
                </a:cubicBezTo>
                <a:cubicBezTo>
                  <a:pt x="2410" y="1785"/>
                  <a:pt x="2513" y="1440"/>
                  <a:pt x="2640" y="1440"/>
                </a:cubicBezTo>
                <a:cubicBezTo>
                  <a:pt x="2767" y="1440"/>
                  <a:pt x="2914" y="1782"/>
                  <a:pt x="3046" y="1854"/>
                </a:cubicBezTo>
                <a:cubicBezTo>
                  <a:pt x="3178" y="1926"/>
                  <a:pt x="3305" y="1984"/>
                  <a:pt x="3429" y="1875"/>
                </a:cubicBezTo>
                <a:cubicBezTo>
                  <a:pt x="3553" y="1766"/>
                  <a:pt x="3717" y="1341"/>
                  <a:pt x="3792" y="12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212-BB23-4ACB-BB5F-138D888186F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rt (in D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he path to an Internet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diagnose those mysterious Internet failures and slowd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56C-2ACE-4E2D-B90B-830CB5AF53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9144000" cy="6881760"/>
            <a:chOff x="0" y="0"/>
            <a:chExt cx="9144000" cy="688176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rcRect l="0" t="0" r="0" b="15555"/>
            <a:stretch/>
          </p:blipFill>
          <p:spPr>
            <a:xfrm>
              <a:off x="0" y="0"/>
              <a:ext cx="9144000" cy="57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rcRect l="0" t="66326" r="0" b="14515"/>
            <a:stretch/>
          </p:blipFill>
          <p:spPr>
            <a:xfrm>
              <a:off x="0" y="5567400"/>
              <a:ext cx="9144000" cy="131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12F-DF06-450D-AB5F-BA0C2F05BFC7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0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880-80F7-4E20-AC58-054DF540D68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829-71C9-4A3A-B4B7-14617C6C70E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03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2F0-14E6-411F-928E-40C497EF0B9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0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3C9-7C3C-4E09-8C8F-1C37180DE4C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0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45A-EE01-439C-84DE-F740E4CF6B71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06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197-796C-4E93-9FCC-B75C33FE1288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DF4-1B7E-4507-AA07-5FEE0B83085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08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6EA-BA86-4CFA-A5A7-3F707DABCE0E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09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9F3-984A-466F-A1B5-46DA55783224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10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AFD-A920-445A-A705-1E75D12EF00F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F60-4A39-47AD-8F42-2215764AB2F7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1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570-79AB-4C21-9B84-ADF110CE8794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E16-5CF7-41FA-A6A8-BBD1056A0A5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13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5C1-9792-4850-A231-F7139986EC6B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AF5-F4AC-47CD-A3C0-D3E0AB2271A8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2BD-2453-4C96-BF47-3898EBA98AC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16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95D-098B-430B-9F60-42857544A0E8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347-43FC-4126-8813-9711A3566D13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8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7BC-3F0B-4887-AC25-E4471B9C35F1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9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38F-4FE9-43F6-BF27-7F26EFB40AA7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20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07E-C23F-4A92-9102-9E538725557C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2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365-ACA2-4EC6-9CFB-39B7ED08F8FB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2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4FD-7E5E-4993-A6B5-230CBEEC2626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e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053-18D6-4A9D-8854-A51505E7F11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i01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88D-E55A-43E9-BB5B-3729C9F4EB3B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l121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3FC-679D-4540-8F41-C00B1C5F1DAD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these packets find their way through this m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ter routing lists have some 50,000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ze of this table is a limit to Internet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ackets don’t find thei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y routers drop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1FD-B887-4D3A-93A5-C4C1A34029D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s play hot-potato with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only need to know the next router for any IP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verage packet travels 17 hops on the Internet between client and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542-FAC2-44EC-BC28-354CDB0BB9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ming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B19-8343-4414-A8C9-7C3D538F98D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19360" y="2057400"/>
            <a:ext cx="3778200" cy="34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supplies a reliable connection to the other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s a stream of data into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es packets into 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 1 - 655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, or tim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430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61D-5381-4E23-BCB6-ABC6F8BE10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services, by th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: 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: tel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: smtp (ma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: http (w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09C-DAD4-4DA1-83CD-2FF111ABBB1F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 Name Serv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p.research.bell-lab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nasa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198.116.116.10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.att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heswick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converts names to IP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C45-9EF1-440D-A4C6-9C5563857A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ample Internet s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implified a bi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6F4-7A67-4ECD-A06D-56A40245F0B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types URL found on a beer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564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52640" y="457200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budweise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33A-D5C4-4DE9-B1AA-32EEC9DC8A8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sco" descr=""/>
          <p:cNvPicPr/>
          <p:nvPr/>
        </p:nvPicPr>
        <p:blipFill>
          <a:blip r:embed="rId1"/>
          <a:stretch/>
        </p:blipFill>
        <p:spPr>
          <a:xfrm>
            <a:off x="2295360" y="0"/>
            <a:ext cx="4413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65E-DE03-4683-8334-0B9D6816E30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owser uses the DNS to look up the IP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52640" y="457200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udweis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swer is 207.87.7.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4038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3294000" y="3809520"/>
            <a:ext cx="36360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2B4-C91A-4EF1-AE62-955736C6453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ser sends request packet to the gatew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to 207.87.7.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5120" y="4572000"/>
            <a:ext cx="57924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914400" y="4723920"/>
            <a:ext cx="11430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FC9-33C1-40EF-9F8C-61485EADD5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 forwards packet to default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4572000"/>
            <a:ext cx="57924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914400" y="4723920"/>
            <a:ext cx="11430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09520"/>
            <a:ext cx="8380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D0A-E3A0-484F-9863-C56D67B1E5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547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09880" y="35812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105520" y="2437920"/>
            <a:ext cx="167616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858000" y="152352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7162560" y="9907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229-73C5-4925-B10A-126C47A7EDAD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608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809880" y="35812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105520" y="2437920"/>
            <a:ext cx="1676160" cy="838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858000" y="152352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7162560" y="9907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D1D-F71A-4F0E-AD4C-63A940A4B40C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ery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38C-1E90-49F6-B436-F2E86B9FF4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types the wrong 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564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52640" y="457200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RLs not suited to spe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lling counts in U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dge.com is not drudgerepor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dwiese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altavista.com is not www.altavista.digita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A2D-356A-43B1-982D-7B2BCB7357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gives an incorrec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52640" y="457200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ght be hacked or miss-config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che poiso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57600" y="4038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3294000" y="3809520"/>
            <a:ext cx="36360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42B-B35A-4B3B-8A67-C4E11463E07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724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2514240" y="2361960"/>
            <a:ext cx="114300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362320" y="10666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37000" y="335268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might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ve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B52-747B-4F3A-973F-7ED7942A6C74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785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09880" y="35812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105520" y="2437920"/>
            <a:ext cx="167616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858000" y="152352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7162560" y="9907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89360" y="4419720"/>
            <a:ext cx="383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ves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usually at the end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in the midd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F4D-8545-4541-83F4-40D611B3CA18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lu" descr=""/>
          <p:cNvPicPr/>
          <p:nvPr/>
        </p:nvPicPr>
        <p:blipFill>
          <a:blip r:embed="rId1"/>
          <a:stretch/>
        </p:blipFill>
        <p:spPr>
          <a:xfrm>
            <a:off x="2228760" y="0"/>
            <a:ext cx="4686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8DE-920C-44C6-B1EB-4DCD12C836A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847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3809880" y="35812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5105520" y="2437920"/>
            <a:ext cx="167616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6858000" y="152352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 flipV="1">
            <a:off x="7162560" y="9907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5240" y="4419720"/>
            <a:ext cx="40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ver compromi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ost common hac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76B-952E-4E9E-A10C-ED025CF6A8EA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TCP serv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n SGI works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315-E85F-4C11-9760-6930D5CCFCB4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default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81440" y="1909800"/>
            <a:ext cx="7545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6A9-C04E-425E-B90A-C19F39713371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bad services are found with a port sca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B77-1BD2-4CAE-9BD8-7E255946B9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58040" y="1523880"/>
            <a:ext cx="71150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mux         1/tcp # TCP port multiplexer (RFC 10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          7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card        9/tcp sink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ytime       13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gen       19/tcp ttyts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tp           21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 22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lnet        23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mtp          25/tcp 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          37/tcp tim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ain        53/tcp nameserver    # name-domai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nger        79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          80/tcp # World-Wide-Web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-3        110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nrpc       111/tcp rpcb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ap         143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ell        514/tcp cmd           # no passwords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er      515/tcp spooler               # line printer spoo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548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fs          564/tcp 9fs           # plan 9 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ec         512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gin        513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684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7E0-DA44-4326-885A-43F5921C9C38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1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2320" y="1600200"/>
            <a:ext cx="57279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81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86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90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908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map        993/tcp # imap over s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48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51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6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62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66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69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97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19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514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711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2049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2077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gi-dgl     5232/tcp # SGI Distributed Graphics Li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fengine    5308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1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2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D8F-9F67-4654-A304-89A171C5C42E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1 (cont. 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16280" y="1828800"/>
            <a:ext cx="348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1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2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4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666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261-379B-4462-885D-C37DF8D3482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99520" y="1752480"/>
            <a:ext cx="859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h           22/tcp SSH Remote Logi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p          25/tcp Simple Mail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          80/tcp World Wide Web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ge        990/tcp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d         999/tcp ge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ackjack   1025/tcp network black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6000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8000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4C2-BF72-4B78-94D7-EA5127ED7846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5480" y="1828800"/>
            <a:ext cx="859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  22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          80/tcp # World-Wide-Web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fs          564/tcp 9fs           # plan 9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 990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6010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2A9-67E1-4E8D-B188-7218767A040A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52160" y="21337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tbios-ssn  139/tcp NETBIOS Sessio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253-1938-43AA-AE7A-4371B827AEA8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1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2C1-B31C-4FD7-A06E-8128E65306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one service is relatively w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has experts, but it doesn’t show up in their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kie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ly cracked password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413-0444-4FCF-8051-2E334D6780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PCs running Windows can be relatively safe from attacks on network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80C-D5BF-47D7-9C56-F61B70638D4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s relatively sa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e client, not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urned on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not the target of a specific, personal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turn off that file shar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5AA-DE62-41C1-B33B-01ACCAAA166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Engineering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26920" y="3510000"/>
            <a:ext cx="542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9C3-8BAF-4D37-B51F-BD9264C8C576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61240" cy="387036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problem with strang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88A-F00D-4FE8-930E-BB0DB34A9256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ed to useful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 other programs when moved to new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s 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bout 200 new viruses repor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ey are spread by Word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ecutable ?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CB4-6A75-4E11-9E44-44570E1C493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paylo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ard to damage hardware itsel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political or other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down a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yp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ly transpose a few digits on a spread-she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959-D098-4FF5-AC81-8780E794C3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s can be made attack-resis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takes judgement and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to turn off useful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hosts are not much fun to work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ers can make machine-compromising mis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ve errors can open them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6E4-4312-4112-ACCE-E7BA551F37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Strong authent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90960" cy="364824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95400" y="5257800"/>
            <a:ext cx="3867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/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or printout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proprietary serve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5BF-B29F-465E-B0F6-B24252342D4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ong encryption hel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fix all ou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vernment doesn’t want ubiquitous strong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CPUs can handle it easily and transpa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D39-0183-4DF1-900B-0F983A629DC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heart of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are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-wired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27D-D2B0-448E-A9D8-AFBDE157A9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FBB-3491-4DF7-90F4-06B8477B8A4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host #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31D-0305-4293-BEBD-64D4FBC9BE7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752560" y="112680"/>
            <a:ext cx="34905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39C-79D4-4CE8-ACF4-F00DD6206F85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can protect a community with a guard at the ent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l services are blocked from external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et the good guys go out, and keep the bad guys from comin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erfect, but the economics are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964-A356-43FD-8169-0A382DD71607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ks I Have Kn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ur profession gets above the fold on the first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C74-9E34-4EE1-9025-E0C7A5DD5D64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rris Worm (198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 alon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 gu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s in two comm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med up hosts with reproducing worm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protected Bell Labs from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53D-7E4C-48FB-8E69-CD82FD98686B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ous web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host #1-type h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hard to turn off all services and still have a useful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content” makes it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cate sites are harder to prot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 is a hallmark of goo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799-E2A7-4349-AE64-FD0DC3CB46E7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r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rummy, ignored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like host #2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ad service turned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never know how they brok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goal was to damage our re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Liberation Fro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652-E29D-4196-9359-1FEE8A93BE07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Does This Stuf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e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sp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gover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784-9737-4740-B854-3BFC69797710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io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 job in compu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eople are scarce, and well-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 and training for the “next w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s on the infrastructure envisio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5C0-A2F2-4111-AD86-3FD5250DD65C}" type="slidenum">
              <a:t>9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21:59:22Z</dcterms:created>
  <dc:creator>Bill Cheswick</dc:creator>
  <dc:description/>
  <dc:language>en-US</dc:language>
  <cp:lastModifiedBy>Bill Cheswick</cp:lastModifiedBy>
  <dcterms:modified xsi:type="dcterms:W3CDTF">1999-02-06T01:54:50Z</dcterms:modified>
  <cp:revision>14</cp:revision>
  <dc:subject/>
  <dc:title>The Internet: what it looks like, how it works, and how it is abused</dc:title>
</cp:coreProperties>
</file>