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1D8754-2AA6-477B-A306-8F85C5B0FF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0C3A4E-4D0B-4885-9ABA-9C6598BFBE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172870-C94E-4DBA-9545-D7FAEB12CD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278668-3EB8-4146-9195-0D3A6C812A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AFD7EF-5C64-4F96-9E21-B61124FBCD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A6EF28-7EAD-4E2F-912C-711B871EFC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9B3705-CAB8-4FC9-89E7-1ACD335556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687341-41D9-4B43-A55D-F716CA9788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447397-D74D-423D-BF18-A8922AA232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CD67CE-9A92-44BC-892D-A54F029C64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C3ECFD-7D67-44E2-A929-3023164E60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0D8FC9-9B88-43DC-9F63-9D3D3392F1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01EE5-D6A6-40CE-8757-AC2B1CD8FCB0}" type="datetime3">
              <a:rPr b="0" lang="en-US" sz="1400" spc="-1" strike="noStrike">
                <a:solidFill>
                  <a:srgbClr val="000000"/>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51660-A30F-45A7-88FB-E3809BEC7E8E}"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 of 15</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Question: is Windows NT suitable for a TCB?</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124FD6F-22CB-4421-A21E-13D23CE09071}" type="slidenum">
              <a:t>1</a:t>
            </a:fld>
          </a:p>
        </p:txBody>
      </p:sp>
      <p:sp>
        <p:nvSpPr>
          <p:cNvPr id="5" name="PlaceHolder 4"/>
          <p:cNvSpPr>
            <a:spLocks noGrp="1"/>
          </p:cNvSpPr>
          <p:nvPr>
            <p:ph type="dt" idx="1"/>
          </p:nvPr>
        </p:nvSpPr>
        <p:spPr/>
        <p:txBody>
          <a:bodyPr/>
          <a:p>
            <a:fld id="{101804E6-7F04-45E1-B753-560CD47C0D96}" type="datetime3">
              <a:rPr lang="en-US"/>
              <a:t>July 28, 20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file system has “streams”</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ix taught many of us that a file should be an array of byt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eams are hidden byte sequences, as part of the “fi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give surprising information lea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d not learn appear to learn the lessons of the proprietary software of the 70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F03AD29-1E7D-4058-A275-477BAFE6AF97}" type="slidenum">
              <a:t>10</a:t>
            </a:fld>
          </a:p>
        </p:txBody>
      </p:sp>
      <p:sp>
        <p:nvSpPr>
          <p:cNvPr id="5" name="PlaceHolder 4"/>
          <p:cNvSpPr>
            <a:spLocks noGrp="1"/>
          </p:cNvSpPr>
          <p:nvPr>
            <p:ph type="dt" idx="1"/>
          </p:nvPr>
        </p:nvSpPr>
        <p:spPr/>
        <p:txBody>
          <a:bodyPr/>
          <a:p>
            <a:fld id="{19FB9930-DBCA-4950-9D23-6C610A2036D2}" type="datetime3">
              <a:rPr lang="en-US"/>
              <a:t>July 28, 2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LLs are operating system extensions</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er is bett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pler is saf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e complaint with shared libraries, dynamic kernel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FC2EAB9-1BBB-4844-AC92-F5DEAE12109B}" type="slidenum">
              <a:t>11</a:t>
            </a:fld>
          </a:p>
        </p:txBody>
      </p:sp>
      <p:sp>
        <p:nvSpPr>
          <p:cNvPr id="5" name="PlaceHolder 4"/>
          <p:cNvSpPr>
            <a:spLocks noGrp="1"/>
          </p:cNvSpPr>
          <p:nvPr>
            <p:ph type="dt" idx="1"/>
          </p:nvPr>
        </p:nvSpPr>
        <p:spPr/>
        <p:txBody>
          <a:bodyPr/>
          <a:p>
            <a:fld id="{243D37F6-4347-415C-A556-4587C2838782}" type="datetime3">
              <a:rPr lang="en-US"/>
              <a:t>July 28, 2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urce code for NT is expensive and rarely seen</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fe programs have source code widely available for inspection and comment</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6F13180-E563-48F3-A056-922F89E121CB}" type="slidenum">
              <a:t>12</a:t>
            </a:fld>
          </a:p>
        </p:txBody>
      </p:sp>
      <p:sp>
        <p:nvSpPr>
          <p:cNvPr id="5" name="PlaceHolder 4"/>
          <p:cNvSpPr>
            <a:spLocks noGrp="1"/>
          </p:cNvSpPr>
          <p:nvPr>
            <p:ph type="dt" idx="1"/>
          </p:nvPr>
        </p:nvSpPr>
        <p:spPr/>
        <p:txBody>
          <a:bodyPr/>
          <a:p>
            <a:fld id="{B3940C46-D528-42B1-9A33-CB3122C8594D}" type="datetime3">
              <a:rPr lang="en-US"/>
              <a:t>July 28, 2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T code is new</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Mature” code is saf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need experience in a hostile environment to increase confidence in a security system</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E3C9609-EDA2-4744-9F29-56FA33082F99}" type="slidenum">
              <a:t>13</a:t>
            </a:fld>
          </a:p>
        </p:txBody>
      </p:sp>
      <p:sp>
        <p:nvSpPr>
          <p:cNvPr id="5" name="PlaceHolder 4"/>
          <p:cNvSpPr>
            <a:spLocks noGrp="1"/>
          </p:cNvSpPr>
          <p:nvPr>
            <p:ph type="dt" idx="1"/>
          </p:nvPr>
        </p:nvSpPr>
        <p:spPr/>
        <p:txBody>
          <a:bodyPr/>
          <a:p>
            <a:fld id="{325DB4A8-69F7-4E39-9EA9-132630019DC1}" type="datetime3">
              <a:rPr lang="en-US"/>
              <a:t>July 28, 2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y their admission: security is not MSFT’s main goal</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say their customers aren’t asking for i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don’t seem to be getting i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have to program on purpose to get something approaching security</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C628F66-28D1-4AD2-8C07-BC0E6954765D}" type="slidenum">
              <a:t>14</a:t>
            </a:fld>
          </a:p>
        </p:txBody>
      </p:sp>
      <p:sp>
        <p:nvSpPr>
          <p:cNvPr id="5" name="PlaceHolder 4"/>
          <p:cNvSpPr>
            <a:spLocks noGrp="1"/>
          </p:cNvSpPr>
          <p:nvPr>
            <p:ph type="dt" idx="1"/>
          </p:nvPr>
        </p:nvSpPr>
        <p:spPr/>
        <p:txBody>
          <a:bodyPr/>
          <a:p>
            <a:fld id="{FFB916C2-1938-4ABE-BEBB-FAEC924D1B28}" type="datetime3">
              <a:rPr lang="en-US"/>
              <a:t>July 28, 2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Question: is Windows NT suitable for a TCB?</a:t>
            </a:r>
            <a:endParaRPr b="0" lang="en-US" sz="4400" spc="-1" strike="noStrike">
              <a:solidFill>
                <a:srgbClr val="000000"/>
              </a:solidFill>
              <a:latin typeface="Times New Roman"/>
            </a:endParaRPr>
          </a:p>
        </p:txBody>
      </p:sp>
      <p:sp>
        <p:nvSpPr>
          <p:cNvPr id="7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UD-based opinion: It appears that the best security perimeter around NT is the shrink-wrap on the box</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74FC53C-E90F-4A67-AA4C-5A8C9D31B1E5}" type="slidenum">
              <a:t>15</a:t>
            </a:fld>
          </a:p>
        </p:txBody>
      </p:sp>
      <p:sp>
        <p:nvSpPr>
          <p:cNvPr id="5" name="PlaceHolder 4"/>
          <p:cNvSpPr>
            <a:spLocks noGrp="1"/>
          </p:cNvSpPr>
          <p:nvPr>
            <p:ph type="dt" idx="1"/>
          </p:nvPr>
        </p:nvSpPr>
        <p:spPr/>
        <p:txBody>
          <a:bodyPr/>
          <a:p>
            <a:fld id="{7C5FABB9-FC2D-4BF4-9108-916328C159F8}" type="datetime3">
              <a:rPr lang="en-US"/>
              <a:t>July 28, 2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veat #1</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am a satisfied stockholder of MSFT</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one of the world’s best growth stocks, a likely to remain so</a:t>
            </a:r>
            <a:endParaRPr b="0" lang="en-US" sz="3200" spc="-1" strike="noStrike">
              <a:solidFill>
                <a:srgbClr val="000000"/>
              </a:solidFill>
              <a:latin typeface="Times New Roman"/>
            </a:endParaRPr>
          </a:p>
          <a:p>
            <a:pPr lvl="1" marL="735480" indent="-282960">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a:t>
            </a:r>
            <a:r>
              <a:rPr b="0" lang="en-US" sz="2000" spc="-1" strike="noStrike">
                <a:solidFill>
                  <a:srgbClr val="000000"/>
                </a:solidFill>
                <a:latin typeface="Times New Roman"/>
              </a:rPr>
              <a:t> </a:t>
            </a:r>
            <a:r>
              <a:rPr b="0" lang="en-US" sz="2400" spc="-1" strike="noStrike">
                <a:solidFill>
                  <a:srgbClr val="000000"/>
                </a:solidFill>
                <a:latin typeface="Times New Roman"/>
              </a:rPr>
              <a:t>is not</a:t>
            </a:r>
            <a:r>
              <a:rPr b="0" lang="en-US" sz="2000" spc="-1" strike="noStrike">
                <a:solidFill>
                  <a:srgbClr val="000000"/>
                </a:solidFill>
                <a:latin typeface="Times New Roman"/>
              </a:rPr>
              <a:t> </a:t>
            </a:r>
            <a:r>
              <a:rPr b="0" lang="en-US" sz="2400" spc="-1" strike="noStrike">
                <a:solidFill>
                  <a:srgbClr val="000000"/>
                </a:solidFill>
                <a:latin typeface="Times New Roman"/>
              </a:rPr>
              <a:t>a solicitation</a:t>
            </a:r>
            <a:r>
              <a:rPr b="0" lang="en-US" sz="1600" spc="-1" strike="noStrike">
                <a:solidFill>
                  <a:srgbClr val="000000"/>
                </a:solidFill>
                <a:latin typeface="Times New Roman"/>
              </a:rPr>
              <a:t> </a:t>
            </a:r>
            <a:r>
              <a:rPr b="0" lang="en-US" sz="1800" spc="-1" strike="noStrike">
                <a:solidFill>
                  <a:srgbClr val="000000"/>
                </a:solidFill>
                <a:latin typeface="Times New Roman"/>
              </a:rPr>
              <a:t>to buy, nor an offer</a:t>
            </a:r>
            <a:r>
              <a:rPr b="0" lang="en-US" sz="1600" spc="-1" strike="noStrike">
                <a:solidFill>
                  <a:srgbClr val="000000"/>
                </a:solidFill>
                <a:latin typeface="Times New Roman"/>
              </a:rPr>
              <a:t> to sell</a:t>
            </a:r>
            <a:r>
              <a:rPr b="0" lang="en-US" sz="1200" spc="-1" strike="noStrike">
                <a:solidFill>
                  <a:srgbClr val="000000"/>
                </a:solidFill>
                <a:latin typeface="Times New Roman"/>
              </a:rPr>
              <a:t> </a:t>
            </a:r>
            <a:r>
              <a:rPr b="0" lang="en-US" sz="1400" spc="-1" strike="noStrike">
                <a:solidFill>
                  <a:srgbClr val="000000"/>
                </a:solidFill>
                <a:latin typeface="Times New Roman"/>
              </a:rPr>
              <a:t>this stock</a:t>
            </a:r>
            <a:r>
              <a:rPr b="0" lang="en-US" sz="1200" spc="-1" strike="noStrike">
                <a:solidFill>
                  <a:srgbClr val="000000"/>
                </a:solidFill>
                <a:latin typeface="Times New Roman"/>
              </a:rPr>
              <a:t>, which in the US may only be made by the prospectus.  Read the prospectus carefully. Your mileage may vary.  See dealer for details. Offer may not be valid in some areas. Offer subject to availability.  Some conditions apply. Past performance does not guarantee future results, </a:t>
            </a:r>
            <a:r>
              <a:rPr b="0" lang="en-US" sz="1000" spc="-1" strike="noStrike">
                <a:solidFill>
                  <a:srgbClr val="000000"/>
                </a:solidFill>
                <a:latin typeface="Times New Roman"/>
              </a:rPr>
              <a:t>but it sure as hell may give a strong indication, as any decent growth stock investor can sure tell you. I am not sure how you buy an American stock here in the UK.  There must be ADRs, or some such mechanism. There must be a way, and if you buy the company now, I strongly believe that you will be glad you did in 2005, which isn’t that long an investment horizon.  Even if the US Justice Department splits the company into little pieces, the pieces are likely to continue their growth, as the records of other divestitures, like both of AT&amp;T’s, has shown.  Can you imagine what the world would be like today if the IBM suit in the 1970s ended in the split of IBM?  What monster offspring they would likely be today! Perhaps MSFT and INTC would not be the giants they are today, with smaller motivated IBM shards competing for the then-new PC market.  A hardware company to make the chips. A software company that didn’t ask two guys in a garage for their operating system! Imagine the effect on the US GNP.  Perhaps they would have chosen Motorola for their CPUs, which was a much saner and more regular architecture. Did you know that the INTC chips still have circuitry and design choices made in the 8088 and earlier?! Granted, it is not much in terms of silicon real estate, but there it is.</a:t>
            </a:r>
            <a:endParaRPr b="0" lang="en-US" sz="1000" spc="-1" strike="noStrike">
              <a:solidFill>
                <a:srgbClr val="000000"/>
              </a:solidFill>
              <a:latin typeface="Times New Roman"/>
            </a:endParaRPr>
          </a:p>
        </p:txBody>
      </p:sp>
      <p:sp>
        <p:nvSpPr>
          <p:cNvPr id="4" name="PlaceHolder 3"/>
          <p:cNvSpPr>
            <a:spLocks noGrp="1"/>
          </p:cNvSpPr>
          <p:nvPr>
            <p:ph type="sldNum" idx="3"/>
          </p:nvPr>
        </p:nvSpPr>
        <p:spPr/>
        <p:txBody>
          <a:bodyPr/>
          <a:p>
            <a:fld id="{8AA2EE80-C335-4DC6-87C6-DB87D29A8AB2}" type="slidenum">
              <a:t>2</a:t>
            </a:fld>
          </a:p>
        </p:txBody>
      </p:sp>
      <p:sp>
        <p:nvSpPr>
          <p:cNvPr id="5" name="PlaceHolder 4"/>
          <p:cNvSpPr>
            <a:spLocks noGrp="1"/>
          </p:cNvSpPr>
          <p:nvPr>
            <p:ph type="dt" idx="1"/>
          </p:nvPr>
        </p:nvSpPr>
        <p:spPr/>
        <p:txBody>
          <a:bodyPr/>
          <a:p>
            <a:fld id="{6F233222-A61C-4584-BFDA-0D0273C23B6D}" type="datetime3">
              <a:rPr lang="en-US"/>
              <a:t>July 28, 2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veat #2</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work in the CSRG in Bell Lab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group invented Unix, Plan 9, Infern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ss is mor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36E26A7-AF12-4041-96F0-D0EE17725860}" type="slidenum">
              <a:t>3</a:t>
            </a:fld>
          </a:p>
        </p:txBody>
      </p:sp>
      <p:sp>
        <p:nvSpPr>
          <p:cNvPr id="5" name="PlaceHolder 4"/>
          <p:cNvSpPr>
            <a:spLocks noGrp="1"/>
          </p:cNvSpPr>
          <p:nvPr>
            <p:ph type="dt" idx="1"/>
          </p:nvPr>
        </p:nvSpPr>
        <p:spPr/>
        <p:txBody>
          <a:bodyPr/>
          <a:p>
            <a:fld id="{8A5B4126-321F-4FAE-97E4-85CE10091FB2}" type="datetime3">
              <a:rPr lang="en-US"/>
              <a:t>July 28, 2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veat #3</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don’t know much about Windows 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have logged less than two hours actually using Windows NT</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8A96E79-5B36-478C-BF82-686E5CEB0042}" type="slidenum">
              <a:t>4</a:t>
            </a:fld>
          </a:p>
        </p:txBody>
      </p:sp>
      <p:sp>
        <p:nvSpPr>
          <p:cNvPr id="5" name="PlaceHolder 4"/>
          <p:cNvSpPr>
            <a:spLocks noGrp="1"/>
          </p:cNvSpPr>
          <p:nvPr>
            <p:ph type="dt" idx="1"/>
          </p:nvPr>
        </p:nvSpPr>
        <p:spPr/>
        <p:txBody>
          <a:bodyPr/>
          <a:p>
            <a:fld id="{247DDA5A-2933-47AE-B537-963EA447F553}" type="datetime3">
              <a:rPr lang="en-US"/>
              <a:t>July 28, 2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ngs I have been told about Windows NT</a:t>
            </a:r>
            <a:endParaRPr b="0" lang="en-US" sz="4400" spc="-1" strike="noStrike">
              <a:solidFill>
                <a:srgbClr val="000000"/>
              </a:solidFill>
              <a:latin typeface="Times New Roman"/>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8B8BD5B-55D2-4B5C-9493-5A9342FCA906}" type="slidenum">
              <a:t>5</a:t>
            </a:fld>
          </a:p>
        </p:txBody>
      </p:sp>
      <p:sp>
        <p:nvSpPr>
          <p:cNvPr id="5" name="PlaceHolder 4"/>
          <p:cNvSpPr>
            <a:spLocks noGrp="1"/>
          </p:cNvSpPr>
          <p:nvPr>
            <p:ph type="dt" idx="1"/>
          </p:nvPr>
        </p:nvSpPr>
        <p:spPr/>
        <p:txBody>
          <a:bodyPr/>
          <a:p>
            <a:fld id="{BF3F1072-4F22-4ED8-B636-90A95CBFE76B}" type="datetime3">
              <a:rPr lang="en-US"/>
              <a:t>July 28, 2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T 5.0 has 16,000,000 lines of new code</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is safer, easier to understan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many new bug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many new security bug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erno plus firewall fits on a floppy dis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ndows/S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707AA7A-2101-4DD3-966C-553C3B37A936}" type="slidenum">
              <a:t>6</a:t>
            </a:fld>
          </a:p>
        </p:txBody>
      </p:sp>
      <p:sp>
        <p:nvSpPr>
          <p:cNvPr id="5" name="PlaceHolder 4"/>
          <p:cNvSpPr>
            <a:spLocks noGrp="1"/>
          </p:cNvSpPr>
          <p:nvPr>
            <p:ph type="dt" idx="1"/>
          </p:nvPr>
        </p:nvSpPr>
        <p:spPr/>
        <p:txBody>
          <a:bodyPr/>
          <a:p>
            <a:fld id="{61C5C48E-2C8E-42C6-858F-D7A2224937DB}" type="datetime3">
              <a:rPr lang="en-US"/>
              <a:t>July 28, 2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T is unstable</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rs advised to reboot dai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gn of memory leaks and other programming problem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gn of code out of contro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ther operating systems run for months, until power interruption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9ED463C-8E2D-4CB2-8BEA-3009C149BBE8}" type="slidenum">
              <a:t>7</a:t>
            </a:fld>
          </a:p>
        </p:txBody>
      </p:sp>
      <p:sp>
        <p:nvSpPr>
          <p:cNvPr id="5" name="PlaceHolder 4"/>
          <p:cNvSpPr>
            <a:spLocks noGrp="1"/>
          </p:cNvSpPr>
          <p:nvPr>
            <p:ph type="dt" idx="1"/>
          </p:nvPr>
        </p:nvSpPr>
        <p:spPr/>
        <p:txBody>
          <a:bodyPr/>
          <a:p>
            <a:fld id="{828D2279-CE77-4401-9C81-2831C9658B01}" type="datetime3">
              <a:rPr lang="en-US"/>
              <a:t>July 28, 2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T is inefficient</a:t>
            </a: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sh to universal MS usage reminds me of IBM in the 70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one site, 20 4-CPU Compaqs running NT replaced by two Unix boxes</a:t>
            </a:r>
            <a:endParaRPr b="0" lang="en-US" sz="2800" spc="-1" strike="noStrike">
              <a:solidFill>
                <a:srgbClr val="000000"/>
              </a:solidFill>
              <a:latin typeface="Times New Roman"/>
            </a:endParaRPr>
          </a:p>
        </p:txBody>
      </p:sp>
      <p:sp>
        <p:nvSpPr>
          <p:cNvPr id="57"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ke NT, Linux, etc. requires configuration to achieve a reasonable TCB</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remove software from Linux to make it more secur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not inspire confidence in the code</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sldNum" idx="3"/>
          </p:nvPr>
        </p:nvSpPr>
        <p:spPr/>
        <p:txBody>
          <a:bodyPr/>
          <a:p>
            <a:fld id="{D137746F-725E-465C-BC35-24724D36C67A}" type="slidenum">
              <a:t>8</a:t>
            </a:fld>
          </a:p>
        </p:txBody>
      </p:sp>
      <p:sp>
        <p:nvSpPr>
          <p:cNvPr id="6" name="PlaceHolder 5"/>
          <p:cNvSpPr>
            <a:spLocks noGrp="1"/>
          </p:cNvSpPr>
          <p:nvPr>
            <p:ph type="dt" idx="1"/>
          </p:nvPr>
        </p:nvSpPr>
        <p:spPr/>
        <p:txBody>
          <a:bodyPr/>
          <a:p>
            <a:fld id="{D9004AD0-37DA-4125-AFBE-3C3347C8F488}" type="datetime3">
              <a:rPr lang="en-US"/>
              <a:t>July 28, 2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ookie errors in MS authorization over PPTP</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uce Schneier’s ACM CCS-5 paper last wee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has been fix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SFT has world-class cryptographers, but clearly didn’t use the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veloper attitude tells me more about software than tiger teams and certification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E03FB15-7F39-44FC-90FB-8AA9E7BFB45B}" type="slidenum">
              <a:t>9</a:t>
            </a:fld>
          </a:p>
        </p:txBody>
      </p:sp>
      <p:sp>
        <p:nvSpPr>
          <p:cNvPr id="5" name="PlaceHolder 4"/>
          <p:cNvSpPr>
            <a:spLocks noGrp="1"/>
          </p:cNvSpPr>
          <p:nvPr>
            <p:ph type="dt" idx="1"/>
          </p:nvPr>
        </p:nvSpPr>
        <p:spPr/>
        <p:txBody>
          <a:bodyPr/>
          <a:p>
            <a:fld id="{3002A0AD-499E-4B8E-AC56-E4EC94A4CE81}" type="datetime3">
              <a:rPr lang="en-US"/>
              <a:t>July 28, 2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1-12T07:43:40Z</dcterms:created>
  <dc:creator>Bill Cheswick</dc:creator>
  <dc:description/>
  <dc:language>en-US</dc:language>
  <cp:lastModifiedBy>Bill Cheswick</cp:lastModifiedBy>
  <dcterms:modified xsi:type="dcterms:W3CDTF">1998-11-12T10:38:24Z</dcterms:modified>
  <cp:revision>9</cp:revision>
  <dc:subject/>
  <dc:title>The Case Against Windows NT Security</dc:title>
</cp:coreProperties>
</file>