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14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8C1-C676-4DAD-80A1-DDB270EE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760" y="390096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1FF-D472-4B58-B1B9-FFDE6260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DEA-6D95-4517-A0EA-0B2E4132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408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404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376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408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404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0250-2F67-4CBE-B0D5-0C5998D9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270-2357-49C9-A5E2-88451E37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C02-9B9A-45A4-9521-8EF65D60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DBD-B13B-4516-86D6-FE81BD50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97F-D417-450A-9A6E-A6376FD9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4200" y="63000"/>
            <a:ext cx="850248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591-8B0F-4C71-86EC-D15779A5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F41-D969-4EA9-ADBB-8E1F9CB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22A-5E8F-4FB2-A938-4D316D93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2DD-90DB-40EB-873D-565EE5E5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12760" y="806400"/>
            <a:ext cx="5857920" cy="28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Bef>
                <a:spcPts val="1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488280" y="533520"/>
            <a:ext cx="2369880" cy="644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33520" y="647712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E32C-DC6C-47B0-90CE-FD8F87E7B716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3CAD-36D6-4371-8E80-C65D945E7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1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Attacks: The Gory Detail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ll Cheswic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l Labs, Lucent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@bell-labs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cs.bell-labs.com/~ches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/IP stack is hard to d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,000 lines of code is typi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s don’t give all the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takes practice and experience to get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curve is still evident in Linux and Microso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kernel-level code: debugging is tedi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debug error states in a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shme att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random packets with valid checksu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 reassemb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91A-19FF-4425-8AB4-395D009AD1B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2E0A3-AC59-4C36-A5EF-ADF09BF08BF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kes authenticated connection to ser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04920" y="1981080"/>
            <a:ext cx="20746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38280" y="3733920"/>
            <a:ext cx="182880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-465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442880" y="3043080"/>
            <a:ext cx="914400" cy="1216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526040" y="3429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438280" y="2438280"/>
            <a:ext cx="4191120" cy="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473-2357-4854-BC51-ACDD26FDA517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BB158-50F9-4C47-94BD-8AB1E91F84A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cker takes over connection with TA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04920" y="1981080"/>
            <a:ext cx="20746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438280" y="3733920"/>
            <a:ext cx="182880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-465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442880" y="3043080"/>
            <a:ext cx="914400" cy="1216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526040" y="3429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438280" y="2438280"/>
            <a:ext cx="4191120" cy="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81080" y="2438280"/>
            <a:ext cx="384120" cy="1305000"/>
          </a:xfrm>
          <a:custGeom>
            <a:avLst/>
            <a:gdLst/>
            <a:ahLst/>
            <a:rect l="l" t="t" r="r" b="b"/>
            <a:pathLst>
              <a:path w="242" h="822">
                <a:moveTo>
                  <a:pt x="240" y="0"/>
                </a:moveTo>
                <a:cubicBezTo>
                  <a:pt x="120" y="124"/>
                  <a:pt x="0" y="247"/>
                  <a:pt x="0" y="384"/>
                </a:cubicBezTo>
                <a:cubicBezTo>
                  <a:pt x="0" y="521"/>
                  <a:pt x="192" y="731"/>
                  <a:pt x="242" y="822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3ACD-88F9-419E-A5EE-88BECC52ACAB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F20EC-7997-446C-9278-894932A9907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ecure cli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not the same as TCP hijac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ryption on the link won’t fix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persistent connection is vulner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ogin, ftp, s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utomu left an rlogin session running when he went ski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 TO BE ABLE TO TRUST YOUR CLI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ptop PCs Vs terminal roo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37B-6A65-4247-853B-D9FB0BFDFD8D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1E6001-FA16-4231-B2AF-89DDF1646B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e as telnet, pl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bugs in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errors for anonymous FT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t permissions wro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e the real password file to the ma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D35-4180-464B-98BF-7E7811AC19C6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4B5FB-9FC2-4B75-9EBC-425849B5B8A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ot file handle can be sniff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ies on RPC softw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90B-8106-430A-8842-3912513F0ACE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B2FC5-3E9F-482D-9A5A-AFE7B97027D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PC and secure RP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-bas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 relay feature can obscure address information from the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 R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yptographically wea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EF2-484B-42F5-A1AE-E183F0E2F90F}" type="slidenum">
              <a:t>10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51DFB-6D8D-490D-9C87-6FA663F789B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login, rsh, rc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login, rsh, rc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be hijack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be spoof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ddressed-based authent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rhosts and /etc/hosts.equiv leak trusted host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rhosts: users should not be making security poli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B47-6555-4B90-B378-5EFE4776F54A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D2F38-692A-43C3-98EE-212EBC10C1B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ear text leaks secre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kie authentication is in the cle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vanced authentication not widely avail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host configuration err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ically, bugs in xd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1A8-D22A-4690-8C99-E774DDA8C2AC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47280-76AC-4207-92CF-C582CD1993C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- domain name syste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d runs as roo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is big, and not well understoo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ns on vital ho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che poisoning: cache wrong answ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ack address-based au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oof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D83-A668-4D44-A7D3-E2612A29C704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097C7-465F-490E-B915-3A4B5B5CFED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asks D for B’s IP addr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2438280" y="3428640"/>
            <a:ext cx="1295640" cy="12193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67440" y="3697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B16-9D86-4851-B1F0-9667E449DBE3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2F5BC-97B8-4623-9DB8-366B9AD3F586}" type="datetime3">
              <a:rPr lang="en-US"/>
              <a:t>July 28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rdwar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ffable if on same n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attacks that fiddle at this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82" name=""/>
            <p:cNvSpPr/>
            <p:nvPr/>
          </p:nvSpPr>
          <p:spPr>
            <a:xfrm>
              <a:off x="46368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Ethernet, AT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FAC-6BA1-4D85-8051-1C3479A49B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321E7-14BD-41F9-845D-EDCE6E6137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 asks B (or someone who knows about B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76920" y="2971800"/>
            <a:ext cx="1752480" cy="22860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412240" y="2590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BE0-4D1A-4FEC-9AE3-A59A820EE2EE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83F0A-51DA-43DE-AE51-97B999FAEA6C}" type="datetime3">
              <a:rPr lang="en-US"/>
              <a:t>July 28, 20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 answers, D caches the answer, and tells 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876920" y="2971800"/>
            <a:ext cx="1752480" cy="22860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2438280" y="3428640"/>
            <a:ext cx="1219320" cy="121932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897280" y="2819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7200" y="46483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56A2-895E-4A4F-80F7-E8296091FD24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BB605-8F6B-48BC-BCC6-584DBF438CBE}" type="datetime3">
              <a:rPr lang="en-US"/>
              <a:t>July 28, 20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uses the answ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897280" y="2819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361960" y="2971800"/>
            <a:ext cx="4190760" cy="152388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852E-D75D-4679-A818-224C7A9A143B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8D826-C80C-4F67-A145-0F9E8D32251F}" type="datetime3">
              <a:rPr lang="en-US"/>
              <a:t>July 28, 20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lookup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 remembers the answer for a given perio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897280" y="2819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599-89C8-4850-8432-CBAC077716FB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30D10-D4E8-4A5C-8951-7DEBB5DE5CD1}" type="datetime3">
              <a:rPr lang="en-US"/>
              <a:t>July 28, 20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C arranges for D to ask him a ques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2438280" y="3428640"/>
            <a:ext cx="1295640" cy="12193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467440" y="3697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98F-A2E9-46E4-8D7B-5D9E058EC02C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7C115-B764-4091-8A67-B5A2A807F362}" type="datetime3">
              <a:rPr lang="en-US"/>
              <a:t>July 28, 20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C arranges for D to ask him a ques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809880" y="3429000"/>
            <a:ext cx="2514600" cy="16765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7680" y="38098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6B53-301C-4F45-85DD-B07AA0A51FDD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FB209-A90E-40D8-BC22-135322B540E8}" type="datetime3">
              <a:rPr lang="en-US"/>
              <a:t>July 28, 20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attacker gives an answer, plus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886200" y="3429000"/>
            <a:ext cx="2438280" cy="16765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3429000"/>
            <a:ext cx="2438280" cy="16765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90052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E2B-8FC4-453E-8DAE-5DF3EEAC783E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03327-AC61-42A6-B830-98FFAFD8449A}" type="datetime3">
              <a:rPr lang="en-US"/>
              <a:t>July 28, 20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ts his answer, and uses 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2438280" y="3428640"/>
            <a:ext cx="1219320" cy="106668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57200" y="46483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D1B-B15B-4A05-9FFA-2509DE34AE41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34C41-CB78-46DD-8453-FC948E456F3A}" type="datetime3">
              <a:rPr lang="en-US"/>
              <a:t>July 28, 20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ache has an extra answ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1D94-BF59-4F4C-92E1-2A6A9312D931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B4AFD-3378-465F-875D-DB27FDD6702B}" type="datetime3">
              <a:rPr lang="en-US"/>
              <a:t>July 28, 20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A asks for B’s addr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2438280" y="3428640"/>
            <a:ext cx="1295640" cy="12193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467440" y="3697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5D1-4BC9-4DCA-B8AA-5C8114FBC2FE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A1CB1-0093-44A4-8C38-3454EC91715E}" type="datetime3">
              <a:rPr lang="en-US"/>
              <a:t>July 28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 “knows” the answer already, and returns 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2438280" y="3428640"/>
            <a:ext cx="1295640" cy="121932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57200" y="46483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6AB3-10AC-4A33-9799-DCE0D3C7260B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CB5FD-2B72-425D-9033-F5F404AA9407}" type="datetime3">
              <a:rPr lang="en-US"/>
              <a:t>July 28, 20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 attack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uses the answ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01680" y="3656160"/>
            <a:ext cx="2074680" cy="1581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60360" y="381312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629400" y="2057400"/>
            <a:ext cx="2075040" cy="1600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067360" y="512280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181480" y="518148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819840" y="301140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959880" y="14112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1.2.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1448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741760" y="1525680"/>
            <a:ext cx="2074680" cy="1909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819520" y="167652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a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596400" y="10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895480" y="28954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900520" y="243828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177240" y="4572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: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 flipV="1">
            <a:off x="2362320" y="4723920"/>
            <a:ext cx="2666880" cy="685800"/>
          </a:xfrm>
          <a:prstGeom prst="line">
            <a:avLst/>
          </a:prstGeom>
          <a:ln w="25560">
            <a:solidFill>
              <a:srgbClr val="00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46483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&gt; 5.6.7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58A-CDCC-43ED-AD4F-190D915F6B4E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AA9BE-D177-47E6-873B-6C01746D8E1E}" type="datetime3">
              <a:rPr lang="en-US"/>
              <a:t>July 28, 20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s the wrong answer on inverse lookups, foiling rsh, rlog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connect to the wrong site they c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of a login, and capture pass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of a web page, and give wrong ans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themselves up for man-in-the-middle attacks, relaying info to the real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88C-FBBF-4FC2-A07F-25F16FD614DA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63984-50F4-4AF2-A09B-D0B6B92D053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cache poiso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der versions of bind fall for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 even send an answer without a query, to some implementation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 responses can be spoofe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the query gets two answers: use the first?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SEC fixes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6A59-9723-4F53-AF8F-D7279E0A3186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1BC6E-9BB4-4551-BDC2-1EFB5D1B253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x, and bug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ck smashing attacks, et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 scripts :it is always dangerous to add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us configuration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ache security relies on good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s access to internal datab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55C-4759-42F8-A485-CB3DAE811DCD}" type="slidenum">
              <a:t>1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1C471-4715-48B8-BD14-5DA775A09BC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: SMB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 uses weak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ba is big:  I prefer using chroo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F0A-7098-481B-8568-E8974CE1F698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8EC09-D888-4734-BD8E-56FD4884393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: Microsoft authentication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 PPT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ak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ly weak encryptio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Bruce Schneier’s paper in ACM CCS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153-4D8D-4054-97D1-71FA898F42CB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D76C6-A1C3-4C97-8E88-92BD7C89A61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3 and IM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C - n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aud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DP is dangerous, TCP 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b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 to g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UDP implementations respond to multicast pac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2D7-E311-4BD8-90E8-F1B9CB5451C2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86E9C-7C27-4558-B13A-6B0E9C4BF91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onential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 viru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tens of thousands of them, including var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se is best made at the host, with a virus chec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database of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viru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duff made 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ll viruses are eas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 viruses are rar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B304-F9CD-4727-930E-6946C3F9FF44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A601A-EBB3-46E4-9F02-786FDC731E3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hoc collection of TCP/IP inter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real central autho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entral knowledge of conne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flows, but not y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er-packet billing, in most pl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equipment too busy to help law enfor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perimeters are impossible to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8CD-F762-48FC-B75A-717968D9D0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AD856-C79E-40B1-8D35-B9B496165B0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walls can filter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seems like the right 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requires a lot of work, and they can be hidd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viruses are the most alar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have access to the entire PC, with a little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90A-74F2-41F9-850E-87101DC0760A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F2360-EB39-4C98-87B9-227FF484ABF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Morris Worm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2, 198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read u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gerd (stack smashin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mail (DEBUG back do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word gue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ly controlled exponential grow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eam of experts fought it quick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69AA-387C-49CB-9971-B7BFD0943C56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6B491-B3B0-4CAE-9DE0-330040B9769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latest: just i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ux system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don’t know much about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2ED-8236-4C06-90D3-4EB9A0DE276B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2F304-320B-449A-A866-CFADC30B4EA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Solu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ssh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urce code is avail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dely examin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: 2 protocol flaws found so f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ck smashing s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ably the best crypto solution for 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2F4-7EEB-4037-9816-F3E6EF745677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0FE5C-00DF-4B00-8E9D-9B24AAF4653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solution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rdware toke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65400" cy="362268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95400" y="5257800"/>
            <a:ext cx="3867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-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/K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or printout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proprietary server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1121-20D4-4755-891C-EE3016098EFA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10C72-4B2C-48BA-81EF-1CDF686BD4A0}" type="datetime3">
              <a:rPr lang="en-US"/>
              <a:t>July 28, 20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581120" y="1881360"/>
            <a:ext cx="649620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77E-DAA0-4391-A179-A0E3E9CCC664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44BF7-FD61-446E-8D76-6F696DDE20A2}" type="datetime3">
              <a:rPr lang="en-US"/>
              <a:t>July 28, 20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 and client share a secret ke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03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06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394-A178-4207-9128-539281551803}" type="slidenum">
              <a:t>1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533B8-EF64-4EBD-BF26-E7B17199451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 generates a unique challen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14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17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5513760" y="297072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3429000" y="3200400"/>
            <a:ext cx="190512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041720" y="2742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757-8D42-467A-B63D-936FF8276051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1BBF3-61EB-4670-9507-C76C9E7CE2B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client encrypts the challenge with key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28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31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"/>
          <p:cNvSpPr/>
          <p:nvPr/>
        </p:nvSpPr>
        <p:spPr>
          <a:xfrm flipH="1">
            <a:off x="3429000" y="3200400"/>
            <a:ext cx="190512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41720" y="2742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2133720" y="3200400"/>
            <a:ext cx="129528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039-9BE7-4638-B0A1-4AFF375295AB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D34B6-7625-4623-84FC-34CC35D05C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Anything large enough to be called</a:t>
            </a:r>
            <a:br>
              <a:rPr sz="2600"/>
            </a:b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an “intranet” is probably out of contro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and returns the resul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42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45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 flipH="1">
            <a:off x="3429000" y="3200400"/>
            <a:ext cx="190512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041720" y="2742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2133720" y="3200400"/>
            <a:ext cx="129528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133720" y="3962520"/>
            <a:ext cx="320040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738240" y="35042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32E-F091-4977-9C02-8F2B453DB6CC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CE1AD-CC9D-4A32-ADC5-E16C4442689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5337000" y="2001960"/>
            <a:ext cx="3391200" cy="2303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erver checks the resul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25440" y="2000160"/>
            <a:ext cx="34084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6934320" y="3581280"/>
            <a:ext cx="1676160" cy="534600"/>
            <a:chOff x="6934320" y="3581280"/>
            <a:chExt cx="1676160" cy="534600"/>
          </a:xfrm>
        </p:grpSpPr>
        <p:sp>
          <p:nvSpPr>
            <p:cNvPr id="1258" name=""/>
            <p:cNvSpPr/>
            <p:nvPr/>
          </p:nvSpPr>
          <p:spPr>
            <a:xfrm>
              <a:off x="6934320" y="3581280"/>
              <a:ext cx="167616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9652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457200" y="3581280"/>
            <a:ext cx="1676520" cy="534600"/>
            <a:chOff x="457200" y="3581280"/>
            <a:chExt cx="1676520" cy="534600"/>
          </a:xfrm>
        </p:grpSpPr>
        <p:sp>
          <p:nvSpPr>
            <p:cNvPr id="1261" name=""/>
            <p:cNvSpPr/>
            <p:nvPr/>
          </p:nvSpPr>
          <p:spPr>
            <a:xfrm>
              <a:off x="457200" y="3581280"/>
              <a:ext cx="1676520" cy="5331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88880" y="3656160"/>
              <a:ext cx="16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cret 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3" name=""/>
          <p:cNvSpPr/>
          <p:nvPr/>
        </p:nvSpPr>
        <p:spPr>
          <a:xfrm>
            <a:off x="5029200" y="2971800"/>
            <a:ext cx="1905120" cy="68580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041720" y="27421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5181120" y="3962520"/>
            <a:ext cx="1752840" cy="22860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738240" y="35042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738240" y="40374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98D-5FF3-45BF-BA43-7B54B1A41101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F680A-8AA2-4955-BDF8-1F644D538B8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lient proves he has the key, without revealing 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hardware, he may not even know the k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keys are computer-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weak pass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e challenges don’t repeat, an eavesdropper can’t predict the answer, unless the encryption (DES) is brok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3EB-637A-4C19-8CE5-F6C0C4CB19F0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B1EB1-A24B-45A8-B876-778E716D084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key can be generated from a password but the challenge/response pair is subject to a dictionary at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extra work for the user is worth the effor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trong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es use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 about a page of C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implemented in a remote authentication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B7A-F839-4279-93E2-3D003516768F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27E72-361F-4113-8D6C-4FB2412ECD8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IP/SEC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available 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crosoft, soon, they s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PNs in firew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ustrates eavesdropping and hij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 a panacea: we still have weak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29C-AFB6-44AC-BCCF-3D31DB053291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AC064-7E84-48C2-B0EF-EC1A713385D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cget/cpu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ed file trans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ny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trusting serv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root instant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inimum function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F24-96B9-4BFB-9A91-5FFBC3A15FEA}" type="slidenum">
              <a:t>1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F4AFC-A4F4-421D-8823-F92D1359DB4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stage/unstage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henticated directory mirro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port web or FTP distributions from safe hos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stage suitable for fetching log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367-E661-468A-8D5E-B8277DEDE1D7}" type="slidenum">
              <a:t>1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5662D-AC63-44EA-B04D-581B9766E2C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 solutions: chroot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n in doubt, cage that service in a jai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’s a pain to do, but protects the serv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304-DC99-4815-9AE3-27A1B3DA69B4}" type="slidenum">
              <a:t>1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78066-4646-4426-9A2B-F097591AC2C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Gory Enough For You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gtraq mailing l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walls and Internet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man and Zwic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word search in search engines for hacking to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otk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999-2958-43D0-A35F-3B03C12603B3}" type="slidenum">
              <a:t>1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C18C7-7B82-468C-B126-3C4E70654FE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y Inform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cs.bell-labs.com/~ches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“cheswick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@bell-labs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walls and Internet Security: Repelling the Wily Hac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wick and Bellov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BN 0-201-63357-4, Addison Wesley, 1994. Also in German, Japanese, and Fre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s, I’d love to sign your 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1D0-30C4-410E-AAF2-4A5287492442}" type="slidenum">
              <a:t>1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46CA2-AADC-44C8-877F-386BE4513890}" type="datetime3">
              <a:rPr lang="en-US"/>
              <a:t>July 28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You don’t know to whom you are connect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ms are cheap and easy to hook u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n’s “fax” 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 commuting networks may link to spouse’s company, or the Interne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routing work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te managers can make extranet connections that aren’t authoriz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connections can be very hard to fi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security threat is still t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anet challeng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089-1E79-4EA8-A53E-216121400E8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AC475-8348-46B2-96F0-6ECD8CDC485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You don’t know how many hosts you hav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ontrol is at the network level, not the host lev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server entries are option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body keeps the reverse name service information up-to-d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ping takes work, and doesn’t catch hosts that are d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network links are ephemer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anet challeng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32C-C2DB-4F4D-B6A5-F6F630EF49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D3ECE-F62E-4EE1-B667-51ADDB480EB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ucent now (sort o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3363840"/>
            <a:ext cx="5448600" cy="117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55720" y="2271600"/>
            <a:ext cx="2508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nt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593800" y="2546280"/>
            <a:ext cx="765360" cy="787320"/>
            <a:chOff x="2593800" y="2546280"/>
            <a:chExt cx="765360" cy="787320"/>
          </a:xfrm>
        </p:grpSpPr>
        <p:grpSp>
          <p:nvGrpSpPr>
            <p:cNvPr id="201" name=""/>
            <p:cNvGrpSpPr/>
            <p:nvPr/>
          </p:nvGrpSpPr>
          <p:grpSpPr>
            <a:xfrm>
              <a:off x="2593800" y="2781360"/>
              <a:ext cx="765360" cy="318960"/>
              <a:chOff x="2593800" y="2781360"/>
              <a:chExt cx="765360" cy="318960"/>
            </a:xfrm>
          </p:grpSpPr>
          <p:sp>
            <p:nvSpPr>
              <p:cNvPr id="202" name=""/>
              <p:cNvSpPr/>
              <p:nvPr/>
            </p:nvSpPr>
            <p:spPr>
              <a:xfrm flipH="1">
                <a:off x="27093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29746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26575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5938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>
              <a:off x="30081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9908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724040" y="2565360"/>
            <a:ext cx="766800" cy="787320"/>
            <a:chOff x="1724040" y="2565360"/>
            <a:chExt cx="766800" cy="787320"/>
          </a:xfrm>
        </p:grpSpPr>
        <p:grpSp>
          <p:nvGrpSpPr>
            <p:cNvPr id="209" name=""/>
            <p:cNvGrpSpPr/>
            <p:nvPr/>
          </p:nvGrpSpPr>
          <p:grpSpPr>
            <a:xfrm>
              <a:off x="1724040" y="2798640"/>
              <a:ext cx="766800" cy="320760"/>
              <a:chOff x="1724040" y="2798640"/>
              <a:chExt cx="766800" cy="32076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1842840" y="3119400"/>
                <a:ext cx="5634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210780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179064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724040" y="2798640"/>
                <a:ext cx="7668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flipV="1">
              <a:off x="2139840" y="316692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2122560" y="256536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817800" y="1878120"/>
            <a:ext cx="2124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39880" y="1847880"/>
            <a:ext cx="2440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68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27720" y="3579840"/>
            <a:ext cx="409680" cy="506520"/>
            <a:chOff x="6327720" y="3579840"/>
            <a:chExt cx="409680" cy="506520"/>
          </a:xfrm>
        </p:grpSpPr>
        <p:sp>
          <p:nvSpPr>
            <p:cNvPr id="220" name=""/>
            <p:cNvSpPr/>
            <p:nvPr/>
          </p:nvSpPr>
          <p:spPr>
            <a:xfrm flipH="1">
              <a:off x="6327720" y="357984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327720" y="366408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327720" y="374796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327720" y="383220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327720" y="391788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27720" y="400212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327720" y="408636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324480" y="3363840"/>
            <a:ext cx="22100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444840"/>
            <a:ext cx="5486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cent - 130,000, 266K IP addresses, 3000 nets an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508200" y="2546280"/>
            <a:ext cx="765360" cy="787320"/>
            <a:chOff x="3508200" y="2546280"/>
            <a:chExt cx="765360" cy="787320"/>
          </a:xfrm>
        </p:grpSpPr>
        <p:grpSp>
          <p:nvGrpSpPr>
            <p:cNvPr id="230" name=""/>
            <p:cNvGrpSpPr/>
            <p:nvPr/>
          </p:nvGrpSpPr>
          <p:grpSpPr>
            <a:xfrm>
              <a:off x="3508200" y="2781360"/>
              <a:ext cx="765360" cy="318960"/>
              <a:chOff x="3508200" y="2781360"/>
              <a:chExt cx="765360" cy="31896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6237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8890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5719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5082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V="1">
              <a:off x="39225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9052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422600" y="2546280"/>
            <a:ext cx="765360" cy="787320"/>
            <a:chOff x="4422600" y="2546280"/>
            <a:chExt cx="765360" cy="787320"/>
          </a:xfrm>
        </p:grpSpPr>
        <p:grpSp>
          <p:nvGrpSpPr>
            <p:cNvPr id="238" name=""/>
            <p:cNvGrpSpPr/>
            <p:nvPr/>
          </p:nvGrpSpPr>
          <p:grpSpPr>
            <a:xfrm>
              <a:off x="4422600" y="2781360"/>
              <a:ext cx="765360" cy="318960"/>
              <a:chOff x="4422600" y="2781360"/>
              <a:chExt cx="765360" cy="318960"/>
            </a:xfrm>
          </p:grpSpPr>
          <p:sp>
            <p:nvSpPr>
              <p:cNvPr id="239" name=""/>
              <p:cNvSpPr/>
              <p:nvPr/>
            </p:nvSpPr>
            <p:spPr>
              <a:xfrm flipH="1">
                <a:off x="45381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48034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4863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4226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V="1">
              <a:off x="48369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48196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37000" y="2546280"/>
            <a:ext cx="765360" cy="787320"/>
            <a:chOff x="5337000" y="2546280"/>
            <a:chExt cx="765360" cy="787320"/>
          </a:xfrm>
        </p:grpSpPr>
        <p:grpSp>
          <p:nvGrpSpPr>
            <p:cNvPr id="246" name=""/>
            <p:cNvGrpSpPr/>
            <p:nvPr/>
          </p:nvGrpSpPr>
          <p:grpSpPr>
            <a:xfrm>
              <a:off x="5337000" y="2781360"/>
              <a:ext cx="765360" cy="318960"/>
              <a:chOff x="5337000" y="2781360"/>
              <a:chExt cx="765360" cy="318960"/>
            </a:xfrm>
          </p:grpSpPr>
          <p:sp>
            <p:nvSpPr>
              <p:cNvPr id="247" name=""/>
              <p:cNvSpPr/>
              <p:nvPr/>
            </p:nvSpPr>
            <p:spPr>
              <a:xfrm flipH="1">
                <a:off x="54525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57178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54007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3370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V="1">
              <a:off x="57513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7340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5624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36640" y="1265400"/>
            <a:ext cx="25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87240" y="5227560"/>
            <a:ext cx="471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~200 business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5200" y="4998960"/>
            <a:ext cx="307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ousand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lecomm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593800" y="4575240"/>
            <a:ext cx="301680" cy="4539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61040" y="4575240"/>
            <a:ext cx="1139760" cy="6825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D93-5606-4360-8E88-926F7E5C10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40BAE-EA04-4DD8-BB56-F7D718622F9F}" type="datetime3">
              <a:rPr lang="en-US"/>
              <a:t>July 28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9900"/>
                </a:solidFill>
                <a:latin typeface="Arial"/>
              </a:rPr>
              <a:t>Firewalls: Not a panace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doors usually diminish the effectiv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firewalls are probably 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give community a false sense of securi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irewall is often the only secure part of a configu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go around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go through the bad 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otection from insi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anet challeng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155-8827-49F8-9360-1810EE253AEC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156C8-7785-4401-81D6-823F6F0378A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ote Attacks, and anonymity, are eas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s can be laundered through many hosts around the wor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ef attacks are hard to track d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verage defender is cluel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9DD-3183-452C-84E2-D332A8729205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F0255-1D27-48DE-906D-C9C42F62377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8400" y="19051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1360" y="1854360"/>
            <a:ext cx="253980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1360" y="2448000"/>
            <a:ext cx="253980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1360" y="3683160"/>
            <a:ext cx="253980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1840" y="25909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42400" y="32004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28680" y="37339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64240" y="1854360"/>
            <a:ext cx="2539800" cy="2463480"/>
            <a:chOff x="5664240" y="1854360"/>
            <a:chExt cx="2539800" cy="2463480"/>
          </a:xfrm>
        </p:grpSpPr>
        <p:sp>
          <p:nvSpPr>
            <p:cNvPr id="55" name=""/>
            <p:cNvSpPr/>
            <p:nvPr/>
          </p:nvSpPr>
          <p:spPr>
            <a:xfrm>
              <a:off x="5741280" y="19051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64240" y="18543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64240" y="24480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64240" y="36831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4720" y="25909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95280" y="32004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81560" y="37339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0520" y="48261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61200" y="49528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54120" y="12193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42120" y="12952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B84-0CEC-4977-B689-2B470EBF981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DA783-2F25-4FEE-9AC2-D945F7AE666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eback can be very h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ueless IS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ant law enforc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aties with foreign 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not be against the local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er may cease attack before traceback is comple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3EB-D66D-4E8A-A360-4C08C6A13BF7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7FAD0-98BE-4746-AAFC-540CD241C1B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oculture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set of target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ke planting Kansas with a single strain of wheat, or vineyards with a single root st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99A-9A6F-4966-9B61-86A8A8B26B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DA820-DD7B-47D5-A917-6C21ED01C12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ing scripts are published and shar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ers develop attack software for the rest of 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cking FAQs are comm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tools are easily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up “rootk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D93-605C-4774-AD7A-181F056F4A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BB894-C416-41EA-9A05-496E90844B3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ly writ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aud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 in most h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r services and protocols are r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ors sell flawe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don’t fix h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st-bas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curity is usually bro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requires discipline: not found in market lea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551-39F1-4AD9-A767-CF0EF6BE1DC4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2FA49-9457-44B7-9455-8AB2D4070396}" type="datetime3">
              <a:rPr lang="en-US"/>
              <a:t>July 28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Typical Erro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hecked user input submitted to the shell or Pe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dcard and escape characters take over the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GI scri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options, commands, or back do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 and others in send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string length is not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buffer overrun corrupts st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cpy, gets, sprint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r supplies assembly code, and jumps 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ger (Morris worm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Netsc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d (lat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AC2-1D75-403D-AC4C-12B376F77331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F1141-271E-4D79-A1E2-B572C54C9D1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vileged programs are much too lar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mail is tens of thousands of lines of complex code, running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scape browser/communicator is hu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systems are hu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atures are never retired, only ad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hort, simple program is hard to get r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C7A1-F3E4-40F4-B5E9-76B0CE7034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1E886-0B8E-4814-BA96-C0BBCE7780B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Protoc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words transmitted in the cle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/response is better, though subject to dictionary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KE can hide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generated passwords are better, but require devices or printo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-based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OK in controlled enviro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 and routing attacks can fool the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9D3-3FB5-474D-823F-E66FCFBCA1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131BA-25D8-4859-ABAE-50E91AB8310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akest Link Compromi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targ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lnerabilities are common in network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break-in compromi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t of the h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ost’s net (via sniff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sting h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vital” targets may be vi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24A-88DD-41D8-BD22-D659226D504A}" type="slidenum">
              <a:t>2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9A16F-7896-4E0B-90E3-C300902588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 They Find Dangerous Port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 scan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to wri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-open (SYN-only) scanners often don’t show up in lo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er to scan for UDP services, but not by mu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8E4-655B-4D6C-9E0F-7E548C1EB5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60C11-696F-4361-AB9D-F0BECD81DEB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afer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rberized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henticated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et/cp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ge/un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rcial serv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Mar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DC6-4297-483E-8176-6C7EECD936B3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8F163-40E4-438F-9C38-6F6EE4FE6C63}" type="datetime3">
              <a:rPr lang="en-US"/>
              <a:t>July 28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400" y="19051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360" y="1854360"/>
            <a:ext cx="253980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1360" y="2448000"/>
            <a:ext cx="253980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1360" y="3683160"/>
            <a:ext cx="253980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1840" y="25909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2400" y="32004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8680" y="37339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664240" y="1854360"/>
            <a:ext cx="2539800" cy="2463480"/>
            <a:chOff x="5664240" y="1854360"/>
            <a:chExt cx="2539800" cy="2463480"/>
          </a:xfrm>
        </p:grpSpPr>
        <p:sp>
          <p:nvSpPr>
            <p:cNvPr id="77" name=""/>
            <p:cNvSpPr/>
            <p:nvPr/>
          </p:nvSpPr>
          <p:spPr>
            <a:xfrm>
              <a:off x="5741280" y="19051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4240" y="18543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64240" y="24480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64240" y="36831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74720" y="25909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95280" y="32004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81560" y="37339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30520" y="48261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61200" y="49528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54120" y="12193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42120" y="12952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1040" y="2446200"/>
            <a:ext cx="5369040" cy="2702160"/>
          </a:xfrm>
          <a:custGeom>
            <a:avLst/>
            <a:gdLst/>
            <a:ahLst/>
            <a:rect l="l" t="t" r="r" b="b"/>
            <a:pathLst>
              <a:path w="3382" h="1702">
                <a:moveTo>
                  <a:pt x="128" y="0"/>
                </a:moveTo>
                <a:cubicBezTo>
                  <a:pt x="149" y="236"/>
                  <a:pt x="0" y="1142"/>
                  <a:pt x="252" y="1417"/>
                </a:cubicBezTo>
                <a:cubicBezTo>
                  <a:pt x="504" y="1692"/>
                  <a:pt x="1164" y="1649"/>
                  <a:pt x="1641" y="1651"/>
                </a:cubicBezTo>
                <a:cubicBezTo>
                  <a:pt x="2118" y="1653"/>
                  <a:pt x="2852" y="1702"/>
                  <a:pt x="3117" y="1427"/>
                </a:cubicBezTo>
                <a:cubicBezTo>
                  <a:pt x="3382" y="1152"/>
                  <a:pt x="3207" y="297"/>
                  <a:pt x="3231" y="0"/>
                </a:cubicBezTo>
              </a:path>
            </a:pathLst>
          </a:custGeom>
          <a:noFill/>
          <a:ln w="88920">
            <a:solidFill>
              <a:srgbClr val="0000ff"/>
            </a:solidFill>
            <a:round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1F9-D9AF-4312-915E-A104CF3754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8BEC5-4EEC-4A17-96CD-78E047656B9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ack Smashing Attack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s don’t check their in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s lik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rcp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rintf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are inherently danger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put length is too long, it can overwrite memory in C, overwriting variables and subroutine return addre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piece of external data must be checked before it is us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doesn’t hurt to check internal stuff, to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sert.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PU time is che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75D9-923D-47C6-8B82-EB42E07074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95C93-C2F1-43AC-8BE7-138AB6825AC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133720" y="1600200"/>
            <a:ext cx="1981080" cy="1600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20640" y="205740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before a procedure ca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1C7-D2A4-4FEC-AB6C-D197607A291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E8A8E-3C6C-4322-A094-6A96795CC8F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298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936680" y="3240000"/>
            <a:ext cx="30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go aft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is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190760" y="342900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1DF-C024-4C43-9A0D-4DBD8201667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6A74D-7581-446C-A967-D2080C9855E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11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56840" y="44956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line goes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206600" y="4684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CFE-7020-4B77-A599-F1252E660EB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1CA01-4760-4327-84C5-BFAF1055A1B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24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56840" y="44956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line goes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206600" y="4684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33720" y="4648320"/>
            <a:ext cx="19810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BE8-97D7-4940-BC8B-3F019275232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DB766-5F08-4AD3-A6AA-28FC988FC3E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38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ck smashing”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1905120"/>
            <a:ext cx="1981080" cy="31240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5760" y="3352680"/>
            <a:ext cx="38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turn address,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06600" y="3541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64B-926F-4EF4-B48C-89B2A71D9B7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84444-E139-4D4D-8E4C-7F38477CECD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52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ck smashing”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33720" y="1905120"/>
            <a:ext cx="1981080" cy="31240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4320" y="2133720"/>
            <a:ext cx="35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de load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pace on th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206600" y="232236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03480" y="3581280"/>
            <a:ext cx="35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runs 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ileges of the att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usual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091-8CBD-441C-8DB9-AAA945BF484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8BF39-4D2A-489A-9776-7E69E3E48F2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former victims of stack-smashing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gerd (Morris wor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log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stat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rly Netscape brow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ntly: file names in attachments to 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hd scare of two weeks a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C32-E05D-4873-B9B1-B9955C8ADC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B7BD8-89E0-4FB7-B10F-4F28FC2E8DB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able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1219320"/>
            <a:ext cx="1571760" cy="1448640"/>
            <a:chOff x="685800" y="1219320"/>
            <a:chExt cx="1571760" cy="1448640"/>
          </a:xfrm>
        </p:grpSpPr>
        <p:sp>
          <p:nvSpPr>
            <p:cNvPr id="93" name=""/>
            <p:cNvSpPr/>
            <p:nvPr/>
          </p:nvSpPr>
          <p:spPr>
            <a:xfrm>
              <a:off x="833040" y="152388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1515960"/>
              <a:ext cx="157176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1793880"/>
              <a:ext cx="157176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2370240"/>
              <a:ext cx="157176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000" y="182880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456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892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86200" y="121932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24280" y="1752480"/>
            <a:ext cx="1571400" cy="915480"/>
            <a:chOff x="4724280" y="1752480"/>
            <a:chExt cx="1571400" cy="915480"/>
          </a:xfrm>
        </p:grpSpPr>
        <p:sp>
          <p:nvSpPr>
            <p:cNvPr id="102" name=""/>
            <p:cNvSpPr/>
            <p:nvPr/>
          </p:nvSpPr>
          <p:spPr>
            <a:xfrm>
              <a:off x="472428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428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304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704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7932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743200" y="1752480"/>
            <a:ext cx="1571400" cy="915480"/>
            <a:chOff x="2743200" y="1752480"/>
            <a:chExt cx="1571400" cy="915480"/>
          </a:xfrm>
        </p:grpSpPr>
        <p:sp>
          <p:nvSpPr>
            <p:cNvPr id="108" name=""/>
            <p:cNvSpPr/>
            <p:nvPr/>
          </p:nvSpPr>
          <p:spPr>
            <a:xfrm>
              <a:off x="274320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196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596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9824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1752480"/>
            <a:ext cx="1571400" cy="915480"/>
            <a:chOff x="6553080" y="1752480"/>
            <a:chExt cx="1571400" cy="915480"/>
          </a:xfrm>
        </p:grpSpPr>
        <p:sp>
          <p:nvSpPr>
            <p:cNvPr id="114" name=""/>
            <p:cNvSpPr/>
            <p:nvPr/>
          </p:nvSpPr>
          <p:spPr>
            <a:xfrm>
              <a:off x="655308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184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584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812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800600" y="3657600"/>
            <a:ext cx="1571400" cy="915480"/>
            <a:chOff x="4800600" y="3657600"/>
            <a:chExt cx="1571400" cy="915480"/>
          </a:xfrm>
        </p:grpSpPr>
        <p:sp>
          <p:nvSpPr>
            <p:cNvPr id="120" name=""/>
            <p:cNvSpPr/>
            <p:nvPr/>
          </p:nvSpPr>
          <p:spPr>
            <a:xfrm>
              <a:off x="4800600" y="396252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427536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09360" y="396252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3360" y="426744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5640" y="365760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971800" y="3657600"/>
            <a:ext cx="1571400" cy="915480"/>
            <a:chOff x="2971800" y="3657600"/>
            <a:chExt cx="1571400" cy="915480"/>
          </a:xfrm>
        </p:grpSpPr>
        <p:sp>
          <p:nvSpPr>
            <p:cNvPr id="126" name=""/>
            <p:cNvSpPr/>
            <p:nvPr/>
          </p:nvSpPr>
          <p:spPr>
            <a:xfrm>
              <a:off x="2971800" y="396252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427536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0560" y="396252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4560" y="426744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6840" y="365760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705720" y="3124080"/>
            <a:ext cx="1571400" cy="1448640"/>
            <a:chOff x="6705720" y="3124080"/>
            <a:chExt cx="1571400" cy="1448640"/>
          </a:xfrm>
        </p:grpSpPr>
        <p:sp>
          <p:nvSpPr>
            <p:cNvPr id="132" name=""/>
            <p:cNvSpPr/>
            <p:nvPr/>
          </p:nvSpPr>
          <p:spPr>
            <a:xfrm>
              <a:off x="6852600" y="342864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3420720"/>
              <a:ext cx="157140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05720" y="3698640"/>
              <a:ext cx="157140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5720" y="427500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9560" y="373356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3760" y="396216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8480" y="426708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1200" y="312408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371600" y="1752480"/>
            <a:ext cx="7007400" cy="3149640"/>
          </a:xfrm>
          <a:custGeom>
            <a:avLst/>
            <a:gdLst/>
            <a:ahLst/>
            <a:rect l="l" t="t" r="r" b="b"/>
            <a:pathLst>
              <a:path w="4414" h="1984">
                <a:moveTo>
                  <a:pt x="0" y="0"/>
                </a:moveTo>
                <a:cubicBezTo>
                  <a:pt x="66" y="109"/>
                  <a:pt x="235" y="545"/>
                  <a:pt x="398" y="654"/>
                </a:cubicBezTo>
                <a:cubicBezTo>
                  <a:pt x="561" y="763"/>
                  <a:pt x="820" y="716"/>
                  <a:pt x="977" y="654"/>
                </a:cubicBezTo>
                <a:cubicBezTo>
                  <a:pt x="1134" y="592"/>
                  <a:pt x="1213" y="282"/>
                  <a:pt x="1339" y="282"/>
                </a:cubicBezTo>
                <a:cubicBezTo>
                  <a:pt x="1465" y="282"/>
                  <a:pt x="1584" y="592"/>
                  <a:pt x="1732" y="654"/>
                </a:cubicBezTo>
                <a:cubicBezTo>
                  <a:pt x="1880" y="716"/>
                  <a:pt x="2086" y="715"/>
                  <a:pt x="2229" y="654"/>
                </a:cubicBezTo>
                <a:cubicBezTo>
                  <a:pt x="2372" y="593"/>
                  <a:pt x="2468" y="290"/>
                  <a:pt x="2592" y="288"/>
                </a:cubicBezTo>
                <a:cubicBezTo>
                  <a:pt x="2716" y="286"/>
                  <a:pt x="2845" y="585"/>
                  <a:pt x="2974" y="644"/>
                </a:cubicBezTo>
                <a:cubicBezTo>
                  <a:pt x="3103" y="703"/>
                  <a:pt x="3239" y="703"/>
                  <a:pt x="3367" y="644"/>
                </a:cubicBezTo>
                <a:cubicBezTo>
                  <a:pt x="3495" y="585"/>
                  <a:pt x="3646" y="276"/>
                  <a:pt x="3744" y="288"/>
                </a:cubicBezTo>
                <a:cubicBezTo>
                  <a:pt x="3842" y="300"/>
                  <a:pt x="4414" y="567"/>
                  <a:pt x="3956" y="716"/>
                </a:cubicBezTo>
                <a:cubicBezTo>
                  <a:pt x="3498" y="865"/>
                  <a:pt x="1487" y="987"/>
                  <a:pt x="998" y="1182"/>
                </a:cubicBezTo>
                <a:cubicBezTo>
                  <a:pt x="509" y="1377"/>
                  <a:pt x="937" y="1834"/>
                  <a:pt x="1019" y="1885"/>
                </a:cubicBezTo>
                <a:cubicBezTo>
                  <a:pt x="1101" y="1936"/>
                  <a:pt x="1347" y="1493"/>
                  <a:pt x="1488" y="1488"/>
                </a:cubicBezTo>
                <a:cubicBezTo>
                  <a:pt x="1629" y="1483"/>
                  <a:pt x="1735" y="1793"/>
                  <a:pt x="1867" y="1854"/>
                </a:cubicBezTo>
                <a:cubicBezTo>
                  <a:pt x="1999" y="1915"/>
                  <a:pt x="2152" y="1923"/>
                  <a:pt x="2281" y="1854"/>
                </a:cubicBezTo>
                <a:cubicBezTo>
                  <a:pt x="2410" y="1785"/>
                  <a:pt x="2513" y="1440"/>
                  <a:pt x="2640" y="1440"/>
                </a:cubicBezTo>
                <a:cubicBezTo>
                  <a:pt x="2767" y="1440"/>
                  <a:pt x="2914" y="1782"/>
                  <a:pt x="3046" y="1854"/>
                </a:cubicBezTo>
                <a:cubicBezTo>
                  <a:pt x="3178" y="1926"/>
                  <a:pt x="3305" y="1984"/>
                  <a:pt x="3429" y="1875"/>
                </a:cubicBezTo>
                <a:cubicBezTo>
                  <a:pt x="3553" y="1766"/>
                  <a:pt x="3717" y="1341"/>
                  <a:pt x="3792" y="12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1BA-9A88-40BF-BD26-BF147CEE9F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62186-B234-41B8-9131-B83B0F00665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ngerous service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rtable pro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X^H^H^H^H^H^H^HCOM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u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9D0-D060-4C6F-A147-C94E11D246B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2CF85-3E6B-4B21-99FC-360E2A0A54E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re do Programs Ru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616120" y="1778040"/>
            <a:ext cx="3835440" cy="3682800"/>
            <a:chOff x="2616120" y="1778040"/>
            <a:chExt cx="3835440" cy="3682800"/>
          </a:xfrm>
        </p:grpSpPr>
        <p:sp>
          <p:nvSpPr>
            <p:cNvPr id="374" name=""/>
            <p:cNvSpPr/>
            <p:nvPr/>
          </p:nvSpPr>
          <p:spPr>
            <a:xfrm>
              <a:off x="3530520" y="2616120"/>
              <a:ext cx="2082960" cy="20066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6120" y="1778040"/>
              <a:ext cx="3835440" cy="3682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90800" y="3230640"/>
              <a:ext cx="1567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530160" y="1935000"/>
              <a:ext cx="1934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280-3FAC-4AE4-A5FC-4431D392A431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15D70-3245-4B5C-8B22-A99CA9FF3218}" type="datetime3">
              <a:rPr lang="en-US"/>
              <a:t>July 28, 20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re do Programs Ru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616120" y="1778040"/>
            <a:ext cx="3835440" cy="3682800"/>
            <a:chOff x="2616120" y="1778040"/>
            <a:chExt cx="3835440" cy="3682800"/>
          </a:xfrm>
        </p:grpSpPr>
        <p:sp>
          <p:nvSpPr>
            <p:cNvPr id="381" name=""/>
            <p:cNvSpPr/>
            <p:nvPr/>
          </p:nvSpPr>
          <p:spPr>
            <a:xfrm>
              <a:off x="3530520" y="2616120"/>
              <a:ext cx="2082960" cy="20066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16120" y="1778040"/>
              <a:ext cx="3835440" cy="3682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0800" y="3230640"/>
              <a:ext cx="1567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30160" y="1935000"/>
              <a:ext cx="1934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458440" y="5532480"/>
            <a:ext cx="4249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90e0a"/>
                </a:solidFill>
                <a:latin typeface="Arial"/>
              </a:rPr>
              <a:t>This model is wro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AFF-4DD8-4028-A0B1-C9CC0922CF0A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231AE-723C-4605-920D-BEEC9D2E769F}" type="datetime3">
              <a:rPr lang="en-US"/>
              <a:t>July 28, 20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ets run in an incompletely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ined environ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30520" y="2616120"/>
            <a:ext cx="2082960" cy="2006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16120" y="1778040"/>
            <a:ext cx="3835440" cy="36828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3880" y="196524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90800" y="1935000"/>
            <a:ext cx="1567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06480" y="3306600"/>
            <a:ext cx="193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FB3-BF50-494A-884B-ED7894F0E7B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28AF1-B34C-4300-BA64-E3A7113BCD2D}" type="datetime3">
              <a:rPr lang="en-US"/>
              <a:t>July 28, 20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ava’s “sandbox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incompletely def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different for each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optimized for speed, not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“native methods”, which can break the security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Java, but no sandbox at a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972-013B-4C43-A0D4-D4AF63AFD539}" type="slidenum">
              <a:t>4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78BFF-7E8B-4A60-A5DB-10D539A889F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iffing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“eavesdropping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2973240"/>
            <a:ext cx="0" cy="236088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5A0-3DFC-4312-8BE0-8EACFF8F9ED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A6D92-AB2B-4109-9D6D-C5E59C74866D}" type="datetime3">
              <a:rPr lang="en-US"/>
              <a:t>July 28, 20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thernet and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never secure from eavesdro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iffing” tools are comm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b host name, user name, and pass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any hacker col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it card numbers are eas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1,000,000 captured in 199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It doesn’t matter how good your password is if it can be sniff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ill in wide use - even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2B63-BF6D-4B1C-8AFC-161122121505}" type="slidenum">
              <a:t>4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1E6C5-3362-4D5B-93A5-F364DC5326E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P Spoof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trusted ho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ats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ddress-based authent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e. rlogin, rsh, tcp wrap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tools available to the hack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don’t have to be TCP/IP expe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was used to crack Tsutomu Shimomura’s machines in “Takedow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Morris Jr. wrote a paper on this in 198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ve Bellovin republished it in 198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 known use in 199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06E-BAD9-4018-B1F4-DA51D7438E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C0D68-4A12-4B32-A481-4EE01AF5384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s to a host with some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TP, POP3, IMAP (mai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net, rlogin (log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 (web acc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 (name serv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, BGP4, OSPF (rou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FS, SMB (network file acc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one can invent a new protocol between two h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44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E4B-1DC6-4D64-A372-0A3ECB2BE7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44D11-2090-485E-8F13-2E85DFCFFAB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connection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itial SYN pack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ACA-7639-4BCF-A5B6-59CB58581C45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A0226D-972C-4ED6-905A-18A3F5D99A60}" type="datetime3">
              <a:rPr lang="en-US"/>
              <a:t>July 28, 20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e to Open, connection is “half open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5E0-1B43-4759-866A-B4CA51C972E5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4A8E0-F632-4897-B0CE-E9DB085B5430}" type="datetime3">
              <a:rPr lang="en-US"/>
              <a:t>July 28, 20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ent completes handshake, TCP connection is now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13520" y="364176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C46-298B-48C8-AA4D-BF08BA33CCF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19488-5A7F-4A53-AD70-4B7EF1785E06}" type="datetime3">
              <a:rPr lang="en-US"/>
              <a:t>July 28, 20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termine Likely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SEQ</a:t>
            </a:r>
            <a:r>
              <a:rPr b="1" lang="en-US" sz="26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19720" y="2971800"/>
            <a:ext cx="2209680" cy="23623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4280" y="3276360"/>
            <a:ext cx="1905120" cy="20574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029200" y="3580920"/>
            <a:ext cx="1600200" cy="175284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334120" y="3886200"/>
            <a:ext cx="1295280" cy="14479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562720" y="4191120"/>
            <a:ext cx="1066680" cy="121896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B52-3957-496F-A51E-357456DDC6C2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95DC2-E02E-4005-8245-070D88ACF176}" type="datetime3">
              <a:rPr lang="en-US"/>
              <a:t>July 28, 20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ress the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437920" y="3429000"/>
            <a:ext cx="1600200" cy="19051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222720" y="3351240"/>
            <a:ext cx="3004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or SYN at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16C5-C25F-4D0D-BA5A-3CD44DF9402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3BFEB-1353-40CF-8B6A-3D419793A3B9}" type="datetime3">
              <a:rPr lang="en-US"/>
              <a:t>July 28, 20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ress the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471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239-BE54-4AAD-8E88-1103BB0922EF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526A4-C1F8-44C5-A10F-EFDA0BE49898}" type="datetime3">
              <a:rPr lang="en-US"/>
              <a:t>July 28, 20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opens connection “from”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481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1390320" y="472428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9560" y="2592360"/>
            <a:ext cx="716220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4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477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D0A6-8CA5-4758-B6CD-C7D662C669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904D3-351D-4020-AEEE-ADC12DEBD6D1}" type="datetime3">
              <a:rPr lang="en-US"/>
              <a:t>July 28, 20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seems to come fro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usted clien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493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390320" y="472428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049560" y="2592360"/>
            <a:ext cx="716220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4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477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6E5-AEBB-4237-B039-3C66B3602A2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60FF8-A806-43B0-B4AE-631D7A02A9E1}" type="datetime3">
              <a:rPr lang="en-US"/>
              <a:t>July 28, 20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 responds to dea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06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39CC-50BF-48D2-9116-8FFFAF67474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023DF-D522-4A00-8A4F-74E195189E60}" type="datetime3">
              <a:rPr lang="en-US"/>
              <a:t>July 28, 20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oof final open mess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19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3080" y="446580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6760" y="4192560"/>
            <a:ext cx="609588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20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209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E47-7500-4987-8D7E-FF1A0D4824E6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D3E06-CBDC-42AE-BC6B-C68E1ADED1B1}" type="datetime3">
              <a:rPr lang="en-US"/>
              <a:t>July 28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supplies a reliable connection to the other 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 up “circuit” between client and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s a stream of data into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ssembles packets into a str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1 - 655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51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763-E027-4729-BF00-17D83FBAAB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B2E50-5A34-4405-93AE-BE4DE1167D1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Open” is comple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33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6760" y="4192560"/>
            <a:ext cx="609588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20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209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C47-6E67-4AD9-ACA4-1A0B6EAA187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8E9D7-5571-4065-ACD2-1D88D3F08A09}" type="datetime3">
              <a:rPr lang="en-US"/>
              <a:t>July 28, 20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Server to outside acc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47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802040" y="4192560"/>
            <a:ext cx="350532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88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886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45840" y="4770360"/>
            <a:ext cx="328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vil trusted comma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5BA-2F2E-4521-B1A2-7FB8A4EFCF49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DBC85-1132-4B54-9A3C-D34583641EB5}" type="datetime3">
              <a:rPr lang="en-US"/>
              <a:t>July 28, 20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venting IP spoof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ofing can be stopped at the perime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internal addresses accepted from the outsid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to have a coherent address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irewall can prevent access al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ress-based authentication is a BAD IDE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D97-33F4-4F95-A4EC-AC9978E12BA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EFF97-0585-43C0-9395-16BCEF18AD6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P hijack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is watching an existing connection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haps through the strong authentication st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114-FEF8-476E-9E7A-1DE9387AF0E3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E83B7-F473-47F9-A784-0B8CF6BE4279}" type="datetime3">
              <a:rPr lang="en-US"/>
              <a:t>July 28, 20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ill the client connection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2437920" y="2971800"/>
            <a:ext cx="1600200" cy="23623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4640" y="4494240"/>
            <a:ext cx="260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AE2-F293-48CB-83D0-4C65C491CA3E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EB709-F66E-42BF-96BF-1362180695D3}" type="datetime3">
              <a:rPr lang="en-US"/>
              <a:t>July 28, 20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continue the connec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3960" y="2744640"/>
            <a:ext cx="533340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95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954"/>
              </a:path>
            </a:pathLst>
          </a:custGeom>
          <a:noFill/>
          <a:ln cap="rnd"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2361960" y="2743200"/>
            <a:ext cx="4190760" cy="0"/>
          </a:xfrm>
          <a:prstGeom prst="line">
            <a:avLst/>
          </a:prstGeom>
          <a:ln w="255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108160" y="2489040"/>
            <a:ext cx="584280" cy="584280"/>
            <a:chOff x="2108160" y="2489040"/>
            <a:chExt cx="584280" cy="584280"/>
          </a:xfrm>
        </p:grpSpPr>
        <p:sp>
          <p:nvSpPr>
            <p:cNvPr id="588" name=""/>
            <p:cNvSpPr/>
            <p:nvPr/>
          </p:nvSpPr>
          <p:spPr>
            <a:xfrm>
              <a:off x="2108160" y="2489040"/>
              <a:ext cx="584280" cy="5842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28760" y="2552760"/>
              <a:ext cx="343080" cy="457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98D-C771-435B-82ED-E6B01C3CA045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9BF89-FE0D-44B0-9C51-EC67006C31EE}" type="datetime3">
              <a:rPr lang="en-US"/>
              <a:t>July 28, 20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hijac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kes over an existing, authenticated 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s access to the packet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tools are available to the hackers 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yptographic signatures of packets can defeat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805-0356-4790-AD91-B6D488D9DC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D00B6-2473-4889-898D-4E8802B99F6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38280" y="2971800"/>
            <a:ext cx="3124440" cy="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267080" y="3048120"/>
            <a:ext cx="23623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4495320" y="3048120"/>
            <a:ext cx="21337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4724280" y="3048120"/>
            <a:ext cx="19051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4952520" y="3048120"/>
            <a:ext cx="16765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181480" y="2971800"/>
            <a:ext cx="1447920" cy="23623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409720" y="3048120"/>
            <a:ext cx="12193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3962520" y="3048120"/>
            <a:ext cx="266688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79E-9759-4F3A-8FFF-AC96EB8A0466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C93F7-E1E2-4EB1-A45F-AFF3CD22A6A6}" type="datetime3">
              <a:rPr lang="en-US"/>
              <a:t>July 28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less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rror corr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low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itable for some network services that don’t have to be reliable, like vo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 are numb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655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ule, its connectionless-nature makes it danger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58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85E-CA62-4391-AAB6-5A8ED44F98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6F84E-0109-459C-B08A-BAF907ABE01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your face - not subtle like traditional hacking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packets are very hard to tr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go on for wee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ers can exploit poor local software or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y flood the site’s network with incoming pac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These attacks are </a:t>
            </a: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always</a:t>
            </a:r>
            <a:r>
              <a:rPr b="1" i="1" lang="en-US" sz="2800" spc="-1" strike="noStrike">
                <a:solidFill>
                  <a:srgbClr val="009900"/>
                </a:solidFill>
                <a:latin typeface="Arial"/>
              </a:rPr>
              <a:t> possible on a public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ECB-43DC-4109-8E47-810FFA63C32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EC905-93AC-489B-8F80-33CED11C67B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 packet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513520" y="364176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0A0-C3AB-4C27-B5E0-D028DBF4E938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E5C1C-E279-498F-A873-7FF0F799FB2B}" type="datetime3">
              <a:rPr lang="en-US"/>
              <a:t>July 28, 20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765520"/>
            <a:ext cx="2210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alf-o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&lt;300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934320" y="2666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09F-794A-4CBA-B3F2-55F8BC6BA2E9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7B35E-03CC-4862-AF81-EFA16A59BCA3}" type="datetime3">
              <a:rPr lang="en-US"/>
              <a:t>July 28, 20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seen at Panix.com in fall 199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f-open processing was implemented poor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atic behavi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n’t much call for improving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ve been expecting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thing we left out of our firewalls b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ed at the last min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1880" indent="-19188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knew of no good sol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1880" indent="-19188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are sorry we left it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one appeared in fall 199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 with same source and destination address kills some TCP/I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here will be more attacks on TCP/IP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ots of code invol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hard to test code in a ker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05F-0CE3-49FA-9D83-0A4D929FE900}" type="slidenum">
              <a:t>7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29639-2E48-42EE-8A08-ECCE27F065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ng flood (smurf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 ping genera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7E1-04A5-4ADD-850D-30BACE1E20B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2622F-4602-4926-BD89-8CBE508A69F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gger packets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oofed return addr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63560" y="5234040"/>
            <a:ext cx="93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592360" y="3735360"/>
            <a:ext cx="39621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1" y="0"/>
                </a:moveTo>
                <a:arcTo wR="10800" hR="10800" stAng="-5402755" swAng="5402755"/>
                <a:lnTo>
                  <a:pt x="10800" y="10800"/>
                </a:lnTo>
                <a:close/>
              </a:path>
              <a:path fill="none" w="21600" h="21600">
                <a:moveTo>
                  <a:pt x="10791" y="0"/>
                </a:moveTo>
                <a:arcTo wR="10800" hR="10800" stAng="-5402755" swAng="5402755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7480" y="3887640"/>
            <a:ext cx="42242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5" y="4435"/>
                </a:moveTo>
                <a:arcTo wR="10800" hR="10800" stAng="-8633488" swAng="8346488"/>
                <a:lnTo>
                  <a:pt x="10800" y="10800"/>
                </a:lnTo>
                <a:close/>
              </a:path>
              <a:path fill="none" w="21600" h="21600">
                <a:moveTo>
                  <a:pt x="2075" y="4435"/>
                </a:moveTo>
                <a:arcTo wR="10800" hR="10800" stAng="-8633488" swAng="834648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988920" y="3506760"/>
            <a:ext cx="746712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-760320" y="2135160"/>
            <a:ext cx="746712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-3810240" y="1830240"/>
            <a:ext cx="10515600" cy="70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038" swAng="540103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038" swAng="540103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-4570560" y="3583080"/>
            <a:ext cx="1127736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0968" swAng="540096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0968" swAng="540096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9B8-064C-4192-A9D8-B963D22E9DB2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8FD19-6B5C-4D76-95CB-95F77B7F0E9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tors flood the targ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pack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63560" y="5234040"/>
            <a:ext cx="93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76520" y="1828800"/>
            <a:ext cx="5259240" cy="1601640"/>
          </a:xfrm>
          <a:custGeom>
            <a:avLst/>
            <a:gdLst/>
            <a:ahLst/>
            <a:rect l="l" t="t" r="r" b="b"/>
            <a:pathLst>
              <a:path w="3313" h="1009">
                <a:moveTo>
                  <a:pt x="0" y="0"/>
                </a:moveTo>
                <a:lnTo>
                  <a:pt x="432" y="336"/>
                </a:lnTo>
                <a:lnTo>
                  <a:pt x="960" y="672"/>
                </a:lnTo>
                <a:lnTo>
                  <a:pt x="1632" y="768"/>
                </a:lnTo>
                <a:lnTo>
                  <a:pt x="1654" y="798"/>
                </a:lnTo>
                <a:lnTo>
                  <a:pt x="2736" y="1008"/>
                </a:lnTo>
                <a:lnTo>
                  <a:pt x="3312" y="1008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4080" y="2057400"/>
            <a:ext cx="4040280" cy="1601640"/>
          </a:xfrm>
          <a:custGeom>
            <a:avLst/>
            <a:gdLst/>
            <a:ahLst/>
            <a:rect l="l" t="t" r="r" b="b"/>
            <a:pathLst>
              <a:path w="2545" h="1009">
                <a:moveTo>
                  <a:pt x="0" y="0"/>
                </a:moveTo>
                <a:lnTo>
                  <a:pt x="816" y="384"/>
                </a:lnTo>
                <a:lnTo>
                  <a:pt x="1392" y="624"/>
                </a:lnTo>
                <a:lnTo>
                  <a:pt x="1920" y="1008"/>
                </a:lnTo>
                <a:lnTo>
                  <a:pt x="2544" y="96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066680" y="2971800"/>
            <a:ext cx="6097680" cy="687240"/>
          </a:xfrm>
          <a:custGeom>
            <a:avLst/>
            <a:gdLst/>
            <a:ahLst/>
            <a:rect l="l" t="t" r="r" b="b"/>
            <a:pathLst>
              <a:path w="3841" h="433">
                <a:moveTo>
                  <a:pt x="0" y="384"/>
                </a:moveTo>
                <a:lnTo>
                  <a:pt x="768" y="240"/>
                </a:lnTo>
                <a:lnTo>
                  <a:pt x="1344" y="0"/>
                </a:lnTo>
                <a:lnTo>
                  <a:pt x="2112" y="144"/>
                </a:lnTo>
                <a:lnTo>
                  <a:pt x="3264" y="432"/>
                </a:lnTo>
                <a:lnTo>
                  <a:pt x="3840" y="384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43200" y="3124080"/>
            <a:ext cx="4497480" cy="763560"/>
          </a:xfrm>
          <a:custGeom>
            <a:avLst/>
            <a:gdLst/>
            <a:ahLst/>
            <a:rect l="l" t="t" r="r" b="b"/>
            <a:pathLst>
              <a:path w="2833" h="481">
                <a:moveTo>
                  <a:pt x="0" y="336"/>
                </a:moveTo>
                <a:lnTo>
                  <a:pt x="432" y="480"/>
                </a:lnTo>
                <a:lnTo>
                  <a:pt x="462" y="472"/>
                </a:lnTo>
                <a:lnTo>
                  <a:pt x="1104" y="384"/>
                </a:lnTo>
                <a:lnTo>
                  <a:pt x="1102" y="362"/>
                </a:lnTo>
                <a:lnTo>
                  <a:pt x="1680" y="0"/>
                </a:lnTo>
                <a:lnTo>
                  <a:pt x="2112" y="336"/>
                </a:lnTo>
                <a:lnTo>
                  <a:pt x="2832" y="24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819520" y="3048120"/>
            <a:ext cx="4268520" cy="1449360"/>
          </a:xfrm>
          <a:custGeom>
            <a:avLst/>
            <a:gdLst/>
            <a:ahLst/>
            <a:rect l="l" t="t" r="r" b="b"/>
            <a:pathLst>
              <a:path w="2689" h="913">
                <a:moveTo>
                  <a:pt x="0" y="912"/>
                </a:moveTo>
                <a:lnTo>
                  <a:pt x="384" y="528"/>
                </a:lnTo>
                <a:lnTo>
                  <a:pt x="1008" y="432"/>
                </a:lnTo>
                <a:lnTo>
                  <a:pt x="1632" y="0"/>
                </a:lnTo>
                <a:lnTo>
                  <a:pt x="2112" y="384"/>
                </a:lnTo>
                <a:lnTo>
                  <a:pt x="2688" y="336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419720" y="3200400"/>
            <a:ext cx="2744640" cy="579600"/>
          </a:xfrm>
          <a:custGeom>
            <a:avLst/>
            <a:gdLst/>
            <a:ahLst/>
            <a:rect l="l" t="t" r="r" b="b"/>
            <a:pathLst>
              <a:path w="1729" h="365">
                <a:moveTo>
                  <a:pt x="0" y="336"/>
                </a:moveTo>
                <a:lnTo>
                  <a:pt x="624" y="0"/>
                </a:lnTo>
                <a:lnTo>
                  <a:pt x="1104" y="336"/>
                </a:lnTo>
                <a:lnTo>
                  <a:pt x="1106" y="364"/>
                </a:lnTo>
                <a:lnTo>
                  <a:pt x="1728" y="288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C9D-46B6-4BDD-86BF-B9F8931C5AF5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08F75-F789-4872-B663-2E366ACC99D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eb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arget cannot tell where the trigger is coming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acking hosts may not know that they are being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cast storms can generate more lo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892-736B-43A1-94DD-DD84A31C5C7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C40FF-8A9D-4C3C-9B60-E00F8639DC1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s have limited siz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dropped in transit if cong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arrive out of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duplic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ing by IP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using IP Version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 6 is dubi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/SEC gives authentication and/or encry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tunne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65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A57-894F-498B-8FB9-2813687035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3B02D-6403-4761-BB40-2F3E6004EE7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S, routing, and infrastructure atta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-2511720" y="2820960"/>
            <a:ext cx="9900360" cy="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102" swAng="338411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102" swAng="3384118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702-9CCC-4AD2-8ECE-4C59577E44CA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4F7CA-B4D3-4992-8CD6-31215B051088}" type="datetime3">
              <a:rPr lang="en-US"/>
              <a:t>July 28, 20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2511720" y="2820960"/>
            <a:ext cx="9900360" cy="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102" swAng="338411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102" swAng="3384118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4267080" y="2819160"/>
            <a:ext cx="0" cy="2514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0036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C51-DDB3-4A15-A89F-A4A93E58CA91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E72F7-C2AE-4B79-B1FA-90177D845F7C}" type="datetime3">
              <a:rPr lang="en-US"/>
              <a:t>July 28, 20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2820960"/>
            <a:ext cx="28951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69" swAng="5403769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69" swAng="5403769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802040" y="2744640"/>
            <a:ext cx="365724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0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016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0036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02C-4608-4900-9FE6-FBC9CB7E5919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6CABD-B698-420C-8BA7-9575D65BBC92}" type="datetime3">
              <a:rPr lang="en-US"/>
              <a:t>July 28, 20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 an extra “glue” record on a DNS qu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 cache time-out hides the evi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est bind program checks for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 cache poisoning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DNS server and return incorrect resul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SEC can fix t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ing through final comments 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634-710B-494A-969B-E4C8EDB80F2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F67F6-1C96-4E4C-8F36-8E2F6742901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rastructur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tools are still wea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ed BGP4 is co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up with the latest name ser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 to secure router implementations, when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 what will you do if the entire Internet is down for a week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41D-01E0-4DAD-960D-64451B36134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DCD21-FE30-4586-97AC-5803450B666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ngineering (cont.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826920" y="3510000"/>
            <a:ext cx="542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BDA-881F-4814-97F1-BF6A51C24225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2532B-4B3D-458F-B02E-E6B77CA314F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516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484200" y="63360"/>
            <a:ext cx="85024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other problem with strange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1E4-ADC5-4558-B944-E864D88A8B07}" type="slidenum">
              <a:t>8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E1FCC-35A1-442D-8CE0-979533E4C27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ngineer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02280" y="1987560"/>
            <a:ext cx="5185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52B-7605-4121-8E09-352D0C4E264E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21EBA-0E2D-4FC9-85FF-535D9FBCF622}" type="datetime3">
              <a:rPr lang="en-US"/>
              <a:t>July 28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various controls and auxiliary func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 re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TL time exc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 quench (TCP on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 unreach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 unreach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filte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72" name=""/>
            <p:cNvSpPr/>
            <p:nvPr/>
          </p:nvSpPr>
          <p:spPr>
            <a:xfrm>
              <a:off x="46368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 +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ICM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331-7D1E-41F3-96E0-0A7CF9A4AB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5DA99-E4A8-4B97-9E1F-14963EC086E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557-9F41-4509-8B6A-D2C8C6ACFBFB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9125C-85B1-437D-B76D-8E6796B84E59}" type="datetime3">
              <a:rPr lang="en-US"/>
              <a:t>July 28, 20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267080" y="3733560"/>
            <a:ext cx="167652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E80A-0EC4-4390-B07A-5131157C9136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BE95E-EBBA-4381-BA7D-11B2CC2C22D2}" type="datetime3">
              <a:rPr lang="en-US"/>
              <a:t>July 28, 20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ault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GI works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6B6-9850-47A0-805B-AA64206998DF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77A58-5C63-456C-BB8E-616AFE87C9B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re default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069920" y="1909800"/>
            <a:ext cx="7545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B5A-43AD-40ED-B5E9-1A1BB3231875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60F1F-A53D-487B-B476-80AEDB38F85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Dangerous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e” RP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login/rsh/rc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web server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BA6-616E-45A7-B857-6EB818749A58}" type="slidenum">
              <a:t>9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5FA4C-C30F-4C5F-B060-219665701CE9}" type="datetime3">
              <a:rPr lang="en-US"/>
              <a:t>July 28, 20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vesdropping attacks sniff pass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1,000,000 sniffed in 1994 from hacked IS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 hijacking takes over authenticated connections: strong passwords aren’t enoug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cure accounts are subject to probes and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uption of client host compromises the s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7A6-D2F0-4E98-AAD7-B502233742EB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1DAFE-232C-4B94-A81A-489BF90E538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takes over client ho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928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1A4-5D82-4EF9-8471-78449CA55BA8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61DCD-97BE-447C-8CE4-479C63A27BD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takes over client hos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04920" y="1981080"/>
            <a:ext cx="20746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438280" y="3733920"/>
            <a:ext cx="182880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-465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6781-EE37-41B4-B6ED-BC1380657B89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3E8FD-20EF-4980-AED7-A0E0E7BDD8F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 - teln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ll the TAP kernel load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04920" y="1981080"/>
            <a:ext cx="207468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438280" y="3733920"/>
            <a:ext cx="182880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7200" y="3200400"/>
            <a:ext cx="685800" cy="685800"/>
          </a:xfrm>
          <a:prstGeom prst="smileyFace">
            <a:avLst>
              <a:gd name="adj" fmla="val -465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42880" y="3043080"/>
            <a:ext cx="914400" cy="1216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26040" y="3429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NE-98, NLUU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CD1-C5C8-424C-A13D-79AC6A40521B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D5B2A-1CDB-46D7-99A6-872BF9BC10F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13:26:38Z</dcterms:created>
  <dc:creator>Bill Cheswick</dc:creator>
  <dc:description>For a class at SANE-98, NLUUG, November 1998</dc:description>
  <cp:keywords>TCP/IP Internet attacks</cp:keywords>
  <dc:language>en-US</dc:language>
  <cp:lastModifiedBy>Bill Cheswick</cp:lastModifiedBy>
  <dcterms:modified xsi:type="dcterms:W3CDTF">1998-11-18T13:30:06Z</dcterms:modified>
  <cp:revision>60</cp:revision>
  <dc:subject>Technical Details of Many Types of Internet Attacks</dc:subject>
  <dc:title>Internet Attacks: The Gory Details</dc:title>
</cp:coreProperties>
</file>