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09480" y="12952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PROXY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pplication Gatew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Domain Name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 Bellovin - AT&amp;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l Cheswick - Bell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ld Way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3440" y="3484440"/>
            <a:ext cx="496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00240" y="3236760"/>
            <a:ext cx="1249200" cy="49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46200" y="3484440"/>
            <a:ext cx="1990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P conn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root DN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ed client software for TCP circuit connections outside (a la SOC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08040" y="3260880"/>
            <a:ext cx="6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09800" y="2270160"/>
            <a:ext cx="18003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057400"/>
            <a:ext cx="0" cy="3733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28760" y="4465800"/>
            <a:ext cx="1338120" cy="86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4952880"/>
            <a:ext cx="61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01840" y="4479840"/>
            <a:ext cx="116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255760"/>
            <a:ext cx="1295280" cy="86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0160" y="3103560"/>
            <a:ext cx="0" cy="371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87800" y="2270160"/>
            <a:ext cx="1114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w Way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Packet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-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DNS for our own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DNS for ever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coexist with the Old Way for quite a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5720" y="3637080"/>
            <a:ext cx="496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52520" y="3389400"/>
            <a:ext cx="1249200" cy="49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8840" y="3637080"/>
            <a:ext cx="1990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62120" y="4008600"/>
            <a:ext cx="132408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8800" y="3637080"/>
            <a:ext cx="0" cy="371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60680" y="3413160"/>
            <a:ext cx="6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33440" y="2041560"/>
            <a:ext cx="13017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75080" y="4098960"/>
            <a:ext cx="1319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408400"/>
            <a:ext cx="1295280" cy="86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3840" y="3255840"/>
            <a:ext cx="0" cy="371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111480" y="2422440"/>
            <a:ext cx="1114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81040" y="4923000"/>
            <a:ext cx="1338120" cy="86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6640" y="5410080"/>
            <a:ext cx="611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54120" y="4937040"/>
            <a:ext cx="116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905120"/>
            <a:ext cx="0" cy="4190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DNS application 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switch directs queries to correct `realm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can delete or modify responses for security or administrative rea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meter placement gives single point of control and log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r and safer than Bind, even if everyone is up-to-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nternal queries are directed to a dnsproxy server. Queries are sent to appropriate `realm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s come through dns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alms may have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ed response goes back to c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276720"/>
            <a:ext cx="76960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6360" y="2575080"/>
            <a:ext cx="183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 re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2680" y="3489480"/>
            <a:ext cx="168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 re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253200" y="2803680"/>
            <a:ext cx="182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038480" y="3276720"/>
            <a:ext cx="1447920" cy="1447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276720"/>
            <a:ext cx="1523880" cy="1523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524560" y="4937040"/>
            <a:ext cx="130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808280" y="4937040"/>
            <a:ext cx="1114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620800" y="1736640"/>
            <a:ext cx="116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24080" y="3276720"/>
            <a:ext cx="1524240" cy="152388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3276720"/>
            <a:ext cx="1371600" cy="129528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505320"/>
            <a:ext cx="76964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786720" y="3032280"/>
            <a:ext cx="182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572000" y="3505320"/>
            <a:ext cx="1447920" cy="1447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57720" y="5165640"/>
            <a:ext cx="130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341440" y="5165640"/>
            <a:ext cx="1114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54320" y="1965240"/>
            <a:ext cx="116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3505320"/>
            <a:ext cx="1295640" cy="129528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962520" y="2895480"/>
            <a:ext cx="53316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2590920"/>
            <a:ext cx="914400" cy="91440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7240" y="2803680"/>
            <a:ext cx="183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 re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3560" y="3718080"/>
            <a:ext cx="168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 re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ion #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name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9400" y="3789360"/>
            <a:ext cx="496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76200" y="3541680"/>
            <a:ext cx="1249200" cy="49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22520" y="3789360"/>
            <a:ext cx="1990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6160" y="4160880"/>
            <a:ext cx="1324080" cy="71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92480" y="3789360"/>
            <a:ext cx="0" cy="371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84360" y="3565440"/>
            <a:ext cx="6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57480" y="2193840"/>
            <a:ext cx="13017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498760" y="4251240"/>
            <a:ext cx="1319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2560680"/>
            <a:ext cx="1295280" cy="86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57520" y="3408480"/>
            <a:ext cx="0" cy="371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36960" y="2575080"/>
            <a:ext cx="1114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5080" y="5075280"/>
            <a:ext cx="1338120" cy="86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0320" y="5562720"/>
            <a:ext cx="611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77800" y="5089680"/>
            <a:ext cx="116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057400"/>
            <a:ext cx="0" cy="4191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ies go to dnsproxy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dnsproxy may exchange DNS with the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ly at least two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may (should?) run caching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ion #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queries, NS is dns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wall intercepts DNS requests and gives them to dns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proxy forwards and adds NS to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9400" y="3789360"/>
            <a:ext cx="496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76200" y="3200400"/>
            <a:ext cx="1695600" cy="1447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396252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32080" y="3489480"/>
            <a:ext cx="1319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W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712960"/>
            <a:ext cx="1295280" cy="86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86120" y="3560760"/>
            <a:ext cx="0" cy="371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65560" y="2727360"/>
            <a:ext cx="1114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5080" y="5075280"/>
            <a:ext cx="1338120" cy="86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0320" y="5562720"/>
            <a:ext cx="611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77800" y="5089680"/>
            <a:ext cx="116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057400"/>
            <a:ext cx="0" cy="4191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ion #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queries at th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wall intercepts DNS requests and gives them to dns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proxy forwards and filters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 records are returned unmodified, unles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9400" y="3789360"/>
            <a:ext cx="496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76200" y="3200400"/>
            <a:ext cx="1695600" cy="1447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396252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32080" y="3489480"/>
            <a:ext cx="1319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W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2712960"/>
            <a:ext cx="1295280" cy="86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86120" y="3560760"/>
            <a:ext cx="0" cy="371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65560" y="2727360"/>
            <a:ext cx="1114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05080" y="5075280"/>
            <a:ext cx="1338120" cy="86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0320" y="5562720"/>
            <a:ext cx="611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77800" y="5089680"/>
            <a:ext cx="116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057400"/>
            <a:ext cx="0" cy="4191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proxy.co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2347920"/>
            <a:ext cx="8597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ide  135.104.1.11,135.104.2.10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side 192.20.225.9,192.20.225.4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and bind are subject to a variety of atta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-based authentication is used extensively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DNS roots during transition from our application gateway to IP-trans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50840" y="166680"/>
            <a:ext cx="8964720" cy="66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ide  any     bell-lab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side any     www.luc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ide  any     luc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ide  any     att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side any     www-db.research.at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side any     dubiago.research.at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ide  any     at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side any     worldnet.at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ide  any     at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ide  any     nc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ide  any     attgi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ide  any     135.in-addr.ar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ide  ptr     127.in-addr.ar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side any    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92280" y="2394000"/>
            <a:ext cx="71341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ter  outside block   * N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side block   * A 135.104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side block   * A 135.180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side block   * A 12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ing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formed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one query (wh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length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egal domai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`IN’ 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rrors are lo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 help: bottom fishing the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requests - configur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oying log-fill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:nfs.research.at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ly-configured PC, owner mi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or reject, with different logg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, not security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 big 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implemented at thi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ing replies - auto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-formed replies (r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P address of resp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to check, easy to sp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in response doesn’t match query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we don’t understand or ca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ing replies - automat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egal domai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per domain references: any resource records improper for the re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 problem:  inside/outsid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oying problem with inside v. outside fuz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ed at fairly high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ing replies - configur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resource records we don’t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 records from the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 A records for inside IP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fields in resourc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on’t use this, so code is crude at this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ed at a low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 CPU hog, but we don’t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earch algorithm would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ies go through in a couple of milli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ing eats up disk space unless admin problems are deal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 conc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ultipl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propagate dnsproxy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m should be served by multipl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ller DNS queries (i.e. dnsproxy bugs) can take all server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server handles the query in a real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ed fancy scheduling algorith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ed 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est queue gets the 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r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 server will absorb occasional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r will try again any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s to long response on some external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rief Overview of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system translates domain names to IP addresses.  A separate tree translates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database, starting at the root ser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servers keep a cache to reduce net traffic, which is a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s control their section of the domain name space, and of the reverse lookup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ed layer confuses DNS and network debug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ing is voluminous:  many stupid queries not normally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needed to configure inside and outside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ffy’s Law: most problems are administrative, not 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ning since last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ing is needed, but probably not in dns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,000 internal queries/hour (no cac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s - standard qu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3920" y="1947960"/>
            <a:ext cx="88264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 id=34942 rd q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: A IN www.npsd.k12.nj.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 from 192.20.225.9, len=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 id=34942 qr rd ra q:1 a:2 ns:2 ad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: A IN www.npsd.k12.nj.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 www.npsd.k12.nj.us. 44670 IN CNAME npsd129.npsd.k12.nj.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 npsd129.npsd.k12.nj.us. 44670 IN A 204.178.12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U npsd.k12.nj.us. 3600 IN NS ns.research.att.c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U npsd.k12.nj.us. 3600 IN NS gw1.att.c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 ns.research.att.com. 171166 IN A 192.20.225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tered Response, len=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 id=34942 qr rd ra q:1 a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: A IN www.npsd.k12.nj.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 www.npsd.k12.nj.us. 44670 IN CNAME npsd129.npsd.k12.nj.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 npsd129.npsd.k12.nj.us. 44670 IN A 204.178.12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nown rec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7760" y="2630520"/>
            <a:ext cx="896292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  AN swissnet.ai.mit.edu. 14400 IN WKS 18.23.0.16 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 ftp telnet finger 8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  AN swissnet.ai.mit.edu. 14400 IN WKS 18.23.0.16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 systa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  AN tigger.cs.colorado.edu. 1189 IN WKS 128.138.205.11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 domai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  AN tigger.cs.colorado.edu. 1189 IN WKS 128.138.205.11 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 smtp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  AN tigger.cs.colorado.edu. 1189 IN TXT "location: eccr1-2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  AN cmf.nrl.navy.mil. 63909 IN RP root.cmf.nrl.navy.m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min.cmf.nrl.navy.m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  AN fs.CS.Princeton.EDU. 21600 IN UINFO cs-info@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3560" y="1800360"/>
            <a:ext cx="768348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s queries 4955  responses 4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le 0  pending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s r1 135.104.1.11      3780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s r1 135.104.70.9      1111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s r1 135.104.1.12        16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s r2 192.20.225.9        49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s r2 192.20.225.4         0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8640" y="2075040"/>
            <a:ext cx="826308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expand failed, from 135.104.32.141:25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 id=33026 rd q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NS record mal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: illegal domain name, from 192.20.42.80: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 id=18536 rd q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: A IN N:pcmorph.research.att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: A IN prep_network.ucc.on.ca.research.att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: A IN linus.att.com[clarinet].cs.bell-labs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bad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79440" y="1847880"/>
            <a:ext cx="8110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: illegal domain name, from 135.104.32.141:48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 id=2871 rd q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: A IN A.T. &amp; T. RE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: illegal domain name, from 135.104.32.141:48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 id=2872 rd q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: A IN A.T. &amp; T. RESEA.research.att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 from 135.104.2.10, len=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 FORMERR id=15985 qr rd ra q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NS record truncated: len=12 real=47 computed=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 id=19569 rd q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: A IN VIDEOLAB       .research.att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 SERVFAIL id=35901 qr rd ra q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IN design.paume.itb.ac.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ccess to realm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transf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search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and allow new and rare DNS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requests to block annoying hosts’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&amp;T and Lucen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haps licensing agreements a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DNS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opular programs rely on this system for security:  rsh, rlogin, NF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version is usually Bind, now supported by Paul Vixie.  4.9.4 is latest, and worth getting (ftp.vix.co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s have older ver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is big and ugly and run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techn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UDP for DNS queries and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chunks are moved in TCP `zone transfers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updating secondary name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is possible for normal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used, in m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longer than 512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s around `resource records’ (R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676520"/>
            <a:ext cx="7315200" cy="14479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00320" y="1736640"/>
            <a:ext cx="106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124080"/>
            <a:ext cx="7315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79440" y="227016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y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676520"/>
            <a:ext cx="7315200" cy="48769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00320" y="1736640"/>
            <a:ext cx="106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124080"/>
            <a:ext cx="7315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9625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0292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79440" y="242244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355760" y="3336840"/>
            <a:ext cx="113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55760" y="4098960"/>
            <a:ext cx="5694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ty rec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server information: who said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355760" y="5470560"/>
            <a:ext cx="56451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(glue) rec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you were going to ask for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w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e contamination from bad glu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s to questions not yet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rse name lookups are often less diligently adminis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two roo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 records creep in, confusing our name ser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tte E. P. A. Cheswick</dc:creator>
  <dc:description/>
  <dc:language>en-US</dc:language>
  <cp:lastModifiedBy>Lorette E. P. A. Cheswick</cp:lastModifiedBy>
  <cp:revision>0</cp:revision>
  <dc:subject/>
  <dc:title>DNSPROXY - An Application Gateway for the Domain Name Service</dc:title>
</cp:coreProperties>
</file>