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et, Cput, Stage, and Unstag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 File Transport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l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 L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0" y="5181480"/>
            <a:ext cx="207648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key cryp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much literature on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 is too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distribution considered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distribution is easy for sm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ly-availabl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atent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ly simpl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 protocols a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emely hard to desig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 wa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release will allow public comment (and atta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a start, and easy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re not cryptogra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ld not find secret key protocol that does what we wa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work is mostly public key, or uses a third authenticator, lik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anted a simple client-serv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version (DES) and now (HMAC/SH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Cryp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AC/SHA - Bellare, Canetti, Krawcz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est-only.  No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, ex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ules for designing these protocols, just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hard to change if a problem is dis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se Secret 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ts bits from operating system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I version checked with latest randomness test (thanks to Eric Gros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by hand, or (gasp) cut and p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ld be typed by hand over a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d in a file:  as safe as th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tools built on a safe transport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_client_crypto(fd, k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_server_crypto(f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d(fd, buf, le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write(fd, buf, le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error(msg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he paper fo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m more interested in the applications of the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 could be plugge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or triple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design suggestions from DECW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resides in a hostil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 no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ot, and drop privile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 a minimal amount of code in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riginally) Secret key and correct IP address needed to use th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et/c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s or reads a file to a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wild card facility:  get a file with a list of files if you ne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put service_name lfn rf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/Un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rror a master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-callable: no need for a privileged program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ge servicename my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ld be basis for joint-venture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tage has a stupid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services were being used for important provisioning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services are very un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us Ranum and I were sick of waiting for Official Cryp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tel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/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Ven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/unstage are the primi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locking of some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for coauthors in different compa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ood New Too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Lots of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hammer, lots of 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and FTP provis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 alias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binaries for secure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logs from external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other experimental external TCP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ann  and B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TCP service (e.g. Z39.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program, called by ine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in chroot under an unprivileged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bugs have limited effect on our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ial of service - disk usage,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needs better primitives for confining execut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ann’s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ing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libraries in ch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 bugs annoy the system administ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parate computer would be simp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base service on IP address: use a servic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services from portable compu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services available from one client to on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he error processing and messages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short `safe’ messages made it a pain to set up thes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couldn’t tell which end had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h - big and a little scary, but not a bad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not available when we wrote these rou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ized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infrastructure than we wa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fine if you are already running it, or nee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zillions of programs from Finland, especially Eric Young’s stuff, which look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the routines as they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protocol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al digest more sec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e both session keys from both challe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rob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most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commercial release: read the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, of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 on SGI and BSDI, both en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only, no privac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’s OK for most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transport over insecure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st/rsh, FTP, rcp, lots of mirror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ized stuff required more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h was brand new, and a little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tool with crypto made installation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ized tools and ssh are f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Unix-style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rusting server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, fast, and as comprehensible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trust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n’t running  unsaf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haps console-only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trust the server code, some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trust the client, but only for the specific fil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trust the cryp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key is as safe as the rest of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doesn’t trust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server software might have securit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Guys control the connecting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Guys can probe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791320" y="1981080"/>
            <a:ext cx="1828800" cy="1219320"/>
          </a:xfrm>
          <a:prstGeom prst="rect">
            <a:avLst/>
          </a:prstGeom>
          <a:noFill/>
          <a:ln w="38160">
            <a:solidFill>
              <a:srgbClr val="cccc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994360" y="2103480"/>
            <a:ext cx="1425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li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1981080"/>
            <a:ext cx="1828800" cy="1219320"/>
          </a:xfrm>
          <a:prstGeom prst="rect">
            <a:avLst/>
          </a:prstGeom>
          <a:noFill/>
          <a:ln w="38160">
            <a:solidFill>
              <a:srgbClr val="3399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27240" y="2103480"/>
            <a:ext cx="1538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r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2590920"/>
            <a:ext cx="1067040" cy="0"/>
          </a:xfrm>
          <a:prstGeom prst="line">
            <a:avLst/>
          </a:prstGeom>
          <a:ln w="38160">
            <a:solidFill>
              <a:srgbClr val="cc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custDash>
              <a:ds d="397183" sp="397183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322800" y="4694400"/>
            <a:ext cx="2814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ewall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590920"/>
            <a:ext cx="914400" cy="0"/>
          </a:xfrm>
          <a:prstGeom prst="line">
            <a:avLst/>
          </a:prstGeom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791320" y="1752480"/>
            <a:ext cx="2133720" cy="1752480"/>
          </a:xfrm>
          <a:prstGeom prst="rect">
            <a:avLst/>
          </a:prstGeom>
          <a:noFill/>
          <a:ln w="38160">
            <a:solidFill>
              <a:srgbClr val="cccc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70680" y="1874880"/>
            <a:ext cx="1425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600200"/>
            <a:ext cx="2438280" cy="1981080"/>
          </a:xfrm>
          <a:prstGeom prst="rect">
            <a:avLst/>
          </a:prstGeom>
          <a:noFill/>
          <a:ln w="38160">
            <a:solidFill>
              <a:srgbClr val="3399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03360" y="1722600"/>
            <a:ext cx="11095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2590920"/>
            <a:ext cx="1067040" cy="0"/>
          </a:xfrm>
          <a:prstGeom prst="line">
            <a:avLst/>
          </a:prstGeom>
          <a:ln w="38160">
            <a:solidFill>
              <a:srgbClr val="cc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06668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custDash>
              <a:ds d="397183" sp="397183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322800" y="4694400"/>
            <a:ext cx="2814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ewall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590920"/>
            <a:ext cx="914400" cy="0"/>
          </a:xfrm>
          <a:prstGeom prst="line">
            <a:avLst/>
          </a:prstGeom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2209680"/>
            <a:ext cx="838080" cy="685800"/>
          </a:xfrm>
          <a:prstGeom prst="rect">
            <a:avLst/>
          </a:prstGeom>
          <a:noFill/>
          <a:ln w="38160">
            <a:solidFill>
              <a:srgbClr val="cccc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2438280"/>
            <a:ext cx="2057400" cy="0"/>
          </a:xfrm>
          <a:prstGeom prst="line">
            <a:avLst/>
          </a:prstGeom>
          <a:ln w="38160">
            <a:solidFill>
              <a:srgbClr val="cc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2743200"/>
            <a:ext cx="2057400" cy="0"/>
          </a:xfrm>
          <a:prstGeom prst="line">
            <a:avLst/>
          </a:prstGeom>
          <a:ln w="38160">
            <a:solidFill>
              <a:srgbClr val="cc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63760" y="2865600"/>
            <a:ext cx="884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883120" y="2789280"/>
            <a:ext cx="884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791320" y="1752480"/>
            <a:ext cx="2133720" cy="1752480"/>
          </a:xfrm>
          <a:prstGeom prst="rect">
            <a:avLst/>
          </a:prstGeom>
          <a:noFill/>
          <a:ln w="38160">
            <a:solidFill>
              <a:srgbClr val="3399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70680" y="1874880"/>
            <a:ext cx="1425600" cy="579600"/>
          </a:xfrm>
          <a:prstGeom prst="rect">
            <a:avLst/>
          </a:prstGeom>
          <a:noFill/>
          <a:ln w="12600">
            <a:solidFill>
              <a:srgbClr val="339933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1600200"/>
            <a:ext cx="2438280" cy="1981080"/>
          </a:xfrm>
          <a:prstGeom prst="rect">
            <a:avLst/>
          </a:prstGeom>
          <a:noFill/>
          <a:ln w="38160">
            <a:solidFill>
              <a:srgbClr val="3399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03360" y="1722600"/>
            <a:ext cx="11095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2590920"/>
            <a:ext cx="1067040" cy="0"/>
          </a:xfrm>
          <a:prstGeom prst="line">
            <a:avLst/>
          </a:prstGeom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590920"/>
            <a:ext cx="914400" cy="0"/>
          </a:xfrm>
          <a:prstGeom prst="line">
            <a:avLst/>
          </a:prstGeom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2209680"/>
            <a:ext cx="838080" cy="685800"/>
          </a:xfrm>
          <a:prstGeom prst="rect">
            <a:avLst/>
          </a:prstGeom>
          <a:noFill/>
          <a:ln w="38160">
            <a:solidFill>
              <a:srgbClr val="3399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438280"/>
            <a:ext cx="2057400" cy="0"/>
          </a:xfrm>
          <a:prstGeom prst="line">
            <a:avLst/>
          </a:prstGeom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2743200"/>
            <a:ext cx="2057400" cy="0"/>
          </a:xfrm>
          <a:prstGeom prst="line">
            <a:avLst/>
          </a:prstGeom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63760" y="2865600"/>
            <a:ext cx="884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870520" y="2776680"/>
            <a:ext cx="909720" cy="604800"/>
          </a:xfrm>
          <a:prstGeom prst="rect">
            <a:avLst/>
          </a:prstGeom>
          <a:noFill/>
          <a:ln w="12600">
            <a:solidFill>
              <a:srgbClr val="339933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Cheswick</dc:creator>
  <dc:description/>
  <dc:language>en-US</dc:language>
  <cp:lastModifiedBy>Bill Cheswick</cp:lastModifiedBy>
  <cp:revision>0</cp:revision>
  <dc:subject/>
  <dc:title>Denial of Service</dc:title>
</cp:coreProperties>
</file>