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0360" y="6485040"/>
            <a:ext cx="2523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oratories (Lucent Tech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62F26B8-939B-499F-BFD1-0EAF7A5BF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Make Me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or in a b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2133720"/>
            <a:ext cx="3886200" cy="3733920"/>
            <a:chOff x="2666880" y="2133720"/>
            <a:chExt cx="3886200" cy="3733920"/>
          </a:xfrm>
        </p:grpSpPr>
        <p:sp>
          <p:nvSpPr>
            <p:cNvPr id="71" name=""/>
            <p:cNvSpPr/>
            <p:nvPr/>
          </p:nvSpPr>
          <p:spPr>
            <a:xfrm>
              <a:off x="3581280" y="297180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213372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827520" y="2422440"/>
              <a:ext cx="1490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 + 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032360" y="37940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Good is the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38080" y="2133720"/>
            <a:ext cx="3886200" cy="3733920"/>
            <a:chOff x="838080" y="2133720"/>
            <a:chExt cx="3886200" cy="3733920"/>
          </a:xfrm>
        </p:grpSpPr>
        <p:sp>
          <p:nvSpPr>
            <p:cNvPr id="77" name=""/>
            <p:cNvSpPr/>
            <p:nvPr/>
          </p:nvSpPr>
          <p:spPr>
            <a:xfrm>
              <a:off x="1752480" y="297180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8080" y="213372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98720" y="2422440"/>
              <a:ext cx="1490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203560" y="37940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 txBox="1"/>
          <p:nvPr/>
        </p:nvSpPr>
        <p:spPr>
          <a:xfrm>
            <a:off x="5241960" y="2117880"/>
            <a:ext cx="1986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brow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666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Environmental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rusted dirty machine, with firewall enforcing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System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ot is a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ontrol, but no networ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libraries make it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noid OS is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/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to trust th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y have the right 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ir hi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fine-grain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o detect and report aberran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 the sourc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the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ir track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n operating system - needs clean interface, and carefu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script, MIME, Java, Java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use can be ab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time (telecli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, mouse, keyboard access (X11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web users can’t be expected to understand the security consequences of their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ts make execution of alien programs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aliens ou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pot - exponential growth into a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prover is complex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et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goals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laims of securi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: Princeton, loverso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nd Javascrip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let Eric Allm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 the H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Programs Come From, Dad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r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ech coasters in the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p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?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ut my trust in thes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unning as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ct on my be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access to m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refer source code,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et and `decode’ critical software, when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- colleag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targe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too easy:  the joke isn’t worth much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es about strcmp(user, “che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-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trust vendors if I don’t ha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to (mostly)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e browsers with no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and Mac software with no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- FTP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ally make me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oftware ca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oneers get the a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ad guys patient enough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me person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, but it’s a long sh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to let software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people won’t be using it any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Trust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its prov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 its execu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g it, and run it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Program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56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989520" y="3413160"/>
              <a:ext cx="1012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879720" y="204156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3146400" y="5699160"/>
            <a:ext cx="269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odel is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in an Environme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66880" y="2133720"/>
            <a:ext cx="3886200" cy="3733920"/>
            <a:chOff x="2666880" y="2133720"/>
            <a:chExt cx="3886200" cy="3733920"/>
          </a:xfrm>
        </p:grpSpPr>
        <p:sp>
          <p:nvSpPr>
            <p:cNvPr id="65" name=""/>
            <p:cNvSpPr/>
            <p:nvPr/>
          </p:nvSpPr>
          <p:spPr>
            <a:xfrm>
              <a:off x="3581280" y="297180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213372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4065480" y="2422440"/>
              <a:ext cx="1012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032360" y="37940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Alan Berenbaum</cp:lastModifiedBy>
  <cp:revision>0</cp:revision>
  <dc:subject>Applet Control</dc:subject>
  <dc:title>Programs Make Me Nervous</dc:title>
</cp:coreProperties>
</file>